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22A-A526-449D-A547-2B7669F9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2BF-A40C-4D26-ABD2-CBA68946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F67-C3C2-476A-93EB-0BF6FBEB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EF4-72D3-4C96-BA53-DA8F7D6C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2500-5E6B-475A-8138-3E02B869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0F74-D11D-41DA-A1AD-30D4D619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50B5-F43C-45FE-9EC0-E50FB03F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60FD-05E5-40B4-800A-FED14D35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3420-7F65-4A7B-BFEE-82B74EA9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2988-AC46-41BE-A720-046454C7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2B64-3566-47F3-8F3A-A2E5CB5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DCE-3DA6-4CC4-BA3B-BD528BA7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0F45-B8DB-4461-ACCB-B619520E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8668-1557-4952-AB5B-63FFA618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BA2A-0A46-4129-BDB5-94CD1776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B109-7FF0-4E73-B448-1953982E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2677-B748-4B0D-93A2-137460D6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2F0-A255-4440-9B18-5908A521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BD1-793D-43C5-8F4F-C6FE3D73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F46-8976-4F25-BC30-01BAA5FE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080-B975-43BA-AF5C-3FDD1144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01C-2150-4622-9459-667E85AA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6BD-044C-47B0-BD08-FA0FF66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4E0-FA57-4C93-A22C-DD95D27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F4E9-100E-442F-A662-AD17218E8BB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9317-8A52-4793-93C7-B147F06D034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poisson.xls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poisson.xls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Poisson.xl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vion.xls" TargetMode="External"/><Relationship Id="rId2" Type="http://schemas.openxmlformats.org/officeDocument/2006/relationships/hyperlink" Target="file:///poisson.xls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oisson.xls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ésentation 3D d’un système 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mouvement dan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ésenté par 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inthe Desrocher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ine Trembla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9898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de projection perpendiculaire à la visée de la caméra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Vecteur CP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cteurs unitair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048200" y="2019240"/>
                <a:ext cx="1839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94" name=""/>
          <p:cNvGrpSpPr/>
          <p:nvPr/>
        </p:nvGrpSpPr>
        <p:grpSpPr>
          <a:xfrm>
            <a:off x="1371600" y="3429000"/>
            <a:ext cx="3733560" cy="2438280"/>
            <a:chOff x="1371600" y="3429000"/>
            <a:chExt cx="3733560" cy="2438280"/>
          </a:xfrm>
        </p:grpSpPr>
        <p:grpSp>
          <p:nvGrpSpPr>
            <p:cNvPr id="395" name=""/>
            <p:cNvGrpSpPr/>
            <p:nvPr/>
          </p:nvGrpSpPr>
          <p:grpSpPr>
            <a:xfrm>
              <a:off x="1493280" y="3429000"/>
              <a:ext cx="3611880" cy="1943640"/>
              <a:chOff x="1493280" y="3429000"/>
              <a:chExt cx="3611880" cy="194364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493280" y="3634920"/>
                <a:ext cx="3611880" cy="1737720"/>
                <a:chOff x="1493280" y="3634920"/>
                <a:chExt cx="3611880" cy="173772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1493280" y="4020480"/>
                  <a:ext cx="2257200" cy="1351800"/>
                  <a:chOff x="1493280" y="4020480"/>
                  <a:chExt cx="2257200" cy="13518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1493280" y="4406760"/>
                    <a:ext cx="1354320" cy="9655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944720" y="4986000"/>
                    <a:ext cx="1805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V="1">
                    <a:off x="1944720" y="4020480"/>
                    <a:ext cx="0" cy="965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V="1">
                    <a:off x="1944720" y="4020480"/>
                    <a:ext cx="1128600" cy="965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3073680" y="3827880"/>
                  <a:ext cx="1354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8f8f8"/>
                      </a:solidFill>
                      <a:latin typeface="Times New Roman"/>
                    </a:rPr>
                    <a:t>D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719000" y="3634920"/>
                  <a:ext cx="13546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8f8f8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750840" y="4793400"/>
                  <a:ext cx="135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8f8f8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847960" y="3429000"/>
                <a:ext cx="1128600" cy="386280"/>
                <a:chOff x="2847960" y="3429000"/>
                <a:chExt cx="1128600" cy="3862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073680" y="3621960"/>
                  <a:ext cx="45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847960" y="3815280"/>
                  <a:ext cx="90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2847960" y="3621960"/>
                  <a:ext cx="22572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3750840" y="3621960"/>
                  <a:ext cx="22572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V="1">
                  <a:off x="3524760" y="3429000"/>
                  <a:ext cx="22572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3524760" y="3621960"/>
                  <a:ext cx="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3750840" y="3429000"/>
                  <a:ext cx="22572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>
                  <a:off x="3524400" y="3621960"/>
                  <a:ext cx="225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3750480" y="3429000"/>
                  <a:ext cx="225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750840" y="3621960"/>
                  <a:ext cx="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976560" y="3429000"/>
                  <a:ext cx="0" cy="19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1371600" y="5416560"/>
              <a:ext cx="142956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camér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572000" y="3733920"/>
            <a:ext cx="3733920" cy="160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276720" y="1052640"/>
                <a:ext cx="647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G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s pour déterminer la norme d’un vecteur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371600" y="2209680"/>
            <a:ext cx="2214360" cy="2128320"/>
            <a:chOff x="1371600" y="2209680"/>
            <a:chExt cx="2214360" cy="2128320"/>
          </a:xfrm>
        </p:grpSpPr>
        <p:sp>
          <p:nvSpPr>
            <p:cNvPr id="422" name=""/>
            <p:cNvSpPr/>
            <p:nvPr/>
          </p:nvSpPr>
          <p:spPr>
            <a:xfrm>
              <a:off x="1371600" y="2209680"/>
              <a:ext cx="2214360" cy="212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1702440" y="2295360"/>
              <a:ext cx="1564200" cy="2004840"/>
              <a:chOff x="1702440" y="2295360"/>
              <a:chExt cx="1564200" cy="2004840"/>
            </a:xfrm>
          </p:grpSpPr>
          <p:sp>
            <p:nvSpPr>
              <p:cNvPr id="424" name=""/>
              <p:cNvSpPr/>
              <p:nvPr/>
            </p:nvSpPr>
            <p:spPr>
              <a:xfrm>
                <a:off x="1833840" y="2840760"/>
                <a:ext cx="1041840" cy="1001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24440" y="2590200"/>
                <a:ext cx="1041840" cy="87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1833840" y="2590200"/>
                <a:ext cx="390600" cy="25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1833840" y="3466800"/>
                <a:ext cx="39060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2876040" y="3466800"/>
                <a:ext cx="39060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2876040" y="2590200"/>
                <a:ext cx="390600" cy="25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1833840" y="3842640"/>
                <a:ext cx="104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1833840" y="3466800"/>
                <a:ext cx="39060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 flipV="1">
                <a:off x="2224080" y="3466800"/>
                <a:ext cx="651240" cy="37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2224440" y="2590200"/>
                <a:ext cx="720" cy="87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flipV="1">
                <a:off x="2224080" y="2589840"/>
                <a:ext cx="651240" cy="1252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63080" y="3843360"/>
                <a:ext cx="1846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02440" y="3341520"/>
                <a:ext cx="1846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63080" y="2844000"/>
                <a:ext cx="184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833840" y="2295360"/>
                <a:ext cx="1172160" cy="3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0000ff"/>
                    </a:solidFill>
                    <a:latin typeface="Times New Roman"/>
                  </a:rPr>
                  <a:t>(x, y, z)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9037440" cy="14353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ication de la norme des vecteurs H, D, 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74800" y="1600200"/>
                <a:ext cx="6211800" cy="27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e>
                        </m:acc>
                        <m:r>
                          <m:t xml:space="preserve">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r dfinition de produit scalaire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ojectio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orthogonale reprsentant </m:t>
                            </m:r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en ordonne</m:t>
                            </m:r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P</m:t>
                                    </m:r>
                                  </m:e>
                                </m:acc>
                              </m:e>
                            </m: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rojection</m:t>
                        </m:r>
                        <m:r>
                          <m:rPr>
                            <m:lit/>
                            <m:nor/>
                          </m:rPr>
                          <m:t xml:space="preserve"> orthogonale reprsentant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en ordonn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1600200" y="4422240"/>
            <a:ext cx="4348080" cy="2003400"/>
            <a:chOff x="1600200" y="4422240"/>
            <a:chExt cx="4348080" cy="2003400"/>
          </a:xfrm>
        </p:grpSpPr>
        <p:sp>
          <p:nvSpPr>
            <p:cNvPr id="444" name=""/>
            <p:cNvSpPr/>
            <p:nvPr/>
          </p:nvSpPr>
          <p:spPr>
            <a:xfrm flipV="1">
              <a:off x="2940840" y="4422240"/>
              <a:ext cx="0" cy="144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90360" y="5689080"/>
              <a:ext cx="334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1890360" y="4910760"/>
              <a:ext cx="2925720" cy="77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26160" y="4920840"/>
              <a:ext cx="0" cy="7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1880640" y="5201280"/>
              <a:ext cx="0" cy="47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90360" y="5678640"/>
              <a:ext cx="428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80640" y="6145560"/>
              <a:ext cx="1049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80640" y="6114600"/>
              <a:ext cx="72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940840" y="6104160"/>
              <a:ext cx="36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96720" y="6135120"/>
              <a:ext cx="794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00200" y="52322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16280" y="5659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86960" y="5626800"/>
              <a:ext cx="794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83960" y="4692600"/>
              <a:ext cx="795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53040" y="5502240"/>
              <a:ext cx="795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79640" y="5128560"/>
              <a:ext cx="794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P’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1808280" y="4920840"/>
              <a:ext cx="300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880640" y="4817160"/>
              <a:ext cx="9360" cy="8510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4713480" y="55746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13840" y="5564520"/>
              <a:ext cx="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62360" y="4920840"/>
              <a:ext cx="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880640" y="5004000"/>
              <a:ext cx="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1080" y="5533200"/>
              <a:ext cx="50040" cy="155520"/>
            </a:xfrm>
            <a:custGeom>
              <a:avLst/>
              <a:gdLst/>
              <a:ahLst/>
              <a:rect l="l" t="t" r="r" b="b"/>
              <a:pathLst>
                <a:path w="75" h="225">
                  <a:moveTo>
                    <a:pt x="0" y="0"/>
                  </a:moveTo>
                  <a:cubicBezTo>
                    <a:pt x="70" y="70"/>
                    <a:pt x="75" y="126"/>
                    <a:pt x="75" y="2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80640" y="5546520"/>
              <a:ext cx="127440" cy="100800"/>
            </a:xfrm>
            <a:custGeom>
              <a:avLst/>
              <a:gdLst/>
              <a:ahLst/>
              <a:rect l="l" t="t" r="r" b="b"/>
              <a:pathLst>
                <a:path w="189" h="146">
                  <a:moveTo>
                    <a:pt x="0" y="11"/>
                  </a:moveTo>
                  <a:cubicBezTo>
                    <a:pt x="49" y="16"/>
                    <a:pt x="153" y="0"/>
                    <a:pt x="180" y="71"/>
                  </a:cubicBezTo>
                  <a:cubicBezTo>
                    <a:pt x="189" y="94"/>
                    <a:pt x="180" y="121"/>
                    <a:pt x="180" y="1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66960" y="5324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2438280" y="5486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979640" y="5445000"/>
                <a:ext cx="1238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1789200" y="530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92360" y="5300640"/>
                <a:ext cx="152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’équivalent du produit scalaire dans Excel 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Manipulations dans Excel pour calculer (a,b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racé du graphiqu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erspective de visionnement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Position de la camér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fr-CA" sz="2400" spc="-1" strike="noStrike" baseline="-25000">
                <a:solidFill>
                  <a:srgbClr val="f8f8f8"/>
                </a:solidFill>
                <a:latin typeface="Arial"/>
              </a:rPr>
              <a:t>(x, y, z)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 = G</a:t>
            </a:r>
            <a:r>
              <a:rPr b="0" lang="fr-CA" sz="2400" spc="-1" strike="noStrike" baseline="-25000">
                <a:solidFill>
                  <a:srgbClr val="f8f8f8"/>
                </a:solidFill>
                <a:latin typeface="Arial"/>
              </a:rPr>
              <a:t>(x, y, z)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 + K * (cos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, sin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cos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, sin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4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Raisonnement à la base </a:t>
            </a:r>
            <a:r>
              <a:rPr b="0" lang="fr-FR" sz="3200" spc="-1" strike="noStrike">
                <a:solidFill>
                  <a:srgbClr val="f8f8f8"/>
                </a:solidFill>
                <a:latin typeface="Monotype Sorts"/>
                <a:ea typeface="Monotype Sorts"/>
              </a:rPr>
              <a:t></a:t>
            </a: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rayon</a:t>
            </a:r>
            <a:r>
              <a:rPr b="0" lang="fr-FR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4952880" y="4038480"/>
            <a:ext cx="2286000" cy="2057400"/>
            <a:chOff x="4952880" y="4038480"/>
            <a:chExt cx="2286000" cy="2057400"/>
          </a:xfrm>
        </p:grpSpPr>
        <p:sp>
          <p:nvSpPr>
            <p:cNvPr id="478" name=""/>
            <p:cNvSpPr/>
            <p:nvPr/>
          </p:nvSpPr>
          <p:spPr>
            <a:xfrm>
              <a:off x="4952880" y="4038480"/>
              <a:ext cx="228600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5067000" y="4152600"/>
              <a:ext cx="1993680" cy="1828800"/>
              <a:chOff x="5067000" y="4152600"/>
              <a:chExt cx="1993680" cy="182880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5067000" y="4152600"/>
                <a:ext cx="1993680" cy="1828800"/>
                <a:chOff x="5067000" y="4152600"/>
                <a:chExt cx="1993680" cy="18288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5981400" y="506700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2" name=""/>
                <p:cNvGrpSpPr/>
                <p:nvPr/>
              </p:nvGrpSpPr>
              <p:grpSpPr>
                <a:xfrm>
                  <a:off x="5067000" y="4152600"/>
                  <a:ext cx="1993680" cy="1828800"/>
                  <a:chOff x="5067000" y="4152600"/>
                  <a:chExt cx="1993680" cy="182880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5866920" y="4952520"/>
                    <a:ext cx="34272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067000" y="4152600"/>
                    <a:ext cx="1993680" cy="1828800"/>
                    <a:chOff x="5067000" y="4152600"/>
                    <a:chExt cx="1993680" cy="1828800"/>
                  </a:xfrm>
                </p:grpSpPr>
                <p:grpSp>
                  <p:nvGrpSpPr>
                    <p:cNvPr id="485" name=""/>
                    <p:cNvGrpSpPr/>
                    <p:nvPr/>
                  </p:nvGrpSpPr>
                  <p:grpSpPr>
                    <a:xfrm>
                      <a:off x="5067000" y="4152600"/>
                      <a:ext cx="1993680" cy="1828800"/>
                      <a:chOff x="5067000" y="4152600"/>
                      <a:chExt cx="1993680" cy="1828800"/>
                    </a:xfrm>
                  </p:grpSpPr>
                  <p:grpSp>
                    <p:nvGrpSpPr>
                      <p:cNvPr id="486" name=""/>
                      <p:cNvGrpSpPr/>
                      <p:nvPr/>
                    </p:nvGrpSpPr>
                    <p:grpSpPr>
                      <a:xfrm>
                        <a:off x="5067000" y="4152600"/>
                        <a:ext cx="1993680" cy="1828800"/>
                        <a:chOff x="5067000" y="4152600"/>
                        <a:chExt cx="1993680" cy="1828800"/>
                      </a:xfrm>
                    </p:grpSpPr>
                    <p:grpSp>
                      <p:nvGrpSpPr>
                        <p:cNvPr id="487" name=""/>
                        <p:cNvGrpSpPr/>
                        <p:nvPr/>
                      </p:nvGrpSpPr>
                      <p:grpSpPr>
                        <a:xfrm>
                          <a:off x="6666840" y="4979520"/>
                          <a:ext cx="393840" cy="131040"/>
                          <a:chOff x="6666840" y="4979520"/>
                          <a:chExt cx="393840" cy="131040"/>
                        </a:xfrm>
                      </p:grpSpPr>
                      <p:sp>
                        <p:nvSpPr>
                          <p:cNvPr id="488" name=""/>
                          <p:cNvSpPr/>
                          <p:nvPr/>
                        </p:nvSpPr>
                        <p:spPr>
                          <a:xfrm>
                            <a:off x="6798240" y="4979520"/>
                            <a:ext cx="262440" cy="1310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9" name=""/>
                          <p:cNvSpPr/>
                          <p:nvPr/>
                        </p:nvSpPr>
                        <p:spPr>
                          <a:xfrm flipH="1">
                            <a:off x="6666840" y="4979520"/>
                            <a:ext cx="39348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sm" type="arrow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0" name=""/>
                          <p:cNvSpPr/>
                          <p:nvPr/>
                        </p:nvSpPr>
                        <p:spPr>
                          <a:xfrm flipH="1">
                            <a:off x="6666840" y="5110560"/>
                            <a:ext cx="39348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sm" type="arrow" w="sm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1" name=""/>
                        <p:cNvGrpSpPr/>
                        <p:nvPr/>
                      </p:nvGrpSpPr>
                      <p:grpSpPr>
                        <a:xfrm>
                          <a:off x="5802840" y="5019840"/>
                          <a:ext cx="393480" cy="131400"/>
                          <a:chOff x="5802840" y="5019840"/>
                          <a:chExt cx="393480" cy="131400"/>
                        </a:xfrm>
                      </p:grpSpPr>
                      <p:sp>
                        <p:nvSpPr>
                          <p:cNvPr id="492" name=""/>
                          <p:cNvSpPr/>
                          <p:nvPr/>
                        </p:nvSpPr>
                        <p:spPr>
                          <a:xfrm>
                            <a:off x="5802840" y="5019840"/>
                            <a:ext cx="393480" cy="131400"/>
                          </a:xfrm>
                          <a:prstGeom prst="rect">
                            <a:avLst/>
                          </a:prstGeom>
                          <a:solidFill>
                            <a:srgbClr val="c0c0c0">
                              <a:alpha val="50000"/>
                            </a:srgbClr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3" name=""/>
                          <p:cNvSpPr/>
                          <p:nvPr/>
                        </p:nvSpPr>
                        <p:spPr>
                          <a:xfrm>
                            <a:off x="6065280" y="5019840"/>
                            <a:ext cx="131040" cy="131400"/>
                          </a:xfrm>
                          <a:prstGeom prst="rect">
                            <a:avLst/>
                          </a:prstGeom>
                          <a:solidFill>
                            <a:srgbClr val="c0c0c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94" name=""/>
                        <p:cNvSpPr/>
                        <p:nvPr/>
                      </p:nvSpPr>
                      <p:spPr>
                        <a:xfrm>
                          <a:off x="5409720" y="4495320"/>
                          <a:ext cx="1179720" cy="118044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>
                          <a:off x="5067000" y="4152600"/>
                          <a:ext cx="1829160" cy="182880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>
                          <a:off x="5638320" y="4723920"/>
                          <a:ext cx="685800" cy="685800"/>
                        </a:xfrm>
                        <a:prstGeom prst="ellipse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97" name=""/>
                      <p:cNvSpPr/>
                      <p:nvPr/>
                    </p:nvSpPr>
                    <p:spPr>
                      <a:xfrm>
                        <a:off x="5981400" y="5067000"/>
                        <a:ext cx="342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oval" w="med"/>
                        <a:tailEnd len="med" type="oval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5981400" y="5067000"/>
                      <a:ext cx="9144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oval" w="med"/>
                      <a:tail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99" name=""/>
              <p:cNvSpPr/>
              <p:nvPr/>
            </p:nvSpPr>
            <p:spPr>
              <a:xfrm>
                <a:off x="6324480" y="483840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1782720" y="4114800"/>
            <a:ext cx="2255760" cy="2798280"/>
            <a:chOff x="1782720" y="4114800"/>
            <a:chExt cx="2255760" cy="2798280"/>
          </a:xfrm>
        </p:grpSpPr>
        <p:sp>
          <p:nvSpPr>
            <p:cNvPr id="501" name=""/>
            <p:cNvSpPr/>
            <p:nvPr/>
          </p:nvSpPr>
          <p:spPr>
            <a:xfrm>
              <a:off x="1828800" y="4114800"/>
              <a:ext cx="2209680" cy="206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782720" y="4409280"/>
              <a:ext cx="2030040" cy="2503800"/>
              <a:chOff x="1782720" y="4409280"/>
              <a:chExt cx="2030040" cy="250380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1782720" y="4409280"/>
                <a:ext cx="2030040" cy="2503800"/>
                <a:chOff x="1782720" y="4409280"/>
                <a:chExt cx="2030040" cy="250380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712600" y="4998600"/>
                  <a:ext cx="441720" cy="4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1782720" y="4409280"/>
                  <a:ext cx="2030040" cy="2503800"/>
                  <a:chOff x="1782720" y="4409280"/>
                  <a:chExt cx="2030040" cy="250380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2629800" y="5085000"/>
                    <a:ext cx="507240" cy="169200"/>
                    <a:chOff x="2629800" y="5085000"/>
                    <a:chExt cx="507240" cy="1692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2629800" y="5085000"/>
                      <a:ext cx="507240" cy="169200"/>
                    </a:xfrm>
                    <a:prstGeom prst="rect">
                      <a:avLst/>
                    </a:prstGeom>
                    <a:solidFill>
                      <a:srgbClr val="c0c0c0">
                        <a:alpha val="50000"/>
                      </a:srgbClr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2967840" y="5085000"/>
                      <a:ext cx="168840" cy="1692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9" name=""/>
                  <p:cNvSpPr/>
                  <p:nvPr/>
                </p:nvSpPr>
                <p:spPr>
                  <a:xfrm>
                    <a:off x="2123280" y="4409280"/>
                    <a:ext cx="1520640" cy="1521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3305520" y="5085000"/>
                    <a:ext cx="507240" cy="169200"/>
                    <a:chOff x="3305520" y="5085000"/>
                    <a:chExt cx="507240" cy="16920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474720" y="5085000"/>
                      <a:ext cx="338040" cy="1692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>
                      <a:off x="3305520" y="5085000"/>
                      <a:ext cx="507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arrow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>
                      <a:off x="3305520" y="5254200"/>
                      <a:ext cx="507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arrow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4" name=""/>
                  <p:cNvSpPr/>
                  <p:nvPr/>
                </p:nvSpPr>
                <p:spPr>
                  <a:xfrm>
                    <a:off x="1782720" y="4556160"/>
                    <a:ext cx="2015640" cy="235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965" y="32"/>
                        </a:moveTo>
                        <a:arcTo wR="10800" hR="10800" stAng="-5665929" swAng="241177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965" y="32"/>
                        </a:moveTo>
                        <a:arcTo wR="10800" hR="10800" stAng="-5665929" swAng="2411777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dash"/>
                    <a:miter/>
                    <a:headEnd len="med" type="arrow" w="med"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flipV="1">
                    <a:off x="2266200" y="4709880"/>
                    <a:ext cx="597960" cy="433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124720" y="4565520"/>
                    <a:ext cx="504000" cy="445680"/>
                    <a:chOff x="2124720" y="4565520"/>
                    <a:chExt cx="504000" cy="44568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rot="13081800">
                      <a:off x="2140920" y="4651560"/>
                      <a:ext cx="338040" cy="16920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2125080" y="4699080"/>
                      <a:ext cx="399600" cy="312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arrow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2229120" y="4565520"/>
                      <a:ext cx="399600" cy="312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arrow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20" name=""/>
              <p:cNvSpPr/>
              <p:nvPr/>
            </p:nvSpPr>
            <p:spPr>
              <a:xfrm>
                <a:off x="2859840" y="5145480"/>
                <a:ext cx="73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otations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(position du point sur la sphère)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Rotation verticale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Rotation horizontal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(Altitude ou longitude)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(angle ou latitude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Éloignement et rapprocheme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91320" y="2590920"/>
            <a:ext cx="685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91520" y="3733920"/>
            <a:ext cx="34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éterminer les axes de la camér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es vecteurs unitaires D, V et H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D =  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CG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    H =  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D x </a:t>
            </a:r>
            <a:r>
              <a:rPr b="0" i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k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   V = H x D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||CG||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     ||D x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||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Il s’agit de vecteurs malgré l’absence de la flèch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N.B. - Pour rendre un vecteur unitaire, il suffit de l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 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diviser par sa norm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- Par définition, le vecteur résultant d’un produit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                  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vectoriel est perpendiculaire à ceux du calcul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représentation planaire (</a:t>
            </a:r>
            <a:r>
              <a:rPr b="0" i="1" lang="en-US" sz="2400" spc="-1" strike="noStrike">
                <a:solidFill>
                  <a:srgbClr val="f8f8f8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et </a:t>
            </a:r>
            <a:r>
              <a:rPr b="0" i="1" lang="en-US" sz="2400" spc="-1" strike="noStrike">
                <a:solidFill>
                  <a:srgbClr val="f8f8f8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0" y="2133720"/>
            <a:ext cx="2362320" cy="2057400"/>
            <a:chOff x="0" y="2133720"/>
            <a:chExt cx="2362320" cy="2057400"/>
          </a:xfrm>
        </p:grpSpPr>
        <p:grpSp>
          <p:nvGrpSpPr>
            <p:cNvPr id="526" name=""/>
            <p:cNvGrpSpPr/>
            <p:nvPr/>
          </p:nvGrpSpPr>
          <p:grpSpPr>
            <a:xfrm>
              <a:off x="304920" y="2133720"/>
              <a:ext cx="2057400" cy="2057400"/>
              <a:chOff x="304920" y="2133720"/>
              <a:chExt cx="2057400" cy="2057400"/>
            </a:xfrm>
          </p:grpSpPr>
          <p:sp>
            <p:nvSpPr>
              <p:cNvPr id="527" name=""/>
              <p:cNvSpPr/>
              <p:nvPr/>
            </p:nvSpPr>
            <p:spPr>
              <a:xfrm>
                <a:off x="304920" y="2133720"/>
                <a:ext cx="2057400" cy="2057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533160" y="2361960"/>
                <a:ext cx="1828800" cy="1609560"/>
                <a:chOff x="533160" y="2361960"/>
                <a:chExt cx="1828800" cy="160956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533160" y="2590560"/>
                  <a:ext cx="1828800" cy="1380960"/>
                  <a:chOff x="533160" y="2590560"/>
                  <a:chExt cx="1828800" cy="1380960"/>
                </a:xfrm>
              </p:grpSpPr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33160" y="2820600"/>
                    <a:ext cx="1828800" cy="1150920"/>
                    <a:chOff x="533160" y="2820600"/>
                    <a:chExt cx="1828800" cy="1150920"/>
                  </a:xfrm>
                </p:grpSpPr>
                <p:grpSp>
                  <p:nvGrpSpPr>
                    <p:cNvPr id="531" name=""/>
                    <p:cNvGrpSpPr/>
                    <p:nvPr/>
                  </p:nvGrpSpPr>
                  <p:grpSpPr>
                    <a:xfrm>
                      <a:off x="533160" y="2942640"/>
                      <a:ext cx="1828800" cy="1028880"/>
                      <a:chOff x="533160" y="2942640"/>
                      <a:chExt cx="1828800" cy="1028880"/>
                    </a:xfrm>
                  </p:grpSpPr>
                  <p:grpSp>
                    <p:nvGrpSpPr>
                      <p:cNvPr id="532" name=""/>
                      <p:cNvGrpSpPr/>
                      <p:nvPr/>
                    </p:nvGrpSpPr>
                    <p:grpSpPr>
                      <a:xfrm>
                        <a:off x="533160" y="3171240"/>
                        <a:ext cx="1143000" cy="800280"/>
                        <a:chOff x="533160" y="3171240"/>
                        <a:chExt cx="1143000" cy="800280"/>
                      </a:xfrm>
                    </p:grpSpPr>
                    <p:sp>
                      <p:nvSpPr>
                        <p:cNvPr id="533" name=""/>
                        <p:cNvSpPr/>
                        <p:nvPr/>
                      </p:nvSpPr>
                      <p:spPr>
                        <a:xfrm>
                          <a:off x="533160" y="3399840"/>
                          <a:ext cx="685800" cy="571680"/>
                        </a:xfrm>
                        <a:prstGeom prst="cube">
                          <a:avLst>
                            <a:gd name="adj" fmla="val 2500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" name=""/>
                        <p:cNvSpPr/>
                        <p:nvPr/>
                      </p:nvSpPr>
                      <p:spPr>
                        <a:xfrm>
                          <a:off x="761760" y="3742920"/>
                          <a:ext cx="9144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" name=""/>
                        <p:cNvSpPr/>
                        <p:nvPr/>
                      </p:nvSpPr>
                      <p:spPr>
                        <a:xfrm flipV="1">
                          <a:off x="761760" y="3171240"/>
                          <a:ext cx="0" cy="57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6" name=""/>
                        <p:cNvSpPr/>
                        <p:nvPr/>
                      </p:nvSpPr>
                      <p:spPr>
                        <a:xfrm flipV="1">
                          <a:off x="761760" y="3171240"/>
                          <a:ext cx="571320" cy="57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1333440" y="3056760"/>
                        <a:ext cx="685800" cy="343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D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647280" y="294264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V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1676160" y="3628440"/>
                        <a:ext cx="68580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H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0" name=""/>
                    <p:cNvGrpSpPr/>
                    <p:nvPr/>
                  </p:nvGrpSpPr>
                  <p:grpSpPr>
                    <a:xfrm>
                      <a:off x="1218960" y="2820600"/>
                      <a:ext cx="571320" cy="228960"/>
                      <a:chOff x="1218960" y="2820600"/>
                      <a:chExt cx="571320" cy="228960"/>
                    </a:xfrm>
                  </p:grpSpPr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1333080" y="2935080"/>
                        <a:ext cx="228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" name=""/>
                      <p:cNvSpPr/>
                      <p:nvPr/>
                    </p:nvSpPr>
                    <p:spPr>
                      <a:xfrm>
                        <a:off x="1218960" y="304956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 flipV="1">
                        <a:off x="1218960" y="2934720"/>
                        <a:ext cx="11412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 flipV="1">
                        <a:off x="1676160" y="2934720"/>
                        <a:ext cx="11412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 flipV="1">
                        <a:off x="1561680" y="2820600"/>
                        <a:ext cx="11412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 flipV="1">
                        <a:off x="1561680" y="2934720"/>
                        <a:ext cx="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V="1">
                        <a:off x="1676160" y="2820600"/>
                        <a:ext cx="11412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 flipH="1">
                        <a:off x="1561320" y="293508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flipH="1">
                        <a:off x="1675800" y="282096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>
                        <a:off x="1676160" y="2935080"/>
                        <a:ext cx="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>
                        <a:off x="1790280" y="2820960"/>
                        <a:ext cx="0" cy="114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52" name=""/>
                  <p:cNvSpPr/>
                  <p:nvPr/>
                </p:nvSpPr>
                <p:spPr>
                  <a:xfrm flipV="1">
                    <a:off x="1447560" y="2590560"/>
                    <a:ext cx="114120" cy="34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3" name=""/>
                <p:cNvSpPr/>
                <p:nvPr/>
              </p:nvSpPr>
              <p:spPr>
                <a:xfrm>
                  <a:off x="1447560" y="2361960"/>
                  <a:ext cx="4572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lvl="1" marL="457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CA" sz="10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10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4" name=""/>
            <p:cNvSpPr/>
            <p:nvPr/>
          </p:nvSpPr>
          <p:spPr>
            <a:xfrm>
              <a:off x="0" y="28195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38080" y="3124080"/>
              <a:ext cx="1067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19320" y="35053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23623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arres de défilement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Angle (latitude) : de 0 à 360 degrés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Altitude (longitude) : on voulait de -90 à 90 degré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     </a:t>
            </a:r>
            <a:r>
              <a:rPr b="0" i="1" lang="fr-FR" sz="2400" spc="-1" strike="noStrike">
                <a:solidFill>
                  <a:srgbClr val="f8f8f8"/>
                </a:solidFill>
                <a:latin typeface="Arial"/>
              </a:rPr>
              <a:t>petit problème avec la formule!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améra (x,y,z) = (cos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os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, sin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os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, sin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si 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= 90 ou -90, on a…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améra (x,y,z) = (cos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·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0, sin</a:t>
            </a:r>
            <a:r>
              <a:rPr b="0" lang="en-US" sz="20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·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0, sin(0)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fr-CA" sz="2000" spc="-1" strike="noStrike">
                <a:solidFill>
                  <a:srgbClr val="f8f8f8"/>
                </a:solidFill>
                <a:latin typeface="Arial"/>
              </a:rPr>
              <a:t>Caméra (x,y,z) = (0, 0, 1)  ou (0, 0, -1)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L’angle </a:t>
            </a:r>
            <a:r>
              <a:rPr b="0" lang="en-US" sz="2400" spc="-1" strike="noStrike">
                <a:solidFill>
                  <a:srgbClr val="f8f8f8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«n’a plus d’influence» sur l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ositionnement de la caméra; il n’y aur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lus de rotation dans le plan xy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9250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Distance : de 78 à 150 unité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petit problème avec l’image!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        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Il y a un minimum à respecter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           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Dfdf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qui est la plus grande distance entre 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        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centre du dessin et un point du dessin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752480" y="2057400"/>
            <a:ext cx="5791320" cy="3048120"/>
            <a:chOff x="1752480" y="2057400"/>
            <a:chExt cx="5791320" cy="3048120"/>
          </a:xfrm>
        </p:grpSpPr>
        <p:grpSp>
          <p:nvGrpSpPr>
            <p:cNvPr id="562" name=""/>
            <p:cNvGrpSpPr/>
            <p:nvPr/>
          </p:nvGrpSpPr>
          <p:grpSpPr>
            <a:xfrm>
              <a:off x="1752480" y="2057400"/>
              <a:ext cx="5791320" cy="3048120"/>
              <a:chOff x="1752480" y="2057400"/>
              <a:chExt cx="5791320" cy="3048120"/>
            </a:xfrm>
          </p:grpSpPr>
          <p:sp>
            <p:nvSpPr>
              <p:cNvPr id="563" name=""/>
              <p:cNvSpPr/>
              <p:nvPr/>
            </p:nvSpPr>
            <p:spPr>
              <a:xfrm>
                <a:off x="1752480" y="2057400"/>
                <a:ext cx="5791320" cy="3048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2197800" y="2378160"/>
                <a:ext cx="4813560" cy="2360520"/>
                <a:chOff x="2197800" y="2378160"/>
                <a:chExt cx="4813560" cy="236052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2260080" y="2813400"/>
                  <a:ext cx="4751280" cy="1925280"/>
                  <a:chOff x="2260080" y="2813400"/>
                  <a:chExt cx="4751280" cy="192528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3745080" y="2973960"/>
                    <a:ext cx="445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CA" sz="2400" spc="-1" strike="noStrike">
                        <a:solidFill>
                          <a:srgbClr val="f8f8f8"/>
                        </a:solidFill>
                        <a:latin typeface="Times New Roman"/>
                      </a:rPr>
                      <a:t>G</a:t>
                    </a:r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CA" sz="2400" spc="-1" strike="noStrike">
                        <a:solidFill>
                          <a:srgbClr val="f8f8f8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230080" y="3294720"/>
                    <a:ext cx="741960" cy="641520"/>
                    <a:chOff x="5230080" y="3294720"/>
                    <a:chExt cx="741960" cy="64152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flipH="1">
                      <a:off x="5230080" y="3294720"/>
                      <a:ext cx="296640" cy="32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5378400" y="3454920"/>
                      <a:ext cx="593640" cy="481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4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CA" sz="24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2260080" y="2813400"/>
                    <a:ext cx="4751280" cy="1925280"/>
                    <a:chOff x="2260080" y="2813400"/>
                    <a:chExt cx="4751280" cy="192528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2260080" y="2813400"/>
                      <a:ext cx="3118320" cy="802080"/>
                      <a:chOff x="2260080" y="2813400"/>
                      <a:chExt cx="3118320" cy="80208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 flipV="1">
                        <a:off x="4487400" y="3294720"/>
                        <a:ext cx="445320" cy="320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73" name=""/>
                      <p:cNvGrpSpPr/>
                      <p:nvPr/>
                    </p:nvGrpSpPr>
                    <p:grpSpPr>
                      <a:xfrm>
                        <a:off x="2260080" y="2813400"/>
                        <a:ext cx="3118320" cy="802080"/>
                        <a:chOff x="2260080" y="2813400"/>
                        <a:chExt cx="3118320" cy="802080"/>
                      </a:xfrm>
                    </p:grpSpPr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 flipV="1">
                          <a:off x="4932720" y="2813760"/>
                          <a:ext cx="0" cy="480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 flipV="1">
                          <a:off x="3893400" y="3294360"/>
                          <a:ext cx="1484640" cy="160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66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8f8f8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76" name=""/>
                        <p:cNvGrpSpPr/>
                        <p:nvPr/>
                      </p:nvGrpSpPr>
                      <p:grpSpPr>
                        <a:xfrm>
                          <a:off x="2260080" y="2813400"/>
                          <a:ext cx="3118320" cy="802080"/>
                          <a:chOff x="2260080" y="2813400"/>
                          <a:chExt cx="3118320" cy="802080"/>
                        </a:xfrm>
                      </p:grpSpPr>
                      <p:sp>
                        <p:nvSpPr>
                          <p:cNvPr id="577" name=""/>
                          <p:cNvSpPr/>
                          <p:nvPr/>
                        </p:nvSpPr>
                        <p:spPr>
                          <a:xfrm flipH="1">
                            <a:off x="2260080" y="3615480"/>
                            <a:ext cx="267228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8" name=""/>
                          <p:cNvSpPr/>
                          <p:nvPr/>
                        </p:nvSpPr>
                        <p:spPr>
                          <a:xfrm flipV="1">
                            <a:off x="2260440" y="3294720"/>
                            <a:ext cx="445320" cy="3204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9" name=""/>
                          <p:cNvSpPr/>
                          <p:nvPr/>
                        </p:nvSpPr>
                        <p:spPr>
                          <a:xfrm flipV="1">
                            <a:off x="4932720" y="3294720"/>
                            <a:ext cx="445320" cy="3204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0" name=""/>
                          <p:cNvSpPr/>
                          <p:nvPr/>
                        </p:nvSpPr>
                        <p:spPr>
                          <a:xfrm flipH="1">
                            <a:off x="2705760" y="3294720"/>
                            <a:ext cx="26726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1" name=""/>
                          <p:cNvSpPr/>
                          <p:nvPr/>
                        </p:nvSpPr>
                        <p:spPr>
                          <a:xfrm flipV="1">
                            <a:off x="4487400" y="3134520"/>
                            <a:ext cx="0" cy="4809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2" name=""/>
                          <p:cNvSpPr/>
                          <p:nvPr/>
                        </p:nvSpPr>
                        <p:spPr>
                          <a:xfrm flipV="1">
                            <a:off x="4932720" y="3134520"/>
                            <a:ext cx="0" cy="4809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3" name=""/>
                          <p:cNvSpPr/>
                          <p:nvPr/>
                        </p:nvSpPr>
                        <p:spPr>
                          <a:xfrm>
                            <a:off x="4487400" y="3134520"/>
                            <a:ext cx="4453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4" name=""/>
                          <p:cNvSpPr/>
                          <p:nvPr/>
                        </p:nvSpPr>
                        <p:spPr>
                          <a:xfrm>
                            <a:off x="4932720" y="2813760"/>
                            <a:ext cx="44532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5" name=""/>
                          <p:cNvSpPr/>
                          <p:nvPr/>
                        </p:nvSpPr>
                        <p:spPr>
                          <a:xfrm flipH="1">
                            <a:off x="4487040" y="2813760"/>
                            <a:ext cx="445320" cy="320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6" name=""/>
                          <p:cNvSpPr/>
                          <p:nvPr/>
                        </p:nvSpPr>
                        <p:spPr>
                          <a:xfrm flipH="1">
                            <a:off x="4932360" y="2813760"/>
                            <a:ext cx="445320" cy="3207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7" name=""/>
                          <p:cNvSpPr/>
                          <p:nvPr/>
                        </p:nvSpPr>
                        <p:spPr>
                          <a:xfrm flipV="1">
                            <a:off x="3745080" y="2813400"/>
                            <a:ext cx="1633320" cy="6411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99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8" name=""/>
                          <p:cNvSpPr/>
                          <p:nvPr/>
                        </p:nvSpPr>
                        <p:spPr>
                          <a:xfrm>
                            <a:off x="3893400" y="3454920"/>
                            <a:ext cx="118764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9" name=""/>
                          <p:cNvSpPr/>
                          <p:nvPr/>
                        </p:nvSpPr>
                        <p:spPr>
                          <a:xfrm flipV="1">
                            <a:off x="5081400" y="3294360"/>
                            <a:ext cx="297000" cy="16020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0" name=""/>
                          <p:cNvSpPr/>
                          <p:nvPr/>
                        </p:nvSpPr>
                        <p:spPr>
                          <a:xfrm>
                            <a:off x="5378400" y="2813760"/>
                            <a:ext cx="0" cy="48096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66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8f8f8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2260440" y="4257360"/>
                      <a:ext cx="2672280" cy="481320"/>
                      <a:chOff x="2260440" y="4257360"/>
                      <a:chExt cx="2672280" cy="481320"/>
                    </a:xfrm>
                  </p:grpSpPr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2260440" y="4257360"/>
                        <a:ext cx="267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3299400" y="4257360"/>
                        <a:ext cx="1484640" cy="481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150 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4" name=""/>
                    <p:cNvGrpSpPr/>
                    <p:nvPr/>
                  </p:nvGrpSpPr>
                  <p:grpSpPr>
                    <a:xfrm>
                      <a:off x="2260440" y="3776040"/>
                      <a:ext cx="1781640" cy="802080"/>
                      <a:chOff x="2260440" y="3776040"/>
                      <a:chExt cx="1781640" cy="802080"/>
                    </a:xfrm>
                  </p:grpSpPr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2260440" y="3776040"/>
                        <a:ext cx="163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>
                        <a:off x="2705760" y="3776040"/>
                        <a:ext cx="1336320" cy="802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0" lang="fr-CA" sz="12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73,4375</a:t>
                        </a:r>
                        <a:endParaRPr b="0" lang="en-US" sz="12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7" name=""/>
                    <p:cNvGrpSpPr/>
                    <p:nvPr/>
                  </p:nvGrpSpPr>
                  <p:grpSpPr>
                    <a:xfrm>
                      <a:off x="5526720" y="2813760"/>
                      <a:ext cx="1484640" cy="480960"/>
                      <a:chOff x="5526720" y="2813760"/>
                      <a:chExt cx="1484640" cy="480960"/>
                    </a:xfrm>
                  </p:grpSpPr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5526720" y="2813760"/>
                        <a:ext cx="1484640" cy="48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9 – 0,0395…</a:t>
                        </a:r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5526720" y="2813760"/>
                        <a:ext cx="0" cy="480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0" name=""/>
                    <p:cNvGrpSpPr/>
                    <p:nvPr/>
                  </p:nvGrpSpPr>
                  <p:grpSpPr>
                    <a:xfrm>
                      <a:off x="3893400" y="3776040"/>
                      <a:ext cx="1335960" cy="480960"/>
                      <a:chOff x="3893400" y="3776040"/>
                      <a:chExt cx="1335960" cy="480960"/>
                    </a:xfrm>
                  </p:grpSpPr>
                  <p:sp>
                    <p:nvSpPr>
                      <p:cNvPr id="601" name=""/>
                      <p:cNvSpPr/>
                      <p:nvPr/>
                    </p:nvSpPr>
                    <p:spPr>
                      <a:xfrm>
                        <a:off x="3893400" y="3776040"/>
                        <a:ext cx="1039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2" name=""/>
                      <p:cNvSpPr/>
                      <p:nvPr/>
                    </p:nvSpPr>
                    <p:spPr>
                      <a:xfrm>
                        <a:off x="4041720" y="3776040"/>
                        <a:ext cx="1187640" cy="48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CA" sz="2400" spc="-1" strike="noStrike">
                            <a:solidFill>
                              <a:srgbClr val="f8f8f8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0" lang="fr-CA" sz="18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76,5625</a:t>
                        </a:r>
                        <a:endParaRPr b="0" lang="en-US" sz="1800" spc="-1" strike="noStrike">
                          <a:solidFill>
                            <a:srgbClr val="f8f8f8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3" name=""/>
                <p:cNvSpPr/>
                <p:nvPr/>
              </p:nvSpPr>
              <p:spPr>
                <a:xfrm flipV="1">
                  <a:off x="4339080" y="2835360"/>
                  <a:ext cx="0" cy="320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3448440" y="2835360"/>
                  <a:ext cx="8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97800" y="2378160"/>
                  <a:ext cx="1398960" cy="77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400" spc="-1" strike="noStrike">
                      <a:solidFill>
                        <a:srgbClr val="f8f8f8"/>
                      </a:solidFill>
                      <a:latin typeface="Times New Roman"/>
                    </a:rPr>
                    <a:t>Distance cherchée</a:t>
                  </a:r>
                  <a:endParaRPr b="0" lang="en-US" sz="1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2361960" y="2514600"/>
              <a:ext cx="4800600" cy="2095560"/>
              <a:chOff x="2361960" y="2514600"/>
              <a:chExt cx="4800600" cy="2095560"/>
            </a:xfrm>
          </p:grpSpPr>
          <p:sp>
            <p:nvSpPr>
              <p:cNvPr id="607" name=""/>
              <p:cNvSpPr/>
              <p:nvPr/>
            </p:nvSpPr>
            <p:spPr>
              <a:xfrm>
                <a:off x="2361960" y="2514600"/>
                <a:ext cx="160020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1800" spc="-1" strike="noStrike">
                    <a:solidFill>
                      <a:srgbClr val="000000"/>
                    </a:solidFill>
                    <a:latin typeface="Times New Roman"/>
                  </a:rPr>
                  <a:t>Distance cherchée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257800" y="342900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r>
                  <a:rPr b="0" lang="fr-CA" sz="1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61960" y="3733920"/>
                <a:ext cx="102888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r>
                  <a:rPr b="0" lang="fr-CA" sz="1800" spc="-1" strike="noStrike">
                    <a:solidFill>
                      <a:srgbClr val="000000"/>
                    </a:solidFill>
                    <a:latin typeface="Times New Roman"/>
                  </a:rPr>
                  <a:t>73,4375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047760" y="4267440"/>
                <a:ext cx="11430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86400" y="2971800"/>
                <a:ext cx="167616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 </a:t>
                </a:r>
                <a:r>
                  <a:rPr b="0" lang="fr-CA" sz="1800" spc="-1" strike="noStrike">
                    <a:solidFill>
                      <a:srgbClr val="000000"/>
                    </a:solidFill>
                    <a:latin typeface="Times New Roman"/>
                  </a:rPr>
                  <a:t>9 – 0,0395…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Vision 3D dans Excel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xercice du doig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osition des deux yeux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Représentation planaire pour chacun des yeux (calcul de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et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raphique Excel contenant la représentation planaire des deux yeux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(et barres de défilement associées)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Exc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91920"/>
            <a:ext cx="777240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tre source d’inspiration: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L’av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Notre projet: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2"/>
              </a:rPr>
              <a:t>Le poiss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s défis: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Représentation planair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Mouvement du poisso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Rotations dans l’espac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Vision 3D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- Math.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- Info.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uleur des séries de données pour permettre la vision 3D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a raison du choix des lunettes anaglyphes…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e choix des couleurs dans Exc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’utilisation des lunettes anaglyph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our notre proje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162920" y="4267080"/>
            <a:ext cx="1218960" cy="1371600"/>
            <a:chOff x="7162920" y="4267080"/>
            <a:chExt cx="1218960" cy="1371600"/>
          </a:xfrm>
        </p:grpSpPr>
        <p:sp>
          <p:nvSpPr>
            <p:cNvPr id="617" name=""/>
            <p:cNvSpPr/>
            <p:nvPr/>
          </p:nvSpPr>
          <p:spPr>
            <a:xfrm>
              <a:off x="7162920" y="4267080"/>
              <a:ext cx="12189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7297920" y="4462920"/>
              <a:ext cx="948240" cy="979200"/>
              <a:chOff x="7297920" y="4462920"/>
              <a:chExt cx="948240" cy="979200"/>
            </a:xfrm>
          </p:grpSpPr>
          <p:sp>
            <p:nvSpPr>
              <p:cNvPr id="619" name=""/>
              <p:cNvSpPr/>
              <p:nvPr/>
            </p:nvSpPr>
            <p:spPr>
              <a:xfrm>
                <a:off x="7297920" y="5050440"/>
                <a:ext cx="270720" cy="3916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68640" y="5246280"/>
                <a:ext cx="13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704360" y="5050440"/>
                <a:ext cx="270720" cy="391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839720" y="4462920"/>
                <a:ext cx="270720" cy="391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975440" y="4462920"/>
                <a:ext cx="270720" cy="3916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Quelques prolongements possible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tilisation en classe : faire trouver la formule de la fonction sinusoïdale par les élèv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mbellir en intégrant plus d’une image dynamiqu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rouver comment rendre les lignes translucides dans un graphiqu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rouver comment rendre l’image d’une figure concave opaque afin de rendre la vision 3D plus apparent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tructure de notre présentatio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représentation planaire (vision mono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 choix des coordonné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 mouvement du poisson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s calculs de la représentation planair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 tracé du graphiqu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erspectives de visionnement (rotations, distance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osition de la caméra et les raisonnements sous-jacent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s vecteurs directeurs de la camér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es barres de défilement : angle, altitude et distanc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 vision 3D (vision stéréo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osition des deux yeux et leur représentation planaire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hoix des couleurs des séries de données pour les lunettes anaglyph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rolongements possibl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ication des coordonnées en 3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53200" y="1181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64600" y="2721600"/>
            <a:ext cx="5235840" cy="3146400"/>
            <a:chOff x="1164600" y="2721600"/>
            <a:chExt cx="5235840" cy="3146400"/>
          </a:xfrm>
        </p:grpSpPr>
        <p:sp>
          <p:nvSpPr>
            <p:cNvPr id="119" name=""/>
            <p:cNvSpPr/>
            <p:nvPr/>
          </p:nvSpPr>
          <p:spPr>
            <a:xfrm>
              <a:off x="1401120" y="3352680"/>
              <a:ext cx="81252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98960" y="4238640"/>
              <a:ext cx="801000" cy="90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185560" y="3038040"/>
              <a:ext cx="7578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720" y="3024720"/>
              <a:ext cx="829800" cy="81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0320" y="4582080"/>
              <a:ext cx="72792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557600" y="4568400"/>
              <a:ext cx="84456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29680" y="3038040"/>
              <a:ext cx="1642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43720" y="4053600"/>
              <a:ext cx="16290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14920" y="3481920"/>
              <a:ext cx="16578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59040" y="3467160"/>
              <a:ext cx="8708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00160" y="5325120"/>
              <a:ext cx="1657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36720" y="4036320"/>
              <a:ext cx="8276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64600" y="5108040"/>
              <a:ext cx="828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42360" y="3066840"/>
              <a:ext cx="82872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0320" y="3867120"/>
              <a:ext cx="1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93960" y="4437000"/>
              <a:ext cx="82728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94240" y="5308200"/>
              <a:ext cx="827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23240" y="5351400"/>
              <a:ext cx="82764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6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28360" y="3564360"/>
              <a:ext cx="829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56440" y="2721600"/>
              <a:ext cx="83088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8800" y="3521880"/>
              <a:ext cx="8298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0360" y="3853800"/>
              <a:ext cx="2160" cy="7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00400" y="3341160"/>
              <a:ext cx="720" cy="18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185560" y="3495240"/>
              <a:ext cx="729000" cy="3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0320" y="3838680"/>
              <a:ext cx="756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557600" y="3838680"/>
              <a:ext cx="84240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200320" y="4367160"/>
              <a:ext cx="71424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14920" y="4353480"/>
              <a:ext cx="162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7600" y="4353480"/>
              <a:ext cx="82872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29120" y="4582080"/>
              <a:ext cx="69912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4920" y="4881600"/>
              <a:ext cx="164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557240" y="4582080"/>
              <a:ext cx="81396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00640" y="3192840"/>
              <a:ext cx="829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99760" y="3192840"/>
              <a:ext cx="829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4880" y="3764520"/>
              <a:ext cx="8298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2000" y="3779280"/>
              <a:ext cx="8298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72640" y="4150800"/>
              <a:ext cx="82872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0680" y="4122360"/>
              <a:ext cx="83088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14880" y="4551120"/>
              <a:ext cx="8298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29080" y="4579920"/>
              <a:ext cx="8298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70480" y="4408200"/>
              <a:ext cx="83088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7120" y="2763720"/>
              <a:ext cx="832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9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56040" y="4195440"/>
              <a:ext cx="4701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86000" y="3981600"/>
              <a:ext cx="514440" cy="5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85560" y="2895120"/>
              <a:ext cx="720" cy="29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arium et planche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90720" y="1644480"/>
            <a:ext cx="5638320" cy="4210560"/>
            <a:chOff x="990720" y="1644480"/>
            <a:chExt cx="5638320" cy="4210560"/>
          </a:xfrm>
        </p:grpSpPr>
        <p:sp>
          <p:nvSpPr>
            <p:cNvPr id="166" name=""/>
            <p:cNvSpPr/>
            <p:nvPr/>
          </p:nvSpPr>
          <p:spPr>
            <a:xfrm>
              <a:off x="1137240" y="4776840"/>
              <a:ext cx="161640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136160" y="2431440"/>
              <a:ext cx="4277880" cy="23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753640" y="2710800"/>
              <a:ext cx="3243600" cy="266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4400" y="2431800"/>
              <a:ext cx="607320" cy="27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4453920" y="2953080"/>
              <a:ext cx="81432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5109840" y="2565720"/>
              <a:ext cx="15840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098320" y="2104200"/>
              <a:ext cx="813600" cy="47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99320" y="2090880"/>
              <a:ext cx="109440" cy="6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4333320" y="2296440"/>
              <a:ext cx="120240" cy="65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4345200" y="2296800"/>
              <a:ext cx="76464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317200" y="1884960"/>
              <a:ext cx="57024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345200" y="1884960"/>
              <a:ext cx="98352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17200" y="1909800"/>
              <a:ext cx="9720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072880" y="2125080"/>
              <a:ext cx="521640" cy="372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671840" y="2247120"/>
              <a:ext cx="4544280" cy="29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6040" y="4371480"/>
              <a:ext cx="253872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9120" y="5078160"/>
              <a:ext cx="77724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78120" y="1813680"/>
              <a:ext cx="7776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31520" y="2028240"/>
              <a:ext cx="38880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8977200">
              <a:off x="2396160" y="4241520"/>
              <a:ext cx="645120" cy="474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2206440" y="4645080"/>
              <a:ext cx="23040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6440" y="4645440"/>
              <a:ext cx="29160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25320" y="4669560"/>
              <a:ext cx="7272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55720" y="5277600"/>
              <a:ext cx="7045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4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07040" y="2422080"/>
              <a:ext cx="7045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5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95520" y="3235680"/>
              <a:ext cx="7045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4520" y="2531160"/>
              <a:ext cx="7045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4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14800" y="2762640"/>
              <a:ext cx="7034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04640" y="2106000"/>
              <a:ext cx="7045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6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15800" y="1875960"/>
              <a:ext cx="70452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8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10920" y="1644480"/>
              <a:ext cx="7045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9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91320" y="2288880"/>
              <a:ext cx="70380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7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90720" y="4524120"/>
              <a:ext cx="4003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000" spc="-1" strike="noStrike">
                  <a:solidFill>
                    <a:srgbClr val="f8f8f8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uvement du poisson selon la fonction sinusoïd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et du poisson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ègle: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  <a:hlinkClick r:id="rId1"/>
              </a:rPr>
              <a:t>Image dynamique dans Exc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21440" y="1981080"/>
            <a:ext cx="8117280" cy="2507400"/>
            <a:chOff x="721440" y="1981080"/>
            <a:chExt cx="8117280" cy="2507400"/>
          </a:xfrm>
        </p:grpSpPr>
        <p:sp>
          <p:nvSpPr>
            <p:cNvPr id="202" name=""/>
            <p:cNvSpPr/>
            <p:nvPr/>
          </p:nvSpPr>
          <p:spPr>
            <a:xfrm flipV="1">
              <a:off x="922320" y="2387160"/>
              <a:ext cx="720" cy="14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22320" y="3877200"/>
              <a:ext cx="7571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908640" y="3246120"/>
              <a:ext cx="6150600" cy="1242360"/>
              <a:chOff x="908640" y="3246120"/>
              <a:chExt cx="6150600" cy="1242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908640" y="3246120"/>
                <a:ext cx="5142600" cy="1232280"/>
                <a:chOff x="908640" y="3246120"/>
                <a:chExt cx="5142600" cy="123228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908640" y="3246120"/>
                  <a:ext cx="1026360" cy="1224360"/>
                  <a:chOff x="908640" y="3246120"/>
                  <a:chExt cx="1026360" cy="12243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>
                    <a:off x="911880" y="3246120"/>
                    <a:ext cx="102312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908640" y="3246120"/>
                    <a:ext cx="1023840" cy="1224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934640" y="3246840"/>
                  <a:ext cx="1025640" cy="1220760"/>
                  <a:chOff x="1934640" y="3246840"/>
                  <a:chExt cx="1025640" cy="12207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>
                    <a:off x="1937160" y="3246840"/>
                    <a:ext cx="102276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1934640" y="3246840"/>
                    <a:ext cx="102312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968920" y="3257640"/>
                  <a:ext cx="1025640" cy="1220760"/>
                  <a:chOff x="2968920" y="3257640"/>
                  <a:chExt cx="1025640" cy="12207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flipH="1">
                    <a:off x="2971440" y="3257640"/>
                    <a:ext cx="102276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968920" y="3257640"/>
                    <a:ext cx="102312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3995280" y="3257640"/>
                  <a:ext cx="1025640" cy="1219320"/>
                  <a:chOff x="3995280" y="3257640"/>
                  <a:chExt cx="1025640" cy="12193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flipH="1">
                    <a:off x="3997800" y="3257640"/>
                    <a:ext cx="1022760" cy="12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995280" y="3257640"/>
                    <a:ext cx="1023120" cy="12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5025600" y="3257640"/>
                  <a:ext cx="1025640" cy="1219320"/>
                  <a:chOff x="5025600" y="3257640"/>
                  <a:chExt cx="1025640" cy="12193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flipH="1">
                    <a:off x="5028120" y="3257640"/>
                    <a:ext cx="1022760" cy="12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5025600" y="3257640"/>
                    <a:ext cx="1023120" cy="1219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6033600" y="3269160"/>
                <a:ext cx="1025640" cy="1219320"/>
                <a:chOff x="6033600" y="3269160"/>
                <a:chExt cx="1025640" cy="1219320"/>
              </a:xfrm>
            </p:grpSpPr>
            <p:sp>
              <p:nvSpPr>
                <p:cNvPr id="222" name=""/>
                <p:cNvSpPr/>
                <p:nvPr/>
              </p:nvSpPr>
              <p:spPr>
                <a:xfrm flipH="1">
                  <a:off x="6036120" y="3269160"/>
                  <a:ext cx="102276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033600" y="3269160"/>
                  <a:ext cx="1023120" cy="1219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5070600" y="3179880"/>
              <a:ext cx="678600" cy="329760"/>
              <a:chOff x="5070600" y="3179880"/>
              <a:chExt cx="678600" cy="329760"/>
            </a:xfrm>
          </p:grpSpPr>
          <p:sp>
            <p:nvSpPr>
              <p:cNvPr id="225" name=""/>
              <p:cNvSpPr/>
              <p:nvPr/>
            </p:nvSpPr>
            <p:spPr>
              <a:xfrm>
                <a:off x="5270760" y="3272400"/>
                <a:ext cx="1800" cy="13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070600" y="3179880"/>
                <a:ext cx="678600" cy="329760"/>
                <a:chOff x="5070600" y="3179880"/>
                <a:chExt cx="678600" cy="329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73360" y="3507480"/>
                  <a:ext cx="28152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748480" y="3285000"/>
                  <a:ext cx="72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29" name=""/>
                <p:cNvCxnSpPr>
                  <a:stCxn id="230" idx="0"/>
                  <a:endCxn id="228" idx="0"/>
                </p:cNvCxnSpPr>
                <p:nvPr/>
              </p:nvCxnSpPr>
              <p:spPr>
                <a:xfrm>
                  <a:off x="5662080" y="3187440"/>
                  <a:ext cx="87120" cy="97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1" name=""/>
                <p:cNvCxnSpPr>
                  <a:stCxn id="228" idx="1"/>
                  <a:endCxn id="227" idx="0"/>
                </p:cNvCxnSpPr>
                <p:nvPr/>
              </p:nvCxnSpPr>
              <p:spPr>
                <a:xfrm flipH="1">
                  <a:off x="5654520" y="3396960"/>
                  <a:ext cx="95040" cy="113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32" name=""/>
                <p:cNvCxnSpPr/>
                <p:nvPr/>
              </p:nvCxnSpPr>
              <p:spPr>
                <a:xfrm flipH="1" flipV="1">
                  <a:off x="5280120" y="3396600"/>
                  <a:ext cx="93240" cy="110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33" name=""/>
                <p:cNvSpPr/>
                <p:nvPr/>
              </p:nvSpPr>
              <p:spPr>
                <a:xfrm flipH="1">
                  <a:off x="5360040" y="3187800"/>
                  <a:ext cx="300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070600" y="3206520"/>
                  <a:ext cx="18936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5081760" y="3353040"/>
                  <a:ext cx="18864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081760" y="3219840"/>
                  <a:ext cx="0" cy="23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5270400" y="3179880"/>
                  <a:ext cx="10044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8" name=""/>
            <p:cNvGrpSpPr/>
            <p:nvPr/>
          </p:nvGrpSpPr>
          <p:grpSpPr>
            <a:xfrm>
              <a:off x="721440" y="3671280"/>
              <a:ext cx="679680" cy="330480"/>
              <a:chOff x="721440" y="3671280"/>
              <a:chExt cx="679680" cy="330480"/>
            </a:xfrm>
          </p:grpSpPr>
          <p:sp>
            <p:nvSpPr>
              <p:cNvPr id="239" name=""/>
              <p:cNvSpPr/>
              <p:nvPr/>
            </p:nvSpPr>
            <p:spPr>
              <a:xfrm>
                <a:off x="921960" y="3764160"/>
                <a:ext cx="180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721440" y="3671280"/>
                <a:ext cx="679680" cy="330480"/>
                <a:chOff x="721440" y="3671280"/>
                <a:chExt cx="679680" cy="3304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024560" y="399996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400400" y="3776760"/>
                  <a:ext cx="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43" name=""/>
                <p:cNvCxnSpPr>
                  <a:stCxn id="244" idx="0"/>
                  <a:endCxn id="242" idx="0"/>
                </p:cNvCxnSpPr>
                <p:nvPr/>
              </p:nvCxnSpPr>
              <p:spPr>
                <a:xfrm>
                  <a:off x="1313640" y="3679200"/>
                  <a:ext cx="87120" cy="97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5" name=""/>
                <p:cNvCxnSpPr>
                  <a:stCxn id="242" idx="1"/>
                  <a:endCxn id="241" idx="0"/>
                </p:cNvCxnSpPr>
                <p:nvPr/>
              </p:nvCxnSpPr>
              <p:spPr>
                <a:xfrm flipH="1">
                  <a:off x="1306080" y="3888720"/>
                  <a:ext cx="95040" cy="113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46" name=""/>
                <p:cNvCxnSpPr/>
                <p:nvPr/>
              </p:nvCxnSpPr>
              <p:spPr>
                <a:xfrm flipH="1" flipV="1">
                  <a:off x="931320" y="3888360"/>
                  <a:ext cx="93240" cy="111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47" name=""/>
                <p:cNvSpPr/>
                <p:nvPr/>
              </p:nvSpPr>
              <p:spPr>
                <a:xfrm flipH="1">
                  <a:off x="1010880" y="367920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21440" y="3697920"/>
                  <a:ext cx="189720" cy="13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732600" y="3844800"/>
                  <a:ext cx="1890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2960" y="371160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921600" y="3671280"/>
                  <a:ext cx="10044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3798720" y="3711600"/>
              <a:ext cx="679680" cy="331920"/>
              <a:chOff x="3798720" y="3711600"/>
              <a:chExt cx="679680" cy="331920"/>
            </a:xfrm>
          </p:grpSpPr>
          <p:sp>
            <p:nvSpPr>
              <p:cNvPr id="253" name=""/>
              <p:cNvSpPr/>
              <p:nvPr/>
            </p:nvSpPr>
            <p:spPr>
              <a:xfrm>
                <a:off x="3999240" y="3804840"/>
                <a:ext cx="180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798720" y="3711600"/>
                <a:ext cx="679680" cy="331920"/>
                <a:chOff x="3798720" y="3711600"/>
                <a:chExt cx="679680" cy="331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101840" y="404136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477680" y="3817440"/>
                  <a:ext cx="720" cy="112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7" name=""/>
                <p:cNvCxnSpPr>
                  <a:stCxn id="258" idx="0"/>
                  <a:endCxn id="256" idx="0"/>
                </p:cNvCxnSpPr>
                <p:nvPr/>
              </p:nvCxnSpPr>
              <p:spPr>
                <a:xfrm>
                  <a:off x="4390920" y="3719160"/>
                  <a:ext cx="87120" cy="982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59" name=""/>
                <p:cNvCxnSpPr>
                  <a:stCxn id="256" idx="1"/>
                  <a:endCxn id="255" idx="0"/>
                </p:cNvCxnSpPr>
                <p:nvPr/>
              </p:nvCxnSpPr>
              <p:spPr>
                <a:xfrm flipH="1">
                  <a:off x="4383360" y="3930120"/>
                  <a:ext cx="95040" cy="1137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60" name=""/>
                <p:cNvCxnSpPr/>
                <p:nvPr/>
              </p:nvCxnSpPr>
              <p:spPr>
                <a:xfrm flipH="1" flipV="1">
                  <a:off x="4008600" y="3929760"/>
                  <a:ext cx="93240" cy="1116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1" name=""/>
                <p:cNvSpPr/>
                <p:nvPr/>
              </p:nvSpPr>
              <p:spPr>
                <a:xfrm flipH="1">
                  <a:off x="4088160" y="371952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798720" y="3738240"/>
                  <a:ext cx="189720" cy="133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3809880" y="3885840"/>
                  <a:ext cx="189000" cy="10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10240" y="3751920"/>
                  <a:ext cx="0" cy="23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3998880" y="3711600"/>
                  <a:ext cx="100440" cy="10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2215080" y="3086640"/>
              <a:ext cx="679680" cy="329760"/>
              <a:chOff x="2215080" y="3086640"/>
              <a:chExt cx="679680" cy="329760"/>
            </a:xfrm>
          </p:grpSpPr>
          <p:sp>
            <p:nvSpPr>
              <p:cNvPr id="267" name=""/>
              <p:cNvSpPr/>
              <p:nvPr/>
            </p:nvSpPr>
            <p:spPr>
              <a:xfrm>
                <a:off x="2415600" y="3179160"/>
                <a:ext cx="1800" cy="13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2215080" y="3086640"/>
                <a:ext cx="679680" cy="329760"/>
                <a:chOff x="2215080" y="3086640"/>
                <a:chExt cx="679680" cy="3297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518200" y="341424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894040" y="3191760"/>
                  <a:ext cx="720" cy="11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71" name=""/>
                <p:cNvCxnSpPr>
                  <a:stCxn id="272" idx="0"/>
                  <a:endCxn id="270" idx="0"/>
                </p:cNvCxnSpPr>
                <p:nvPr/>
              </p:nvCxnSpPr>
              <p:spPr>
                <a:xfrm>
                  <a:off x="2807280" y="3094200"/>
                  <a:ext cx="87120" cy="9756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3" name=""/>
                <p:cNvCxnSpPr>
                  <a:stCxn id="270" idx="1"/>
                  <a:endCxn id="269" idx="0"/>
                </p:cNvCxnSpPr>
                <p:nvPr/>
              </p:nvCxnSpPr>
              <p:spPr>
                <a:xfrm flipH="1">
                  <a:off x="2799720" y="3303720"/>
                  <a:ext cx="95040" cy="1130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74" name=""/>
                <p:cNvCxnSpPr/>
                <p:nvPr/>
              </p:nvCxnSpPr>
              <p:spPr>
                <a:xfrm flipH="1" flipV="1">
                  <a:off x="2424960" y="3303360"/>
                  <a:ext cx="93240" cy="110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75" name=""/>
                <p:cNvSpPr/>
                <p:nvPr/>
              </p:nvSpPr>
              <p:spPr>
                <a:xfrm flipH="1">
                  <a:off x="2504520" y="309456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215080" y="3113280"/>
                  <a:ext cx="18972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2226240" y="3259800"/>
                  <a:ext cx="189000" cy="1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226600" y="3126600"/>
                  <a:ext cx="0" cy="237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2415240" y="3086640"/>
                  <a:ext cx="100440" cy="10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"/>
            <p:cNvGrpSpPr/>
            <p:nvPr/>
          </p:nvGrpSpPr>
          <p:grpSpPr>
            <a:xfrm>
              <a:off x="5839560" y="3671280"/>
              <a:ext cx="679680" cy="330480"/>
              <a:chOff x="5839560" y="3671280"/>
              <a:chExt cx="679680" cy="330480"/>
            </a:xfrm>
          </p:grpSpPr>
          <p:sp>
            <p:nvSpPr>
              <p:cNvPr id="281" name=""/>
              <p:cNvSpPr/>
              <p:nvPr/>
            </p:nvSpPr>
            <p:spPr>
              <a:xfrm>
                <a:off x="6040080" y="3764160"/>
                <a:ext cx="180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5839560" y="3671280"/>
                <a:ext cx="679680" cy="330480"/>
                <a:chOff x="5839560" y="3671280"/>
                <a:chExt cx="679680" cy="330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142680" y="399996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18520" y="3776760"/>
                  <a:ext cx="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85" name=""/>
                <p:cNvCxnSpPr>
                  <a:stCxn id="286" idx="0"/>
                  <a:endCxn id="284" idx="0"/>
                </p:cNvCxnSpPr>
                <p:nvPr/>
              </p:nvCxnSpPr>
              <p:spPr>
                <a:xfrm>
                  <a:off x="6431760" y="3679200"/>
                  <a:ext cx="87120" cy="97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7" name=""/>
                <p:cNvCxnSpPr>
                  <a:stCxn id="284" idx="1"/>
                  <a:endCxn id="283" idx="0"/>
                </p:cNvCxnSpPr>
                <p:nvPr/>
              </p:nvCxnSpPr>
              <p:spPr>
                <a:xfrm flipH="1">
                  <a:off x="6424200" y="3888720"/>
                  <a:ext cx="95040" cy="113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8" name=""/>
                <p:cNvCxnSpPr/>
                <p:nvPr/>
              </p:nvCxnSpPr>
              <p:spPr>
                <a:xfrm flipH="1" flipV="1">
                  <a:off x="6049440" y="3888360"/>
                  <a:ext cx="93240" cy="111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89" name=""/>
                <p:cNvSpPr/>
                <p:nvPr/>
              </p:nvSpPr>
              <p:spPr>
                <a:xfrm flipH="1">
                  <a:off x="6129000" y="367920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839560" y="3697920"/>
                  <a:ext cx="189720" cy="13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5850720" y="3844800"/>
                  <a:ext cx="1890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51080" y="371160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6039720" y="3671280"/>
                  <a:ext cx="10044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6865560" y="3697920"/>
              <a:ext cx="679680" cy="330480"/>
              <a:chOff x="6865560" y="3697920"/>
              <a:chExt cx="679680" cy="330480"/>
            </a:xfrm>
          </p:grpSpPr>
          <p:sp>
            <p:nvSpPr>
              <p:cNvPr id="295" name=""/>
              <p:cNvSpPr/>
              <p:nvPr/>
            </p:nvSpPr>
            <p:spPr>
              <a:xfrm>
                <a:off x="7066080" y="3790800"/>
                <a:ext cx="180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6865560" y="3697920"/>
                <a:ext cx="679680" cy="330480"/>
                <a:chOff x="6865560" y="3697920"/>
                <a:chExt cx="679680" cy="3304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168680" y="402660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544520" y="3803400"/>
                  <a:ext cx="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9" name=""/>
                <p:cNvCxnSpPr>
                  <a:stCxn id="300" idx="0"/>
                  <a:endCxn id="298" idx="0"/>
                </p:cNvCxnSpPr>
                <p:nvPr/>
              </p:nvCxnSpPr>
              <p:spPr>
                <a:xfrm>
                  <a:off x="7457760" y="3705840"/>
                  <a:ext cx="87120" cy="97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1" name=""/>
                <p:cNvCxnSpPr>
                  <a:stCxn id="298" idx="1"/>
                  <a:endCxn id="297" idx="0"/>
                </p:cNvCxnSpPr>
                <p:nvPr/>
              </p:nvCxnSpPr>
              <p:spPr>
                <a:xfrm flipH="1">
                  <a:off x="7450200" y="3915360"/>
                  <a:ext cx="95040" cy="113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02" name=""/>
                <p:cNvCxnSpPr/>
                <p:nvPr/>
              </p:nvCxnSpPr>
              <p:spPr>
                <a:xfrm flipH="1" flipV="1">
                  <a:off x="7075440" y="3915000"/>
                  <a:ext cx="93240" cy="111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03" name=""/>
                <p:cNvSpPr/>
                <p:nvPr/>
              </p:nvSpPr>
              <p:spPr>
                <a:xfrm flipH="1">
                  <a:off x="7155000" y="370584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865560" y="3724560"/>
                  <a:ext cx="189720" cy="13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6876720" y="3871440"/>
                  <a:ext cx="1890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77080" y="373824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7065720" y="3697920"/>
                  <a:ext cx="10044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6553440" y="3153960"/>
              <a:ext cx="679680" cy="330480"/>
              <a:chOff x="6553440" y="3153960"/>
              <a:chExt cx="679680" cy="330480"/>
            </a:xfrm>
          </p:grpSpPr>
          <p:sp>
            <p:nvSpPr>
              <p:cNvPr id="309" name=""/>
              <p:cNvSpPr/>
              <p:nvPr/>
            </p:nvSpPr>
            <p:spPr>
              <a:xfrm>
                <a:off x="6753960" y="3246840"/>
                <a:ext cx="180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6553440" y="3153960"/>
                <a:ext cx="679680" cy="330480"/>
                <a:chOff x="6553440" y="3153960"/>
                <a:chExt cx="679680" cy="330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856560" y="3482640"/>
                  <a:ext cx="2818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232400" y="3259440"/>
                  <a:ext cx="720" cy="11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cxnSp>
              <p:nvCxnSpPr>
                <p:cNvPr id="313" name=""/>
                <p:cNvCxnSpPr>
                  <a:stCxn id="314" idx="0"/>
                  <a:endCxn id="312" idx="0"/>
                </p:cNvCxnSpPr>
                <p:nvPr/>
              </p:nvCxnSpPr>
              <p:spPr>
                <a:xfrm>
                  <a:off x="7145640" y="3161880"/>
                  <a:ext cx="87120" cy="979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5" name=""/>
                <p:cNvCxnSpPr>
                  <a:stCxn id="312" idx="1"/>
                  <a:endCxn id="311" idx="0"/>
                </p:cNvCxnSpPr>
                <p:nvPr/>
              </p:nvCxnSpPr>
              <p:spPr>
                <a:xfrm flipH="1">
                  <a:off x="7138080" y="3371400"/>
                  <a:ext cx="95040" cy="113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316" name=""/>
                <p:cNvCxnSpPr/>
                <p:nvPr/>
              </p:nvCxnSpPr>
              <p:spPr>
                <a:xfrm flipH="1" flipV="1">
                  <a:off x="6763320" y="3371040"/>
                  <a:ext cx="93240" cy="111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317" name=""/>
                <p:cNvSpPr/>
                <p:nvPr/>
              </p:nvSpPr>
              <p:spPr>
                <a:xfrm flipH="1">
                  <a:off x="6842880" y="3161880"/>
                  <a:ext cx="30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553440" y="3180600"/>
                  <a:ext cx="189720" cy="133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6564600" y="3327480"/>
                  <a:ext cx="189000" cy="10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564960" y="319428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6753600" y="3153960"/>
                  <a:ext cx="100440" cy="1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" name=""/>
            <p:cNvGrpSpPr/>
            <p:nvPr/>
          </p:nvGrpSpPr>
          <p:grpSpPr>
            <a:xfrm>
              <a:off x="6486480" y="3200400"/>
              <a:ext cx="1694520" cy="1190160"/>
              <a:chOff x="6486480" y="3200400"/>
              <a:chExt cx="1694520" cy="1190160"/>
            </a:xfrm>
          </p:grpSpPr>
          <p:sp>
            <p:nvSpPr>
              <p:cNvPr id="323" name=""/>
              <p:cNvSpPr/>
              <p:nvPr/>
            </p:nvSpPr>
            <p:spPr>
              <a:xfrm>
                <a:off x="6498000" y="3501000"/>
                <a:ext cx="1103400" cy="889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6486480" y="3200400"/>
                <a:ext cx="61344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077600" y="3209760"/>
                <a:ext cx="1103400" cy="88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590600" y="3213720"/>
                <a:ext cx="57960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486480" y="4091760"/>
                <a:ext cx="591120" cy="27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7579080" y="4078440"/>
                <a:ext cx="591480" cy="30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54920" y="1981080"/>
              <a:ext cx="12484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27600" y="3697200"/>
              <a:ext cx="41112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8f8f8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514600" y="4343400"/>
                <a:ext cx="2971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ésentation planai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éterminer les coordonnées des objets suite à la projection planaire lorsque la caméra est fix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de la camér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90720" y="3124080"/>
            <a:ext cx="6629400" cy="2057400"/>
            <a:chOff x="990720" y="3124080"/>
            <a:chExt cx="6629400" cy="2057400"/>
          </a:xfrm>
        </p:grpSpPr>
        <p:sp>
          <p:nvSpPr>
            <p:cNvPr id="335" name=""/>
            <p:cNvSpPr/>
            <p:nvPr/>
          </p:nvSpPr>
          <p:spPr>
            <a:xfrm>
              <a:off x="6033960" y="4152240"/>
              <a:ext cx="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990720" y="3124080"/>
              <a:ext cx="6629400" cy="2057400"/>
              <a:chOff x="990720" y="3124080"/>
              <a:chExt cx="6629400" cy="205740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1627560" y="3940200"/>
                <a:ext cx="0" cy="123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5857200" y="4493880"/>
                <a:ext cx="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3390120" y="4493880"/>
                <a:ext cx="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66520" y="3124080"/>
                <a:ext cx="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479960" y="3884040"/>
                <a:ext cx="89640" cy="21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27560" y="5179320"/>
                <a:ext cx="422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5504760" y="3466800"/>
                <a:ext cx="529200" cy="1026720"/>
                <a:chOff x="5504760" y="3466800"/>
                <a:chExt cx="529200" cy="1026720"/>
              </a:xfrm>
            </p:grpSpPr>
            <p:sp>
              <p:nvSpPr>
                <p:cNvPr id="344" name=""/>
                <p:cNvSpPr/>
                <p:nvPr/>
              </p:nvSpPr>
              <p:spPr>
                <a:xfrm flipH="1">
                  <a:off x="5504760" y="3466800"/>
                  <a:ext cx="35244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505120" y="4151160"/>
                  <a:ext cx="52884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5857200" y="3466800"/>
                  <a:ext cx="176040" cy="102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857560" y="3466800"/>
                  <a:ext cx="176040" cy="68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3213360" y="3808800"/>
                <a:ext cx="0" cy="10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13360" y="4151880"/>
                <a:ext cx="35280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3213360" y="3124080"/>
                <a:ext cx="352800" cy="68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627560" y="3283920"/>
                <a:ext cx="528768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27560" y="3969360"/>
                <a:ext cx="5815800" cy="34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27560" y="3969360"/>
                <a:ext cx="5992560" cy="68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150200" y="3694320"/>
                <a:ext cx="329760" cy="407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79960" y="3708720"/>
                <a:ext cx="109800" cy="18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80040" y="3708720"/>
                <a:ext cx="0" cy="42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990720" y="4087800"/>
                <a:ext cx="95904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f8f8f8"/>
                    </a:solidFill>
                    <a:latin typeface="Times New Roman"/>
                  </a:rPr>
                  <a:t>caméra</a:t>
                </a:r>
                <a:endParaRPr b="0" lang="en-US" sz="18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88680" y="4423320"/>
                <a:ext cx="959040" cy="75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400" spc="-1" strike="noStrike">
                    <a:solidFill>
                      <a:srgbClr val="f8f8f8"/>
                    </a:solidFill>
                    <a:latin typeface="Times New Roman"/>
                  </a:rPr>
                  <a:t>plan de projection</a:t>
                </a:r>
                <a:endParaRPr b="0" lang="en-US" sz="1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56840" y="4379760"/>
                <a:ext cx="959040" cy="75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8f8f8"/>
                    </a:solidFill>
                    <a:latin typeface="Times New Roman"/>
                  </a:rPr>
                  <a:t>objet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visé (G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entre la caméra et le plan (d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219320" y="2590920"/>
            <a:ext cx="2819160" cy="3606840"/>
            <a:chOff x="1219320" y="2590920"/>
            <a:chExt cx="2819160" cy="3606840"/>
          </a:xfrm>
        </p:grpSpPr>
        <p:sp>
          <p:nvSpPr>
            <p:cNvPr id="362" name=""/>
            <p:cNvSpPr/>
            <p:nvPr/>
          </p:nvSpPr>
          <p:spPr>
            <a:xfrm>
              <a:off x="1219320" y="2999880"/>
              <a:ext cx="6404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f8f8f8"/>
                  </a:solidFill>
                  <a:latin typeface="Times New Roman"/>
                </a:rPr>
                <a:t>Devant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69520" y="3586680"/>
              <a:ext cx="7689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f8f8f8"/>
                  </a:solidFill>
                  <a:latin typeface="Times New Roman"/>
                </a:rPr>
                <a:t>Derrière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859760" y="2590920"/>
              <a:ext cx="1873800" cy="3606840"/>
              <a:chOff x="1859760" y="2590920"/>
              <a:chExt cx="1873800" cy="360684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1859760" y="2590920"/>
                <a:ext cx="1873800" cy="3606840"/>
                <a:chOff x="1859760" y="2590920"/>
                <a:chExt cx="1873800" cy="3606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859760" y="2590920"/>
                  <a:ext cx="1322640" cy="14083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" name=""/>
                <p:cNvGrpSpPr/>
                <p:nvPr/>
              </p:nvGrpSpPr>
              <p:grpSpPr>
                <a:xfrm>
                  <a:off x="2887920" y="3216600"/>
                  <a:ext cx="441000" cy="156240"/>
                  <a:chOff x="2887920" y="3216600"/>
                  <a:chExt cx="441000" cy="15624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3035160" y="3216600"/>
                    <a:ext cx="293760" cy="1562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2887920" y="3216600"/>
                    <a:ext cx="44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>
                    <a:off x="2887920" y="3372840"/>
                    <a:ext cx="44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" name=""/>
                <p:cNvSpPr/>
                <p:nvPr/>
              </p:nvSpPr>
              <p:spPr>
                <a:xfrm>
                  <a:off x="2925720" y="2738880"/>
                  <a:ext cx="807840" cy="3458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1869" y="53"/>
                      </a:moveTo>
                      <a:arcTo wR="10800" hR="10800" stAng="-5059070" swAng="2856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1869" y="53"/>
                      </a:moveTo>
                      <a:arcTo wR="10800" hR="10800" stAng="-5059070" swAng="2856964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arrow" w="med"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2300400" y="3216600"/>
                  <a:ext cx="441000" cy="156240"/>
                  <a:chOff x="2300400" y="3216600"/>
                  <a:chExt cx="441000" cy="15624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2300400" y="3216600"/>
                    <a:ext cx="441000" cy="156240"/>
                  </a:xfrm>
                  <a:prstGeom prst="rect">
                    <a:avLst/>
                  </a:prstGeom>
                  <a:solidFill>
                    <a:srgbClr val="c0c0c0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2594160" y="3216600"/>
                    <a:ext cx="146880" cy="1562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8f8f8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5" name=""/>
              <p:cNvSpPr/>
              <p:nvPr/>
            </p:nvSpPr>
            <p:spPr>
              <a:xfrm>
                <a:off x="2372040" y="3136320"/>
                <a:ext cx="3841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4800600" y="2666880"/>
            <a:ext cx="3200040" cy="3220560"/>
            <a:chOff x="4800600" y="2666880"/>
            <a:chExt cx="3200040" cy="3220560"/>
          </a:xfrm>
        </p:grpSpPr>
        <p:grpSp>
          <p:nvGrpSpPr>
            <p:cNvPr id="377" name=""/>
            <p:cNvGrpSpPr/>
            <p:nvPr/>
          </p:nvGrpSpPr>
          <p:grpSpPr>
            <a:xfrm>
              <a:off x="6464880" y="3396240"/>
              <a:ext cx="412920" cy="139680"/>
              <a:chOff x="6464880" y="3396240"/>
              <a:chExt cx="412920" cy="139680"/>
            </a:xfrm>
          </p:grpSpPr>
          <p:sp>
            <p:nvSpPr>
              <p:cNvPr id="378" name=""/>
              <p:cNvSpPr/>
              <p:nvPr/>
            </p:nvSpPr>
            <p:spPr>
              <a:xfrm>
                <a:off x="6464880" y="3396240"/>
                <a:ext cx="412920" cy="1396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40280" y="3396240"/>
                <a:ext cx="137520" cy="1396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5716440" y="2666880"/>
              <a:ext cx="1515960" cy="1536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5578200" y="3365280"/>
              <a:ext cx="413280" cy="139680"/>
              <a:chOff x="5578200" y="3365280"/>
              <a:chExt cx="413280" cy="13968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5577840" y="3365280"/>
                <a:ext cx="275400" cy="13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78560" y="3365280"/>
                <a:ext cx="41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78560" y="3504960"/>
                <a:ext cx="41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H="1">
              <a:off x="5365800" y="2799000"/>
              <a:ext cx="758160" cy="308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69" y="53"/>
                  </a:moveTo>
                  <a:arcTo wR="10800" hR="10800" stAng="-5059070" swAng="28569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69" y="53"/>
                  </a:moveTo>
                  <a:arcTo wR="10800" hR="10800" stAng="-5059070" swAng="2856964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00600" y="3396240"/>
              <a:ext cx="640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f8f8f8"/>
                  </a:solidFill>
                  <a:latin typeface="Times New Roman"/>
                </a:rPr>
                <a:t>Devant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32760" y="3266640"/>
              <a:ext cx="7678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000" spc="-1" strike="noStrike">
                  <a:solidFill>
                    <a:srgbClr val="f8f8f8"/>
                  </a:solidFill>
                  <a:latin typeface="Times New Roman"/>
                </a:rPr>
                <a:t>Derrière</a:t>
              </a:r>
              <a:endParaRPr b="0" lang="en-US" sz="1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6720" y="3266640"/>
              <a:ext cx="3837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533520"/>
          <a:ext cx="8305920" cy="566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30592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7:21:37Z</dcterms:created>
  <dc:creator>SITEL</dc:creator>
  <dc:description/>
  <dc:language>en-US</dc:language>
  <cp:lastModifiedBy>jacques</cp:lastModifiedBy>
  <dcterms:modified xsi:type="dcterms:W3CDTF">2005-04-29T17:07:42Z</dcterms:modified>
  <cp:revision>59</cp:revision>
  <dc:subject/>
  <dc:title>Représentation 3D dans Excel</dc:title>
</cp:coreProperties>
</file>