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3B5-C909-4167-BD5B-C777BACB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AE5-467C-4D8B-9037-B7971E2C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95F-7944-44E5-B0EE-694146FA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59A-34DE-4267-8DDE-85FB3CBB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DCD-52C9-4D2C-B7F3-774C57D8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EE7-5C0A-4946-8FDF-FE988FC3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2E9-0D06-4C2F-96F5-BC691D49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4C6-302B-42D7-B356-2232614E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FA4-B021-4293-8AFF-E6388F8D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C47A-25A2-425A-B8F4-5452F386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47B-234F-4FB6-978A-802E6D83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EAE-5A89-43FA-AB36-F3A2A2B5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2887-D1FC-43E0-9CA7-05A226EB0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Graphiques.xls" TargetMode="External"/><Relationship Id="rId3" Type="http://schemas.openxmlformats.org/officeDocument/2006/relationships/hyperlink" Target="file:///Graphiques.xls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ode.txt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800" y="-3809880"/>
            <a:ext cx="8458200" cy="10896480"/>
            <a:chOff x="685800" y="-3809880"/>
            <a:chExt cx="8458200" cy="108964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685800" y="-3809880"/>
              <a:ext cx="8458200" cy="1089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1793160" y="230040"/>
              <a:ext cx="6030720" cy="1713600"/>
              <a:chOff x="1793160" y="230040"/>
              <a:chExt cx="6030720" cy="1713600"/>
            </a:xfrm>
          </p:grpSpPr>
          <p:sp>
            <p:nvSpPr>
              <p:cNvPr id="44" name=""/>
              <p:cNvSpPr txBox="1"/>
              <p:nvPr/>
            </p:nvSpPr>
            <p:spPr>
              <a:xfrm>
                <a:off x="1793160" y="230040"/>
                <a:ext cx="6030720" cy="489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Up">
                  <a:avLst>
                    <a:gd name="adj" fmla="val 999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520402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  <a:effectLst>
                      <a:outerShdw dist="153753" dir="2700000" blurRad="0" rotWithShape="0">
                        <a:srgbClr val="875b0d"/>
                      </a:outerShdw>
                    </a:effectLst>
                    <a:latin typeface="Arial Black"/>
                  </a:rPr>
                  <a:t>VERS L’INFINI…</a:t>
                </a:r>
                <a:endParaRPr b="0" lang="en-US" sz="24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00ff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45" name=""/>
              <p:cNvSpPr txBox="1"/>
              <p:nvPr/>
            </p:nvSpPr>
            <p:spPr>
              <a:xfrm>
                <a:off x="2285280" y="964440"/>
                <a:ext cx="4977000" cy="979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Up">
                  <a:avLst>
                    <a:gd name="adj" fmla="val 999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520402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  <a:effectLst>
                      <a:outerShdw dist="153753" dir="2700000" blurRad="0" rotWithShape="0">
                        <a:srgbClr val="875b0d"/>
                      </a:outerShdw>
                    </a:effectLst>
                    <a:latin typeface="Arial Black"/>
                  </a:rPr>
                  <a:t>ET PLUS LOIN ENCORE !</a:t>
                </a:r>
                <a:endParaRPr b="0" lang="en-US" sz="24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00ff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1670400" y="-3687480"/>
              <a:ext cx="2461320" cy="73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Sarah Sfei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5485680" y="-3687480"/>
              <a:ext cx="2830680" cy="97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Youri Lévesqu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304920"/>
            <a:ext cx="9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 DU PÉRIMÈTRE DE LA FRAC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438280"/>
            <a:ext cx="91440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752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+ Lk   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  k=1/alpha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0064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038480"/>
            <a:ext cx="8458200" cy="24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k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k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 (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 + 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k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*L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1</a:t>
            </a:r>
            <a:r>
              <a:rPr b="0" i="1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k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r>
              <a:rPr b="0" i="1" lang="fr-FR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n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0" lang="fr-CA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5867280"/>
            <a:ext cx="16002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9907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as du triangle d’un côté initial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124080"/>
            <a:ext cx="83059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 second niveau, nous avons que la nouvelle mesure de segment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(l</a:t>
            </a:r>
            <a:r>
              <a:rPr b="0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ou  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*(1 +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30492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 DU PÉRIMÈTRE DE LA FRAC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828800"/>
            <a:ext cx="91440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37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+ 2Lk   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  k=1/alpha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0064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048120"/>
            <a:ext cx="845820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2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2k(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k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kL + 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k +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●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 +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57913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*L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1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5638680"/>
            <a:ext cx="16002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9907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as du carré  de côté initial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209680"/>
            <a:ext cx="79246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 second niveau, nous avons que la nouvelle mesure de segment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   (l</a:t>
            </a:r>
            <a:r>
              <a:rPr b="0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2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ou  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*(1 + 2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Times New Roman"/>
              </a:rPr>
              <a:t>Cas général du périmètre à </a:t>
            </a:r>
            <a:r>
              <a:rPr b="0" i="1" lang="fr-CA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fr-CA" sz="4400" spc="-1" strike="noStrike">
                <a:solidFill>
                  <a:srgbClr val="ffffff"/>
                </a:solidFill>
                <a:latin typeface="Times New Roman"/>
              </a:rPr>
              <a:t> côtés, d’une fractale de mesure </a:t>
            </a:r>
            <a:r>
              <a:rPr b="0" i="1" lang="fr-CA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fr-CA" sz="4400" spc="-1" strike="noStrike">
                <a:solidFill>
                  <a:srgbClr val="ffffff"/>
                </a:solidFill>
                <a:latin typeface="Times New Roman"/>
              </a:rPr>
              <a:t> de côté initial, à un alpha </a:t>
            </a:r>
            <a:r>
              <a:rPr b="0" i="1" lang="fr-CA" sz="4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fr-CA" sz="4400" spc="-1" strike="noStrike">
                <a:solidFill>
                  <a:srgbClr val="ffffff"/>
                </a:solidFill>
                <a:latin typeface="Times New Roman"/>
              </a:rPr>
              <a:t> donné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657600"/>
            <a:ext cx="723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5500" spc="-1" strike="noStrike">
                <a:solidFill>
                  <a:srgbClr val="ffffff"/>
                </a:solidFill>
                <a:latin typeface="Georgia"/>
                <a:ea typeface="Times New Roman"/>
              </a:rPr>
              <a:t>P = c*L  [(c - 2)k  + 1]</a:t>
            </a:r>
            <a:r>
              <a:rPr b="0" i="1" lang="nl-NL" sz="5500" spc="-1" strike="noStrike" baseline="30000">
                <a:solidFill>
                  <a:srgbClr val="ffffff"/>
                </a:solidFill>
                <a:latin typeface="Georgia"/>
                <a:ea typeface="Times New Roman"/>
              </a:rPr>
              <a:t>n</a:t>
            </a:r>
            <a:r>
              <a:rPr b="0" lang="fr-CA" sz="5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cc"/>
                </a:solidFill>
                <a:latin typeface="Times New Roman"/>
              </a:rPr>
              <a:t>CALCUL DE L’AIRE DE LA FRACTAL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 on remplace Aire du triangle pa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320" y="10890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Cas du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67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765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52280" y="1752480"/>
                <a:ext cx="8534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∗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∗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∗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295280" y="3276720"/>
                <a:ext cx="6381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295280" y="4343400"/>
                <a:ext cx="50720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295280" y="5410080"/>
                <a:ext cx="38102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CUL DE L’AIRE DE LA FRAC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ultiplions S par un facteu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38080" y="1371600"/>
                <a:ext cx="51595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85800" y="2666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ons: t = 4/9   Alors…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38080" y="3200400"/>
                <a:ext cx="43815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57200" y="4038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ultiplions par t de chaque côté de l’égalité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38080" y="4648320"/>
                <a:ext cx="47070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CUL DE L’AIRE DE LA FRAC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ffectuons 4S-4S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514600" y="1447920"/>
                <a:ext cx="3962520" cy="29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43000" y="5029200"/>
                <a:ext cx="655308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i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4</m:t>
                                        </m:r>
                                      </m:num>
                                      <m:den>
                                        <m:r>
                                          <m:t xml:space="preserve">9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i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3124080" y="4495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ire du trian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cc"/>
                </a:solidFill>
                <a:latin typeface="Times New Roman"/>
              </a:rPr>
              <a:t>FORMULE GÉNÉRALE DE L’AIRE POUR UN ALPHA ÉGAL À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52280" y="3657600"/>
                <a:ext cx="899172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i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lygon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rPr>
                            <m:lit/>
                            <m:nor/>
                          </m:rPr>
                          <m:t xml:space="preserve">é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b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é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b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t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és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9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étape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rPr>
                            <m:lit/>
                            <m:nor/>
                          </m:rPr>
                          <m:t xml:space="preserve">é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b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é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i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lygon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xpérimentatio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actale dans L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/>
          </p:cNvPr>
          <p:cNvSpPr/>
          <p:nvPr/>
        </p:nvSpPr>
        <p:spPr>
          <a:xfrm>
            <a:off x="685800" y="30481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Graphiques dans Exc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Forces du pr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Très visu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En plus des graphiques, nous avons une image de l’objet à l’étu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666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Très simple à util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3352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Matériel interac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40384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Les aspects Mathématiques/Informatiques/Didactiques sont intéressants pour les professeurs et aussi pour les élèves (formules, gestion de l’infini, récursivit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56386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Fait place à la recherche (les superpositions, l’aire pour un alpha autre que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Limites du pr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Les fichiers Logo sont difficiles à manipu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096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On ne peut travailler avec des nombres autres que entiers pour les longueurs de cô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4290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Le logiciel Excel ne permet pas de traiter le cas particulier de c=8 dans le même graphique que les autres 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181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ccffff"/>
                </a:solidFill>
                <a:latin typeface="Times New Roman"/>
              </a:rPr>
              <a:t>Le logiciel </a:t>
            </a:r>
            <a:r>
              <a:rPr b="0" i="1" lang="fr-CA" sz="2800" spc="-1" strike="noStrike">
                <a:solidFill>
                  <a:srgbClr val="ccffff"/>
                </a:solidFill>
                <a:latin typeface="Times New Roman"/>
              </a:rPr>
              <a:t>Terrapin Logo</a:t>
            </a:r>
            <a:r>
              <a:rPr b="0" lang="fr-CA" sz="2800" spc="-1" strike="noStrike">
                <a:solidFill>
                  <a:srgbClr val="ccffff"/>
                </a:solidFill>
                <a:latin typeface="Times New Roman"/>
              </a:rPr>
              <a:t> devient très lent lorsque le nombre d’étapes dépasse 5 (Mais…c’est compréhensibl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Times New Roman"/>
              </a:rPr>
              <a:t>Déroulement de la présenta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À qui s’adresse ce proj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Définition de fract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La mécanique grâce à « L’acte de foi 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Calcul de périmètre et d’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Expéri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Forces / lim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Conclu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Période d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Times New Roman"/>
              </a:rPr>
              <a:t>Quleques difficultés rencontré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us avons dû faire un choix entre le calcul précis du périmètre et celui de l’ai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971800"/>
            <a:ext cx="67816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fiance en « l’Acte de foi… 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733920"/>
            <a:ext cx="70102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tement des superpos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44197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formule du calcul de l’aire était difficile à coder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À qui s’adresse ce proj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À vous, à nous, à tout le monde!  Mais  plus particulière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x enseigna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x étudiants du C.E.G.E.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x étudiants du deuxième cycle du  secondaire qui s’intéressent au su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Mais qu’est-ce qu’un(e) fractal(e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On nomme fractale (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nom féminin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) une courbe ou surface de forme irrégulière ou morcelée qui se crée en suivant des règles déterminis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15228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éristiques d’un objet fra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14300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Un objet fractal possèd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au moins l'une des caractéristiques suivantes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05740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l a des détails similaires à des échelles arbitrairement petit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ou gr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26708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9718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l est trop irrégulier pour être décrit efficacement en termes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géométriques traditionn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886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cc00"/>
                </a:solidFill>
                <a:latin typeface="Times New Roman"/>
              </a:rPr>
              <a:t>Il est exactement ou statistiquement autosimilaire c'est-à-dire</a:t>
            </a:r>
            <a:br>
              <a:rPr sz="2400"/>
            </a:br>
            <a:r>
              <a:rPr b="0" lang="fr-CA" sz="2400" spc="-1" strike="noStrike">
                <a:solidFill>
                  <a:srgbClr val="ffcc00"/>
                </a:solidFill>
                <a:latin typeface="Times New Roman"/>
              </a:rPr>
              <a:t> que le tout est semblable à une de ses pa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4800600"/>
            <a:ext cx="8229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Il existe d’autres caractéristiques nous permettant de déterminer des objets fractals, mais les trois premières sont les princip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70360" y="2057400"/>
            <a:ext cx="26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En voici quelques exempl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feuille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180504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120px-Fractale_de_mandelbroot" descr=""/>
          <p:cNvPicPr/>
          <p:nvPr/>
        </p:nvPicPr>
        <p:blipFill>
          <a:blip r:embed="rId3"/>
          <a:stretch/>
        </p:blipFill>
        <p:spPr>
          <a:xfrm>
            <a:off x="4800600" y="1447920"/>
            <a:ext cx="2895480" cy="2361960"/>
          </a:xfrm>
          <a:prstGeom prst="rect">
            <a:avLst/>
          </a:prstGeom>
          <a:ln w="0">
            <a:noFill/>
          </a:ln>
        </p:spPr>
      </p:pic>
      <p:pic>
        <p:nvPicPr>
          <p:cNvPr id="70" name="Menger_sponge_%2528IFS%2529" descr=""/>
          <p:cNvPicPr/>
          <p:nvPr/>
        </p:nvPicPr>
        <p:blipFill>
          <a:blip r:embed="rId4"/>
          <a:stretch/>
        </p:blipFill>
        <p:spPr>
          <a:xfrm>
            <a:off x="914400" y="3848040"/>
            <a:ext cx="3009960" cy="3009960"/>
          </a:xfrm>
          <a:prstGeom prst="rect">
            <a:avLst/>
          </a:prstGeom>
          <a:ln w="0">
            <a:noFill/>
          </a:ln>
        </p:spPr>
      </p:pic>
      <p:pic>
        <p:nvPicPr>
          <p:cNvPr id="71" name="sierpinski" descr=""/>
          <p:cNvPicPr/>
          <p:nvPr/>
        </p:nvPicPr>
        <p:blipFill>
          <a:blip r:embed="rId5"/>
          <a:stretch/>
        </p:blipFill>
        <p:spPr>
          <a:xfrm>
            <a:off x="4800600" y="3932280"/>
            <a:ext cx="28321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Times New Roman"/>
              </a:rPr>
              <a:t>Notre programm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286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Le but poursuiv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0" y="3276720"/>
          <a:ext cx="3314880" cy="310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3276720"/>
                    <a:ext cx="331488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es principes fondateur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057400" y="2286000"/>
          <a:ext cx="20289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2286000"/>
                    <a:ext cx="2028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762120" y="2514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Étape 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Étape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172200" y="2209680"/>
          <a:ext cx="2311560" cy="250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2209680"/>
                    <a:ext cx="23115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62120" y="4648320"/>
            <a:ext cx="7924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 clic de souris permet de passer à l’étape suiv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 variable « clics » (qui vaut 0 au départ, augmente de 1 à chaque clic du bouton niv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60680" y="380880"/>
            <a:ext cx="611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572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’Acte de Foi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angle récursif, pour comprendre le travail des lut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14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7 nains" descr=""/>
          <p:cNvPicPr/>
          <p:nvPr/>
        </p:nvPicPr>
        <p:blipFill>
          <a:blip r:embed="rId3"/>
          <a:stretch/>
        </p:blipFill>
        <p:spPr>
          <a:xfrm>
            <a:off x="0" y="2133720"/>
            <a:ext cx="960120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1:15:18Z</dcterms:created>
  <dc:creator>installation</dc:creator>
  <dc:description/>
  <dc:language>en-US</dc:language>
  <cp:lastModifiedBy>Linda Lemieux</cp:lastModifiedBy>
  <dcterms:modified xsi:type="dcterms:W3CDTF">2005-04-29T19:23:15Z</dcterms:modified>
  <cp:revision>16</cp:revision>
  <dc:subject/>
  <dc:title>Présentation PowerPoint</dc:title>
</cp:coreProperties>
</file>