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BB3B-8CEA-4D5A-B398-53A3C27B8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E921-2209-4275-BEDD-48C168767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8CED-80BA-41CD-98C4-C2DEF1BA9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3E88-55AB-4303-9DF9-441A19AD4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6955-A91D-4A0E-9182-DFD853DA4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5A13-7596-4A84-A659-7C386F54E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178A-A67F-4998-8B10-AEDECCB0B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A3C9-D190-4BDD-9D24-6FCE7E022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0C8F-BF1E-43C4-BD32-3012E62E8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A33C-E3EC-42A4-940B-9070F87D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2B2D-DB79-4559-9F18-F8BB699B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5633-6316-4A1E-A8F9-4F0BC240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51EC9-7E1E-49D5-8060-A781A2D119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Projetversionfinale.xls" TargetMode="Externa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Projetversionfinale.xls" TargetMode="Externa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Projetversionfinale.xls" TargetMode="Externa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Projetversionfinale.xls" TargetMode="External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file:///Projetversionfinale.xls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S02064_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286000" y="1752480"/>
            <a:ext cx="4114800" cy="4095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 Traceur de Courbes Exce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Concepteur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Mathieu Lajeunes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Philippe Sabour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Sans%20titr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342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172200" y="380880"/>
            <a:ext cx="2666880" cy="1905120"/>
          </a:xfrm>
          <a:prstGeom prst="wedgeRectCallout">
            <a:avLst>
              <a:gd name="adj1" fmla="val -84462"/>
              <a:gd name="adj2" fmla="val 1131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Maman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C’EST FINIIIIIiiiii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étences Travaillé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rquoi ce proje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étence informat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étence didact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BD00028_" descr=""/>
          <p:cNvPicPr/>
          <p:nvPr/>
        </p:nvPicPr>
        <p:blipFill>
          <a:blip r:embed="rId1"/>
          <a:stretch/>
        </p:blipFill>
        <p:spPr>
          <a:xfrm>
            <a:off x="5562720" y="1676520"/>
            <a:ext cx="2057400" cy="19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é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ésentation du Trace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ité 1: Courbes mystère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ité 2: Où suis-j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élio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BD06790_" descr=""/>
          <p:cNvPicPr/>
          <p:nvPr/>
        </p:nvPicPr>
        <p:blipFill>
          <a:blip r:embed="rId1"/>
          <a:stretch/>
        </p:blipFill>
        <p:spPr>
          <a:xfrm>
            <a:off x="5486400" y="3276720"/>
            <a:ext cx="1812960" cy="149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ésentation du Traceu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ésentation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émon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éri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BD04972_" descr=""/>
          <p:cNvPicPr/>
          <p:nvPr/>
        </p:nvPicPr>
        <p:blipFill>
          <a:blip r:embed="rId2"/>
          <a:stretch/>
        </p:blipFill>
        <p:spPr>
          <a:xfrm>
            <a:off x="4419720" y="2133720"/>
            <a:ext cx="3762360" cy="33541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495680" y="5486400"/>
            <a:ext cx="335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évision des ventes : Traceur de Courbes Excel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M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é 1: Courbes Mystè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ésentation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émon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éri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E01832_" descr=""/>
          <p:cNvPicPr/>
          <p:nvPr/>
        </p:nvPicPr>
        <p:blipFill>
          <a:blip r:embed="rId2"/>
          <a:stretch/>
        </p:blipFill>
        <p:spPr>
          <a:xfrm>
            <a:off x="4191120" y="2057400"/>
            <a:ext cx="403848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é 2: Où suis-j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ésentation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émon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éri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E01682_" descr=""/>
          <p:cNvPicPr/>
          <p:nvPr/>
        </p:nvPicPr>
        <p:blipFill>
          <a:blip r:embed="rId2"/>
          <a:stretch/>
        </p:blipFill>
        <p:spPr>
          <a:xfrm>
            <a:off x="4876920" y="2057400"/>
            <a:ext cx="35463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lques limi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 variables ne peuvent prendre la valeur de nombres irrationne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ne peut entrer que des fonctions continu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 programme calcule toutes les tables de valeurs à chaque mise à jou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ne génère que 2 types de fonction aléatoirement. (Activités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BS00580_" descr=""/>
          <p:cNvPicPr/>
          <p:nvPr/>
        </p:nvPicPr>
        <p:blipFill>
          <a:blip r:embed="rId2"/>
          <a:stretch/>
        </p:blipFill>
        <p:spPr>
          <a:xfrm>
            <a:off x="6553080" y="533520"/>
            <a:ext cx="1677960" cy="14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BS00561_" descr=""/>
          <p:cNvPicPr/>
          <p:nvPr/>
        </p:nvPicPr>
        <p:blipFill>
          <a:blip r:embed="rId1"/>
          <a:stretch/>
        </p:blipFill>
        <p:spPr>
          <a:xfrm>
            <a:off x="685800" y="576360"/>
            <a:ext cx="7086600" cy="5202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 amélior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énérer aléatoirement d’autres types de fonction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ilisation plus conviviale du logici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culer seulement les fonctions à afficher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ici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itation du jou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95280" y="2666880"/>
            <a:ext cx="6629400" cy="24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si l'école ça rendait 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Les hommes libres et égaux, 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L'gouvernement décid'rait </a:t>
            </a:r>
            <a:br>
              <a:rPr sz="2400"/>
            </a:b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Qu'c'est pas bon pour les marmot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Renaud Séchan / Julien Clerc </a:t>
            </a:r>
            <a:br>
              <a:rPr sz="1400"/>
            </a:b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Extrait de l'album "À La Belle De Mai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6T16:23:03Z</dcterms:created>
  <dc:creator>installation</dc:creator>
  <dc:description/>
  <dc:language>en-US</dc:language>
  <cp:lastModifiedBy>installation</cp:lastModifiedBy>
  <dcterms:modified xsi:type="dcterms:W3CDTF">2005-05-06T21:00:26Z</dcterms:modified>
  <cp:revision>18</cp:revision>
  <dc:subject/>
  <dc:title>Le Traceur de Courbes ExcelTM</dc:title>
</cp:coreProperties>
</file>