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F80-B098-429B-B187-C2C15678D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8E2-1AE8-4B2B-964E-06FE1117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981F-5E31-492D-B5D6-8F4392FD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EA05-1450-43C9-A821-AF0B7C9C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C133-E973-47BD-A7BD-2DF4D6A73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B62B-A6E9-4B0A-B55F-088C4C38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54A6-E1CF-4FD8-B1B2-14EB0878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B704-970B-4EC3-A201-E43A3786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67EA-5EE5-4722-B904-75DCFB87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6472-8599-49E4-8438-88922A64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74EB-2C67-4B5B-915D-02FA491C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19F5-E5BC-408C-AC0D-D4BA8443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76F3-5ABE-45C5-8C41-0487387C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E3270-E1A1-4E61-9B70-05604192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90CF-986C-43AF-9325-BB61F1AF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AF65-CF87-4D6A-BB66-CB78AE78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4EE5-FE19-4B9B-87BA-C0C6D968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D22-8F87-43FE-9665-59D545D7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5282-527A-4430-9FD9-2FF24F334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C3F-4C8F-4EEC-ACF6-9C4E6719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691-5822-413D-825B-0CE9787E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8262-7AC3-4C6A-BF40-510C18F4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9CE9-535D-4304-A05A-07A9E120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BEF-508A-4E8A-9C83-3D72AB89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EFB2-A601-44A7-9CC3-B17DAE1F8C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E19A-FD6C-41FB-B97B-EF7A034DE6CD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838188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Un Maple de fer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860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tude de fonctions polynom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degré 0 à 3 dans Ma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838188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dans un Maplet de velours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ifficultés rencontré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Maplet Builder est encore frag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Il ressemble en réalité à une version </a:t>
            </a:r>
            <a:r>
              <a:rPr b="0" i="1" lang="fr-FR" sz="2300" spc="-1" strike="noStrike">
                <a:solidFill>
                  <a:srgbClr val="000000"/>
                </a:solidFill>
                <a:latin typeface="Times New Roman"/>
              </a:rPr>
              <a:t>beta</a:t>
            </a: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plus qu’à un programme fini. </a:t>
            </a:r>
            <a:r>
              <a:rPr b="0" lang="fr-FR" sz="2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xemples 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 fonction « Run » pourtant très pratique n’est pas entièrement intégré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l n’y a pas de « Annuler » (le fameux Ctrl+Z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e débogage se fait entièrement à partir du code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ifficultés inhérentes à travailler avec un langage nouveau et inconnu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ifficultés à bien « joindre » les procédures de la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</a:rPr>
              <a:t>worksheet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t le Mapl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arqu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ême lorsqu’on veut le rendre plus convivial, Maple affiche ses limit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Utilisation d’un bouton par fen</a:t>
            </a:r>
            <a:r>
              <a:rPr b="0" lang="fr-FR" sz="2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être (Target=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e supporte par l’affichage de matrices dans les modules MathM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ertaines options doivent être découvertes en analysant le code (comme les background ou certains fonts)</a:t>
            </a:r>
            <a:br>
              <a:rPr sz="2300"/>
            </a:b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support a été excellent de la part de la compagnie MapleSoft Inc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existe des forums de discussion fréquentés par des usagers chevronnés et enclins à apporter leur a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arqu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ourquoi ne pas avoir utiliser toute la puissance de Maple ? (par exemple, la fonction solve )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Aucun défi au niveau mathématique</a:t>
            </a:r>
            <a:br>
              <a:rPr sz="2300"/>
            </a:b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Code proche de la démarche employée</a:t>
            </a:r>
            <a:br>
              <a:rPr sz="2300"/>
            </a:b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Code facilement traduisible dans d’autres langages de programmation (à condition qu’ils supportent les complexes)</a:t>
            </a:r>
            <a:br>
              <a:rPr sz="2300"/>
            </a:br>
            <a:r>
              <a:rPr b="0" lang="fr-FR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Par exemple, la traduction du code pour la calculatrice Ti-83 est presque direc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le de démocratis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on utilisation est en effet de plus en plus faci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on interface est de plus en plus convivia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Prix prohibitif 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sponibilité dans les école secondaire 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érience fort agré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Nouveau langag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Êtes-vous convaincus 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uvelle version attendue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3200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tude de fonctions polynomiales de degré 3 ou mo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age et environnement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aterloo Maple 10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f : rendre l’environnement Maple plus conv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9880" y="2044800"/>
            <a:ext cx="5105520" cy="36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ourquoi Maple 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 puissance et sa polyvalenc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traçage des cour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524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Puissant, joli et précis</a:t>
            </a:r>
            <a:br>
              <a:rPr sz="2100"/>
            </a:br>
            <a:r>
              <a:rPr b="0" lang="fr-FR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fi d’apprendre un langage qui m’était essentiellement inconnu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ffrir à tous la chance d’aborder une nouvelle perspective de Maple avec les Map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3280" y="2565360"/>
            <a:ext cx="42674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e program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9436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Un peu d’histoire…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cipione Del Ferro (1465 - 1526) découvre comment résoudre des poly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ômes du type :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Nicola Fontana, dit Tartaglia (1500? - 1557) trouve comment résoudre le poly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ôme plus général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l confie sa solution à Girolamo Cardano (1501-1576) qui la publie dans son </a:t>
            </a:r>
            <a:r>
              <a:rPr b="0" i="1" lang="fr-FR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s Mag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00000" y="2421000"/>
                <a:ext cx="2828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00000" y="4221000"/>
                <a:ext cx="52912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essieurs les mathématicien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43600" y="15998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tag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438280"/>
            <a:ext cx="4038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mbe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2016360" cy="2743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508720" y="2205000"/>
            <a:ext cx="2944800" cy="3581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987640" y="3068640"/>
            <a:ext cx="18050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ombres complex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ème rencontré : les nombres complex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les admets de façon temporaire, parce qu’ils mènent vers une solution réelle, mais il faut attendre les travaux de Rafael Bombelli (1526-1573) pour systématiser leur utilis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lques bons souveni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Times New Roman"/>
              </a:rPr>
              <a:t>Le r</a:t>
            </a:r>
            <a:r>
              <a:rPr b="0" lang="fr-FR" sz="3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ôle du discrimina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é deu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scriminant positif :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ux zéros réel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scriminant nul 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ux zéros réels confondu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scriminant négatif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mbres complex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ux zéros complex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é tro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scriminant positif :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Un seul zéro réel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scriminant nul 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eux zéros réel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iscriminant négatif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Nombres complex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24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rois zéros réel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ratégies employé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terminer d’abord dans quelle situation on se trouve 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À l’aide de conditionnelles, déterminer ensuite quelle fonction du programme utilis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faut une compréhension impeccable du comportement des fonctions étudié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19:55:20Z</dcterms:created>
  <dc:creator>LAMISS UQAM</dc:creator>
  <dc:description/>
  <dc:language>en-US</dc:language>
  <cp:lastModifiedBy>Simon Laurent</cp:lastModifiedBy>
  <dcterms:modified xsi:type="dcterms:W3CDTF">2006-04-11T02:30:54Z</dcterms:modified>
  <cp:revision>12</cp:revision>
  <dc:subject/>
  <dc:title>Un Maple de fer  … dans un Maplet de velours !</dc:title>
</cp:coreProperties>
</file>