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0C6-F9FF-4B4A-B15B-9EB794CE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506-319D-4E82-8B90-E2A57022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E8B-CBFE-4D60-B3ED-96E2E232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406-5196-446B-9DDE-B76417B6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EA09-4B5A-4CE6-BE71-BBDB9C8B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FCC1-9CF0-4831-B985-699C8936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8462-439A-420D-9320-3B01F273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B581-7C1C-4BDF-8B68-9ABF7BA4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7898-B81C-401F-9712-7360C34D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F6CA-00C4-44A1-805D-8B89DEB5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3E93-760F-4A8B-89FA-86CEEFC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3B1-8554-4CA2-BF6E-272A8080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11D5-1B92-4809-8BE6-9CE3213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C402-70F7-46B8-9714-3831EB2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80E9-368F-4706-9BBA-E9680C2F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AE65-DAE3-4BEC-BE5A-C973BC09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6A75-6657-4FC2-A22E-1DA1A838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DF9-76B8-4F01-B325-293CCDD1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839-08E8-49BC-9DA8-857587E0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985-F52D-41C9-8855-122744D5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B3C-189E-4B7B-AFA9-A7347F50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51F-72BB-4778-818C-883EA8CD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9A9-FCE6-48A2-9928-DFA2C3EF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614-FD2A-4F16-AF6F-EC2F69AC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0000"/>
                </a:solidFill>
                <a:latin typeface="Times New Roman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0000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0000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3EA-A154-44C9-99A3-DC6554F8A3F1}" type="slidenum">
              <a:rPr b="0" lang="fr-FR" sz="1400" spc="-1" strike="noStrike">
                <a:solidFill>
                  <a:srgbClr val="33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0000"/>
                </a:solidFill>
                <a:latin typeface="Times New Roman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0000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0000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5190-6D17-487B-B487-25359777C7B6}" type="slidenum">
              <a:rPr b="0" lang="de-DE" sz="1400" spc="-1" strike="noStrike">
                <a:solidFill>
                  <a:srgbClr val="33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nombre%20d&apos;or.xls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modulor.jpg" TargetMode="External"/><Relationship Id="rId4" Type="http://schemas.openxmlformats.org/officeDocument/2006/relationships/hyperlink" Target="file:///unite_nombre_dor.gif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spirale.fig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exploration%20du%20nombre%20d&apos;or.fig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RectangleDor/RectangleDor.jar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Paradoxe%20des%20aires.fig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exploration%20du%20nombre%20d&apos;or.fi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Le nombre d’or et la beaut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é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 des math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é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matiques !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00"/>
                </a:solidFill>
                <a:latin typeface="Arial"/>
                <a:ea typeface="Arial"/>
              </a:rPr>
              <a:t>Travail réalisé par</a:t>
            </a:r>
            <a:r>
              <a:rPr b="0" lang="fr-FR" sz="3200" spc="-1" strike="noStrike">
                <a:solidFill>
                  <a:srgbClr val="33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00"/>
                </a:solidFill>
                <a:latin typeface="Arial"/>
                <a:ea typeface="Arial"/>
              </a:rPr>
              <a:t>Josée Dupras-Labell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00"/>
                </a:solidFill>
                <a:latin typeface="Arial"/>
                <a:ea typeface="Arial"/>
              </a:rPr>
              <a:t>Marjolaine Gagné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Activités d’introduction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 au nombre d’or au secondair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Arial"/>
              </a:rPr>
              <a:t>thétiq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e du rectangl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apports secondaire 2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atistiques secondaire 2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aradoxe des air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Arial"/>
              </a:rPr>
              <a:t>Géométrie secondai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pproximation des suit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ites secondaire 1, enrichiss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Activités d’introduction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 au nombre d’or au secondair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struction d’un pentago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Arial"/>
              </a:rPr>
              <a:t>réguli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Arial"/>
              </a:rPr>
              <a:t>Géométrie secondaire 2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rouver rapports harmonieux dans le corps huma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atistiques secondaire 2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pirale d’o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apports secondaire 2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Arial"/>
              </a:rPr>
              <a:t>Géométrie secondaire 2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330000"/>
                </a:solidFill>
                <a:latin typeface="Arial"/>
              </a:rPr>
              <a:t>Restons subjectifs </a:t>
            </a:r>
            <a:r>
              <a:rPr b="0" lang="fr-CA" sz="4000" spc="-1" strike="noStrike">
                <a:solidFill>
                  <a:srgbClr val="330000"/>
                </a:solidFill>
                <a:latin typeface="Arial"/>
                <a:ea typeface="Arial"/>
              </a:rPr>
              <a:t>face à cette beauté !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La beauté des mathématique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  <a:ea typeface="Arial"/>
              </a:rPr>
              <a:t>La beauté des mathématiques a été un élément étudié 500 ans avant Jésus-Christ. Pythagore était convaincu que la beauté de la nature résidait dans le fait qu’on y retrouvait de beaux rapport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La beaut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é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 des math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é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matique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 nombre d’or: un beau nombre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La beaut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é 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des ma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thé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matique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  <a:ea typeface="Arial"/>
              </a:rPr>
              <a:t>Mais qu’est-ce que la beauté 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Arial"/>
              </a:rPr>
              <a:t>Esthétiqu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Arial"/>
              </a:rPr>
              <a:t>Beauté des équa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Arial"/>
              </a:rPr>
              <a:t>Beauté de pouvoir expliquer les chos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  <a:ea typeface="Arial"/>
              </a:rPr>
              <a:t>Beauté dans la natur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Esth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éti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qu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L’esthétique du rectangle d’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Beauté des équation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3128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e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  <a:ea typeface="Arial"/>
              </a:rPr>
              <a:t>propriétés du nombre d’o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71640" y="3500280"/>
                <a:ext cx="1828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00000" y="2421000"/>
                <a:ext cx="17528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71640" y="4292640"/>
                <a:ext cx="2232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971640" y="5084640"/>
                <a:ext cx="2232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932360" y="3645000"/>
                <a:ext cx="1081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  <a:ea typeface="Arial"/>
              </a:rPr>
              <a:t>Beauté de pouvoir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 expliquer les chose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radoxe des air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0000"/>
                </a:solidFill>
                <a:latin typeface="Arial"/>
              </a:rPr>
              <a:t>Beaut</a:t>
            </a:r>
            <a:r>
              <a:rPr b="0" lang="fr-CA" sz="4400" spc="-1" strike="noStrike">
                <a:solidFill>
                  <a:srgbClr val="330000"/>
                </a:solidFill>
                <a:latin typeface="Arial"/>
                <a:ea typeface="Arial"/>
              </a:rPr>
              <a:t>é</a:t>
            </a:r>
            <a:r>
              <a:rPr b="0" lang="fr-CA" sz="4400" spc="-1" strike="noStrike">
                <a:solidFill>
                  <a:srgbClr val="330000"/>
                </a:solidFill>
                <a:latin typeface="Arial"/>
              </a:rPr>
              <a:t> dans la natur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2235240" cy="2950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40360" y="2133720"/>
            <a:ext cx="380988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692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0000"/>
                </a:solidFill>
                <a:latin typeface="Arial"/>
                <a:ea typeface="Arial"/>
              </a:rPr>
              <a:t>Activités d’introduction</a:t>
            </a:r>
            <a:r>
              <a:rPr b="0" lang="fr-FR" sz="4400" spc="-1" strike="noStrike">
                <a:solidFill>
                  <a:srgbClr val="330000"/>
                </a:solidFill>
                <a:latin typeface="Arial"/>
              </a:rPr>
              <a:t> au nombre d’or au secondair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Définition du nombre d’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0000"/>
                </a:solidFill>
                <a:latin typeface="Arial"/>
                <a:ea typeface="Arial"/>
              </a:rPr>
              <a:t>Rapport secondaire 2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4:23:39Z</dcterms:created>
  <dc:creator>LAMISS UQAM</dc:creator>
  <dc:description/>
  <dc:language>en-US</dc:language>
  <cp:lastModifiedBy>Josie</cp:lastModifiedBy>
  <dcterms:modified xsi:type="dcterms:W3CDTF">2006-04-17T16:47:28Z</dcterms:modified>
  <cp:revision>19</cp:revision>
  <dc:subject/>
  <dc:title>titre</dc:title>
</cp:coreProperties>
</file>