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C07-BADD-44A0-AC2C-923381D1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B83-B249-4643-BEE2-5FB60FCA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A3E-F11F-47B2-88B9-68792039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702-584D-41F6-A491-BD5CC296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644-9EB0-43E8-98A1-E49B179F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E0C-0159-4DDB-98DC-123917A9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937E-01B4-4A46-9E4B-E246AB8F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B9FC-19D0-4DFD-AB81-7055A46A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DF7-93B9-47C1-BEFE-E868FD44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BF3A-A6AC-44A8-BBCD-57A23DC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E350-164B-449D-AB45-43A66A0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AF5-EAF1-485B-878C-E3C5BE8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AC0-2FA3-44CC-930E-1FED5B4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852B-E54B-4FAF-85B5-537DA6B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1121-BBB3-480C-B4BE-DEA41189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3462-3613-4F3C-9413-D6969753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D24E-8B25-4776-BFCD-F89EDFFA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69D-3289-427B-AF7F-47C8E1C5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C99-30C9-4BD4-ACAA-119B7137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A16-A418-40CC-B04D-E7C55BA0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42A-EBF8-4973-BE0E-7A104A72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B81-CE2A-4FDE-9641-B772AC3B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70C-3EC5-4C52-8F1B-C4181E3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C63-8B0E-4160-96DD-89422DE9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FAC-12F7-4E94-9B1E-34E3F62CD9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5D0C-51BB-47D7-941F-AF1400C6415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66ccff"/>
                </a:solidFill>
                <a:latin typeface="Andy"/>
              </a:rPr>
              <a:t>Une image vaut </a:t>
            </a:r>
            <a:br>
              <a:rPr sz="6000"/>
            </a:br>
            <a:r>
              <a:rPr b="0" lang="fr-CA" sz="6000" spc="-1" strike="noStrike">
                <a:solidFill>
                  <a:srgbClr val="66ccff"/>
                </a:solidFill>
                <a:latin typeface="Andy"/>
              </a:rPr>
              <a:t>mille fonctions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3127" t="18512" r="46115" b="16016"/>
          <a:stretch/>
        </p:blipFill>
        <p:spPr>
          <a:xfrm>
            <a:off x="2195640" y="2284560"/>
            <a:ext cx="4608360" cy="4457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85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29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16200"/>
            <a:ext cx="40384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Description du proj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284720" y="1628640"/>
            <a:ext cx="47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Verdana"/>
              </a:rPr>
              <a:t>Programme Excel qui permet à son utilisateur d’afficher des fonctions et relations et d’en faire varier les paramètres et le doma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149720"/>
            <a:ext cx="3240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D’où m’est venu l’idée de ce proj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Fonctionnement du program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5914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Utilisation du 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Forces et faibless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1640" y="191628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ccecff"/>
                </a:solidFill>
                <a:latin typeface="Arial"/>
              </a:rPr>
              <a:t>Concepts et notions mathématiques utilisé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29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Équations des fonctions (linéaire, quadratique, valeur absolue et racine carré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29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Équations des relations (cercle et ellip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Domaine et codomaine des fonc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Domaine et codomaine des rela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179280" y="1989000"/>
            <a:ext cx="289080" cy="206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179280" y="3429000"/>
            <a:ext cx="289080" cy="206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179280" y="4292640"/>
            <a:ext cx="289080" cy="20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8"/>
          <a:stretch/>
        </p:blipFill>
        <p:spPr>
          <a:xfrm>
            <a:off x="179280" y="5229360"/>
            <a:ext cx="289080" cy="20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907920"/>
            <a:ext cx="8137440" cy="475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Les Fonctions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Linéaire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f(x) = a*(x-h)+k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Quadratique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f(x) = a*(x-h)^2+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Valeur absolue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f(x) = a*(ABS(b*(x-h)))+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Racine carrée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f(x) = 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a*(b*(x-h))^(1/2)+k)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981000"/>
            <a:ext cx="8137440" cy="489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Les Re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b76"/>
                </a:solidFill>
                <a:latin typeface="Arial"/>
              </a:rPr>
              <a:t>(Équations paramétriques)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Cercle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x = a * cos(</a:t>
            </a:r>
            <a:r>
              <a:rPr b="0" lang="fr-FR" sz="2800" spc="-1" strike="noStrike">
                <a:solidFill>
                  <a:srgbClr val="003b76"/>
                </a:solidFill>
                <a:latin typeface="Symbol"/>
                <a:ea typeface="Symbol"/>
              </a:rPr>
              <a:t>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) + h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3b76"/>
                </a:solidFill>
                <a:latin typeface="Arial"/>
              </a:rPr>
              <a:t>(a = mesure ray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y = a * sin(</a:t>
            </a:r>
            <a:r>
              <a:rPr b="0" lang="fr-FR" sz="2800" spc="-1" strike="noStrike">
                <a:solidFill>
                  <a:srgbClr val="003b76"/>
                </a:solidFill>
                <a:latin typeface="Symbol"/>
                <a:ea typeface="Symbol"/>
              </a:rPr>
              <a:t>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) +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Ellipse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x = 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a * cos(</a:t>
            </a:r>
            <a:r>
              <a:rPr b="0" lang="fr-FR" sz="2800" spc="-1" strike="noStrike">
                <a:solidFill>
                  <a:srgbClr val="003b76"/>
                </a:solidFill>
                <a:latin typeface="Symbol"/>
                <a:ea typeface="Symbol"/>
              </a:rPr>
              <a:t>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) + h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3b76"/>
                </a:solidFill>
                <a:latin typeface="Arial"/>
              </a:rPr>
              <a:t>(a = mesure demi grand axe)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3b76"/>
                </a:solidFill>
                <a:latin typeface="Arial"/>
              </a:rPr>
              <a:t>y = 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b * sin(</a:t>
            </a:r>
            <a:r>
              <a:rPr b="0" lang="fr-FR" sz="2800" spc="-1" strike="noStrike">
                <a:solidFill>
                  <a:srgbClr val="003b76"/>
                </a:solidFill>
                <a:latin typeface="Symbol"/>
                <a:ea typeface="Symbol"/>
              </a:rPr>
              <a:t></a:t>
            </a:r>
            <a:r>
              <a:rPr b="0" lang="fr-FR" sz="2800" spc="-1" strike="noStrike">
                <a:solidFill>
                  <a:srgbClr val="003b76"/>
                </a:solidFill>
                <a:latin typeface="Arial"/>
              </a:rPr>
              <a:t>) + k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fr-FR" sz="2000" spc="-1" strike="noStrike">
                <a:solidFill>
                  <a:srgbClr val="003b76"/>
                </a:solidFill>
                <a:latin typeface="Arial"/>
              </a:rPr>
              <a:t>(b =mesure demi petit axe)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Difficultés rencontré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Langage de programmation V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VBA (anglais) VS Excel(françai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Espace disponible dans une p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Conversion du domaine               fonctions </a:t>
            </a:r>
            <a:r>
              <a:rPr b="0" lang="fr-CA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 rel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Difficile de n’avoir qu’un seul ensemble de glissières pour toutes ces fonction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Attention aux boucles « for » 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Utilisation en class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’enseignant peut montrer une image aux élèves et leur demander de la reprodui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3127" t="18512" r="46307" b="16538"/>
          <a:stretch/>
        </p:blipFill>
        <p:spPr>
          <a:xfrm>
            <a:off x="1979640" y="1028880"/>
            <a:ext cx="5256360" cy="5064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273800" y="3009960"/>
            <a:ext cx="1835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Arial"/>
              </a:rPr>
              <a:t>GO!</a:t>
            </a:r>
            <a:r>
              <a:rPr b="1" lang="fr-CA" sz="6000" spc="-1" strike="noStrike">
                <a:solidFill>
                  <a:srgbClr val="ccecff"/>
                </a:solidFill>
                <a:latin typeface="Arial"/>
              </a:rPr>
              <a:t>     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009960"/>
            <a:ext cx="1800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0000"/>
                </a:solidFill>
                <a:latin typeface="Arial"/>
              </a:rPr>
              <a:t>GO!</a:t>
            </a:r>
            <a:r>
              <a:rPr b="1" lang="fr-CA" sz="6000" spc="-1" strike="noStrike">
                <a:solidFill>
                  <a:srgbClr val="ccecff"/>
                </a:solidFill>
                <a:latin typeface="Arial"/>
              </a:rPr>
              <a:t>     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remove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8:31:35Z</dcterms:created>
  <dc:creator>Mathieu Garault</dc:creator>
  <dc:description/>
  <dc:language>en-US</dc:language>
  <cp:lastModifiedBy>Mathieu Garault</cp:lastModifiedBy>
  <dcterms:modified xsi:type="dcterms:W3CDTF">2008-04-15T12:14:23Z</dcterms:modified>
  <cp:revision>16</cp:revision>
  <dc:subject/>
  <dc:title>Dessiner à l’aide de fonctions</dc:title>
</cp:coreProperties>
</file>