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gif" ContentType="image/gif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462-97CA-43CC-BAD2-2F0A2622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4B6-F7A6-43B9-889F-6F5C7269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6EB-B776-476E-87B9-8282A279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9F8-3CDE-4B42-97DF-76A6FD1C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803E-03A9-44BC-896D-BC3E8D28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F240-86AE-472D-BE67-47877E5E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FA21-8328-46CE-ABB7-606A8024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5D2-58E4-4A9A-BF67-A8D7BB6C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C81D-4041-433C-98DF-665223EA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F49D-804F-4035-B04D-043D8103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0911-EEB9-4317-BC53-70AF3B90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078-376B-4D77-BB3D-C58C6038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4975-05BA-41B0-ABA8-855FF5A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AEB2-150C-4A35-B221-10CAE293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6632-9110-436E-A7C8-0D90C828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B38A-BDF5-4A27-88BF-393A4F14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9E61-818C-4C6C-901E-7AA9BC23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7B46-5FEF-423D-AEAA-DE47D343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4EE1-C680-4076-81D3-663C8400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7ECC-5205-4C64-95E1-6BED17EE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9B38-3364-47D6-9115-3A7C0934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58D6-7F5E-4F11-B9FA-3323D8A7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682-BEF0-4D39-9B32-23FE185E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B539-7D5C-4CF1-9B12-2BC292E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637A-728B-4BC8-A089-1B3D1B4B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EC62-6B95-428F-91C6-A67EACAB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8005-E151-4EEF-9EFE-2A3EBD5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D9CC-424F-46C7-9A64-3DCF9B15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5D66-A359-460E-A2F3-C16ACCC2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EEF5-A82E-48EE-AE59-73761079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142E-D092-4F6C-B189-1CF58CBA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379B-9F19-4BA6-B477-1CBDAF83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8693-3AC7-46E2-A446-06C06C18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842-6B5B-4C6E-A4DA-6322429E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E4F95-306F-4261-9733-F0A72A90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4FB7-C039-4A05-93B8-105C4D7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60BE9-9155-4992-A9AD-88E06B67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FEFC-BBE8-46A8-99FF-1B69A43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D6CF5-5AD0-4883-AC04-9FB97AF8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33FC-077A-454E-B294-71C0AE2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C354-9059-4CA7-B7D3-3FD73374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633B-2D7E-4A75-ABDC-C3E7D7F5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3738-B1A3-46AE-BA08-1ECF6034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9F70F-E043-4372-86C9-3E70285E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105-7B87-4262-9059-F58DA85B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0532F-A750-4011-A3A4-458A8B43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0DF67-2F97-46DA-AFED-7A599533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70051-7D31-4219-A99C-52CF34E1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1EEF9-BE04-4C97-85DC-F4D7A0EA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56DF-08CA-43CF-A583-0A1D1E90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D9DE5-B5D4-4211-997F-5C759217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5CE49-40C0-4F5B-AE1D-D9751BE3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C7CCF-80DB-4286-90E8-E54ADE3D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8A0FF-FD62-4333-8049-161FB7C9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E8E91-A3DC-408C-8788-9DCEF7E6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9B7-4A29-43F6-964D-AE27734F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9147-D770-468A-A520-E927534D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2600E-E62C-4498-AFB0-B0715933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10578-A147-4298-A2AC-39BD09E9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5494D-956F-4BE1-8B6A-613E266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F42B3-E371-4272-A0B0-A8E2F6DA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642F8-E541-46F5-9FA9-BC13CF37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09794-958F-42D0-8B46-5939EDBF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68781-A9DD-4E10-BF14-C9A0512E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C887E-0758-4257-A227-2D6081DB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73318-40B2-4F2F-8B51-F77169D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F88-AC46-47BD-9A11-7B93159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06A87-8677-4A7C-A79C-FE41590B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140B9-8DA5-4C53-81D2-C88FFAC3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931AA-17D4-400F-A360-971DA7B9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D7F0-7F7B-4400-8F1A-947E9846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D971B-A53E-495E-AF9E-BF048EED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F6BB9-31C0-409D-AED1-F1790938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4F999-ABC7-4FA7-A996-ADD1DE1B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383A9-58FE-49D4-B9F6-129F3E3A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9D00B-4C90-40E0-8C13-CB5C8C49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0CCF0-AF0C-452F-8D49-D99F48BD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8CD-1FF7-466D-88A6-484E490E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CBB09-11FE-4C48-AC36-8604101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21921-F9D8-44EC-B598-486CC68A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BC792-17E9-4000-938B-B1544EAA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F6C97-B4E1-4161-A26E-6CD60BB7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9E42B-CCF8-40C8-BFD0-8A47DC32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2D67F-0F97-4CFC-BC16-F4F3D95C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87066-209E-48A1-A2AC-E569F90D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74603-3024-4332-914A-D89B7BC4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C156D-507D-4B78-8651-0C6BA71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E0D6-3FB9-4A62-81F3-4A734253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68D-B9FF-4DA0-94B7-4B08808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58F9-4245-42BC-8B35-985841D5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5A7A7-59A8-4B77-AB80-DDB1F73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57867-3811-4100-8DB7-5567431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695D8-87D7-4BC6-B2E8-D91F064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E5941-8917-4761-BB7B-0A8E3C28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9291-C05C-4268-A06D-4EA2104A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AF37-1965-4586-86BE-B7A545B8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BFB1-746F-4646-B41D-1EDF060C504A}" type="slidenum"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735B-97CD-487C-8789-80E829CF6D59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33D8-C899-4C37-BCA5-A857DFC39502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9B07-3588-4783-9594-4B13E5907545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A143-B902-4532-ACB1-63B6DE2BCFD0}" type="slidenum"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3A5F-8AEA-484D-8BB2-987FF0CED88D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B352-0ABE-49A7-813B-93BD86C19724}" type="slidenum"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7636-C1DB-4D86-8233-1B873AA57678}" type="slidenum">
              <a:rPr b="0" lang="fr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image" Target="../media/image15.png"/><Relationship Id="rId4" Type="http://schemas.openxmlformats.org/officeDocument/2006/relationships/slide" Target="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603440"/>
            <a:ext cx="8137440" cy="1474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464646"/>
                </a:solidFill>
                <a:latin typeface="Lucida Sans Unicode"/>
              </a:rPr>
              <a:t>Présentation du projet fi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Se familiariser avec l’univers Powerpoint et de ses propriété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Créer des macros fonctionnelles à l’aide de Visual Bas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3" descr=""/>
          <p:cNvPicPr/>
          <p:nvPr/>
        </p:nvPicPr>
        <p:blipFill>
          <a:blip r:embed="rId1"/>
          <a:stretch/>
        </p:blipFill>
        <p:spPr>
          <a:xfrm>
            <a:off x="324000" y="566640"/>
            <a:ext cx="8094600" cy="18417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42960" y="249984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464646"/>
                </a:solidFill>
                <a:latin typeface="Lucida Sans Unicode"/>
              </a:rPr>
              <a:t>Créer un questionnaire interactif pour les élèves de la première année du deuxième cycle dans le but de réviser les connaissances sur le module du sens spatia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st-just.com/images/accueil/bonhomme.gif"/>
          <p:cNvPicPr/>
          <p:nvPr/>
        </p:nvPicPr>
        <p:blipFill>
          <a:blip r:embed="rId2"/>
          <a:stretch/>
        </p:blipFill>
        <p:spPr>
          <a:xfrm>
            <a:off x="6500880" y="571680"/>
            <a:ext cx="1714320" cy="16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3"/>
          <p:cNvSpPr/>
          <p:nvPr/>
        </p:nvSpPr>
        <p:spPr>
          <a:xfrm>
            <a:off x="1143000" y="100008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Lucida Sans Unicode"/>
              </a:rPr>
              <a:t>Aspects pédagogiques du proje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2" descr="http://csdessommets.qc.ca/recit/collabo/Prof.gif"/>
          <p:cNvPicPr/>
          <p:nvPr/>
        </p:nvPicPr>
        <p:blipFill>
          <a:blip r:embed="rId1"/>
          <a:stretch/>
        </p:blipFill>
        <p:spPr>
          <a:xfrm>
            <a:off x="2500200" y="2500200"/>
            <a:ext cx="381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À qui s’adresse ce proje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Aux enseignants de troisième secondaire qui enseignent le module du sens spatial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Aux enseignant de quatrième secondaire qui désirent réactiver les connaissances sur le sens spatial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Aux  élèves qui désirent mettre en application leur connaissances sur le module du sens spatial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Quelles sont les notions visées par ce questionnai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Le développement de soli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Les projections orthogon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La coupe de soli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Les perspect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L’aire et le volume de soli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angelsplace.club.fr/Geometrie%20Sacree/Solides_Platon.gif"/>
          <p:cNvPicPr/>
          <p:nvPr/>
        </p:nvPicPr>
        <p:blipFill>
          <a:blip r:embed="rId2"/>
          <a:stretch/>
        </p:blipFill>
        <p:spPr>
          <a:xfrm>
            <a:off x="5929200" y="2500200"/>
            <a:ext cx="2129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http://www.spip-contrib.net/local/cache-vignettes/L150xH150/arton2231.gif"/>
          <p:cNvPicPr/>
          <p:nvPr/>
        </p:nvPicPr>
        <p:blipFill>
          <a:blip r:embed="rId1"/>
          <a:stretch/>
        </p:blipFill>
        <p:spPr>
          <a:xfrm>
            <a:off x="3357720" y="2857680"/>
            <a:ext cx="2714400" cy="27144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1071720" y="85716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Lucida Sans Unicode"/>
              </a:rPr>
              <a:t>Aspects technologiques du proje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http://holiste-et-cie.com/creationamitief45/logo_powerpoint.jpg"/>
          <p:cNvPicPr/>
          <p:nvPr/>
        </p:nvPicPr>
        <p:blipFill>
          <a:blip r:embed="rId1"/>
          <a:stretch/>
        </p:blipFill>
        <p:spPr>
          <a:xfrm>
            <a:off x="5929200" y="2000160"/>
            <a:ext cx="1714680" cy="16430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Le questionnaire a été entièrement bâtit à l’aide du logiciel Powerpoi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Chacune des diapositives sont reliées entre elles par des hyperlie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Les réponses sont activées par d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Ces boutons déclenchent à leur tours des </a:t>
            </a:r>
            <a:r>
              <a:rPr b="0" lang="fr-CA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macro</a:t>
            </a: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 définie dans Visual Basic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3"/>
          <a:stretch/>
        </p:blipFill>
        <p:spPr>
          <a:xfrm>
            <a:off x="195120" y="255600"/>
            <a:ext cx="8498160" cy="963720"/>
          </a:xfrm>
          <a:prstGeom prst="rect">
            <a:avLst/>
          </a:prstGeom>
          <a:ln w="0">
            <a:noFill/>
          </a:ln>
        </p:spPr>
      </p:pic>
      <p:sp>
        <p:nvSpPr>
          <p:cNvPr id="387" name="Bevel 5"/>
          <p:cNvSpPr/>
          <p:nvPr/>
        </p:nvSpPr>
        <p:spPr>
          <a:xfrm>
            <a:off x="6786720" y="4143240"/>
            <a:ext cx="1500120" cy="500040"/>
          </a:xfrm>
          <a:prstGeom prst="bevel">
            <a:avLst>
              <a:gd name="adj" fmla="val 125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bout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4" descr="http://www.databasedreams.co.uk/images/Visual%20Basic%20Logo.jpg"/>
          <p:cNvPicPr/>
          <p:nvPr/>
        </p:nvPicPr>
        <p:blipFill>
          <a:blip r:embed="rId5"/>
          <a:stretch/>
        </p:blipFill>
        <p:spPr>
          <a:xfrm>
            <a:off x="6357960" y="5500800"/>
            <a:ext cx="157176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Ces boutons permettent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de naviguer d’une diapositive à une aut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Lucida Sans Unicode"/>
              </a:rPr>
              <a:t>de déclencher différentes actions comme des macro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Lucida Sans Unicode"/>
              </a:rPr>
              <a:t>Exemple de macro pour une boîte de dialogue « Bravo ! »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databasedreams.co.uk/images/Visual%20Basic%20Logo.jpg"/>
          <p:cNvPicPr/>
          <p:nvPr/>
        </p:nvPicPr>
        <p:blipFill>
          <a:blip r:embed="rId2"/>
          <a:stretch/>
        </p:blipFill>
        <p:spPr>
          <a:xfrm>
            <a:off x="6143760" y="428760"/>
            <a:ext cx="207144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0:19:47Z</dcterms:created>
  <dc:creator>MELISSA BELKASSEM</dc:creator>
  <dc:description/>
  <dc:language>en-US</dc:language>
  <cp:lastModifiedBy>MELISSA BELKASSEM</cp:lastModifiedBy>
  <dcterms:modified xsi:type="dcterms:W3CDTF">2008-04-07T02:15:03Z</dcterms:modified>
  <cp:revision>16</cp:revision>
  <dc:subject/>
  <dc:title> C’est du solide !</dc:title>
</cp:coreProperties>
</file>