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0BFA-6989-4336-97F7-5492ECED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1D86-480D-4DFF-B047-D3A3679E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CC9D-760A-49ED-B848-7F080B6E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2A39-4371-4731-B18B-79772CF1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E8B0-D3F1-4E8B-9C7D-9215BDB3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F458-C0DB-4109-9A15-B8A68A12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C48F-2119-448B-9185-C5ADA2D5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ED2E-E220-4339-BC0E-38FA6950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FFEB-E8C0-4291-BC5A-D1788B22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0FE1-DDAB-4CE9-BC10-D63AC62E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E535-A10C-4260-80DF-D7026344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F931-82E0-4EE9-A778-24AAB6A9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28C4-1D31-4D00-859F-954E5EDA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2CE7-1894-4DCC-94F3-F6FEFB4C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CD98-DB54-453C-98F8-49B0935F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DB2B-6628-4F6B-B74D-DD5E9813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685E-61ED-4ED6-B1EE-B7332AEE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D31D43-FC50-4D30-A0A3-F533FAA3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B64617-41DC-4919-91EB-811DA2C2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A8AC6-42B1-46E7-A575-8C937DB2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B262AC-C8D3-449A-907B-84428572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0942DD-6492-4FB7-80C9-34CC661C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6DCC-5C25-46D4-AA0D-97D63C27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0DA38-94FC-485B-9233-E4EB40DF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31288-4FA1-4D52-A94C-967CE2C2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B6F4F8-8530-455D-8DBC-1979BAEB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FAFBCC-5155-4BA6-A358-24B1B5B9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270778-1939-4A5E-B022-1AFE3AB4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97CA42-82D3-4FC6-870E-72F2D4C6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CEDC88-0512-47B2-A7A1-7736D564D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4D2F2-C644-4282-AA29-2BB76CEF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B05D6-5037-4EE5-BA78-85D28899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5A62B-9582-4333-BF7D-4DA8FD03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0978-D1E4-47CF-9564-B640F04D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A2C97-D215-47E5-B069-4A08201C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1DBD9-3D8A-4FBD-BAE9-8DEA77C8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CE061-185E-4FFE-B60B-0833289C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5C6B4-9513-444A-AD7D-E49D0545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CAD2F-9440-41EF-B90B-95FE3C5F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25359-0F9A-444D-A484-332EA177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3A8D6-B0B3-4504-81C2-D75F2E56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234CA-9DEC-4B07-94B4-71817C43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6F88F-E9DB-4D6E-82D2-87DA9CC5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B7751B-A043-43C5-A2AD-666512B4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0A5-7FF4-40FC-9052-DBC9F9FD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2EAF6B-8295-47CC-A0E5-8F53D490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2D0CDD-55FE-4B42-B323-0F0E4B64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E552AA-83D6-45E4-8FAB-0DF9561A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070E38-F963-4D3B-85C9-F324BF7C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A55A02-4337-4784-8EAF-91C3E38B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523FCF-9705-4EF8-837C-FF1B0094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F2157D-FFBC-4597-968F-EA4DDB0A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E47720-FFC7-405A-A5A6-D0E686EB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489677-493D-44D2-BA32-6931400C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A1CC93-A889-497F-98C8-B255F5A2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D696-ED1C-42C6-9736-C0F1D0C3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F23EFA-1062-4359-9AEA-847DCFE0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195321-37D0-4B28-9A67-A70B0D6A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BE0D9A-73E0-4E10-A644-07F07EB8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EFDEB6-A9BA-48E2-A748-151AAF31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789FAE-6703-4C00-9E1A-078CB7C8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C0905D-8267-4F8C-B440-220DAC25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C32412-62E9-4681-89DC-9818434B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322174-2930-4A0F-A900-8C2EA581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852C6D-5DD6-45BD-9ED4-D2753DCC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740CCB-5C95-4DF2-9E49-FE23194D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D0C5-EF0B-4A09-8AE2-A1987E31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A4DA40-7F36-4C10-B0C1-FAA23BE5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E8AC67-6497-47A5-96E1-D38B7D2E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9E9E68-08E2-4891-850C-61E7DE22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E79561-A25E-4E54-B29D-D726150D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9243D3-B5D7-4D0B-82FC-3A8F96D6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B7053A-B9B7-496A-9429-5D2AAED8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1159C7-2CA5-4BAF-8C71-B6CDD28E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B65995-D6AB-4D30-BE0E-9A65D156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D1DF70-015F-4357-9F9D-C568C0C9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4F1219-C295-4C9B-A41A-187D4745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FDA9-48A0-4893-BC1E-8EBEC6B5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93363D-A123-405D-A0CB-5033FB7C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52528A-6F69-439B-8A80-2FD02B7C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2273CF-FC2C-4C5F-B0C7-A271CC17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8F73ED-F70D-4F68-8227-D98DC63C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3CC990-91A8-4D6C-B04B-DF4717D5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4B48-A007-47CC-855D-4C5E5A19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D1C9-3218-47E2-9ED8-A4A781819993}" type="slidenum">
              <a:rPr b="1" lang="fr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F4DE-AE1F-48E9-968E-AED8B1C1724A}" type="slidenum">
              <a:rPr b="1" lang="fr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DCA7-2450-436A-AB68-931B54CD7C18}" type="slidenum">
              <a:rPr b="1" lang="fr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C998-1736-42E4-8EB9-DA8125FE77BD}" type="slidenum">
              <a:rPr b="1" lang="fr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AF2C-003A-46DE-9AEF-E12105F494F7}" type="slidenum">
              <a:rPr b="1" lang="fr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0BA0-F957-4021-B4D8-0E431ABF107D}" type="slidenum">
              <a:rPr b="1" lang="fr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FFC8-E1FA-4B0C-AD4B-85BDD93BFCF9}" type="slidenum">
              <a:rPr b="1" lang="fr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eonext.uni-bayreuth.de/data/start.html?CT=fr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400068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CABRI  GÉOMÈTRE II</a:t>
            </a:r>
            <a:br>
              <a:rPr sz="4000"/>
            </a:br>
            <a:br>
              <a:rPr sz="4000"/>
            </a:b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                  VERSUS</a:t>
            </a:r>
            <a:br>
              <a:rPr sz="4000"/>
            </a:br>
            <a:br>
              <a:rPr sz="4000"/>
            </a:b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       GEONE            T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642760" y="42148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H:\geonext.png"/>
          <p:cNvPicPr/>
          <p:nvPr/>
        </p:nvPicPr>
        <p:blipFill>
          <a:blip r:embed="rId1"/>
          <a:stretch/>
        </p:blipFill>
        <p:spPr>
          <a:xfrm>
            <a:off x="4643280" y="3643200"/>
            <a:ext cx="1333800" cy="1333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H:\icone_cabri.jpg"/>
          <p:cNvPicPr/>
          <p:nvPr/>
        </p:nvPicPr>
        <p:blipFill>
          <a:blip r:embed="rId2"/>
          <a:stretch/>
        </p:blipFill>
        <p:spPr>
          <a:xfrm>
            <a:off x="7286760" y="857160"/>
            <a:ext cx="1190520" cy="116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700"/>
            </a:br>
            <a:br>
              <a:rPr sz="2700"/>
            </a:br>
            <a:br>
              <a:rPr sz="54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28400" y="357120"/>
            <a:ext cx="8429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Comparer pour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Relever les forces et les manques afin d’avoir du recul par rapport à ce qui est présent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border un sujet de différentes faç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Varier notre enseignemen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entury Schoolbook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214200" y="585792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d2611c"/>
                </a:solidFill>
                <a:uFillTx/>
                <a:latin typeface="Calibri"/>
                <a:hlinkClick r:id="rId1"/>
              </a:rPr>
              <a:t>http://geonext.uni-bayreuth.de/data/start.html?CT=fr</a:t>
            </a:r>
            <a:r>
              <a:rPr b="1" lang="fr-C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H:\geonext.png"/>
          <p:cNvPicPr/>
          <p:nvPr/>
        </p:nvPicPr>
        <p:blipFill>
          <a:blip r:embed="rId2"/>
          <a:stretch/>
        </p:blipFill>
        <p:spPr>
          <a:xfrm>
            <a:off x="6429240" y="3286080"/>
            <a:ext cx="1333800" cy="1333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H:\icone_cabri.jpg"/>
          <p:cNvPicPr/>
          <p:nvPr/>
        </p:nvPicPr>
        <p:blipFill>
          <a:blip r:embed="rId3"/>
          <a:stretch/>
        </p:blipFill>
        <p:spPr>
          <a:xfrm>
            <a:off x="1785960" y="3268800"/>
            <a:ext cx="1428840" cy="139356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6"/>
          <p:cNvSpPr/>
          <p:nvPr/>
        </p:nvSpPr>
        <p:spPr>
          <a:xfrm>
            <a:off x="285840" y="535788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alibri"/>
              </a:rPr>
              <a:t>http://www.cabri.com/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700"/>
            </a:br>
            <a:br>
              <a:rPr sz="2700"/>
            </a:br>
            <a:br>
              <a:rPr sz="54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28400" y="357120"/>
            <a:ext cx="8429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entury Schoolbook"/>
              </a:rPr>
              <a:t>Les logiciels de géométrie dynamique permettent de 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entury Schoolbook"/>
              </a:rPr>
              <a:t>de manipuler plus facilement certaines figures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entury Schoolbook"/>
              </a:rPr>
              <a:t>d’explorer différentes situations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entury Schoolbook"/>
              </a:rPr>
              <a:t>de découvrir certaines propriétés des figures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entury Schoolbook"/>
              </a:rPr>
              <a:t>de construire des figures à partir de leurs définitions et de leurs propriété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entury Schoolbook"/>
              </a:rPr>
              <a:t>passer progressivement d’une géométrie où les objets et leurs propriétés sont contrôlés par la perception à une géométrie où ils le sont par explicitation de propriétés 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entury Schoolbook"/>
              </a:rPr>
              <a:t>favoriser une approche plus expérimentale des Mathématique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2" descr="H:\geonext.png"/>
          <p:cNvPicPr/>
          <p:nvPr/>
        </p:nvPicPr>
        <p:blipFill>
          <a:blip r:embed="rId1"/>
          <a:stretch/>
        </p:blipFill>
        <p:spPr>
          <a:xfrm>
            <a:off x="3929040" y="471492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H:\icone_cabri.jpg"/>
          <p:cNvPicPr/>
          <p:nvPr/>
        </p:nvPicPr>
        <p:blipFill>
          <a:blip r:embed="rId2"/>
          <a:stretch/>
        </p:blipFill>
        <p:spPr>
          <a:xfrm>
            <a:off x="7072200" y="571680"/>
            <a:ext cx="1190880" cy="116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23:02:56Z</dcterms:created>
  <dc:creator>greg</dc:creator>
  <dc:description/>
  <dc:language>en-US</dc:language>
  <cp:lastModifiedBy>greg</cp:lastModifiedBy>
  <dcterms:modified xsi:type="dcterms:W3CDTF">2010-04-19T04:47:18Z</dcterms:modified>
  <cp:revision>22</cp:revision>
  <dc:subject/>
  <dc:title>CABRI GEOMÈTRE II   Versus   GEONE          T</dc:title>
</cp:coreProperties>
</file>