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1536-36D3-4DF8-A98C-49ABB67D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7C0-B128-401E-8D3C-5A362B9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9CE5-1079-44BF-B5AD-261F7B2B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E902-E1BF-4267-B6EF-A93C4E6E2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7579-9F72-4455-A503-3DDAB4E4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EDA-ABB4-476C-8497-BD2923BF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142E-791F-4A1E-8C7A-C10089A1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D349-A403-4CD9-9B8A-1AB788DF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95B3-776F-4529-88AB-DA873F76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013A-C748-46B3-9ED6-8F4139A1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4874-627A-4FAA-99E8-D1087E01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1D5-2012-4900-A75A-DCA9E7B3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290E-AA1E-411C-9710-4D97F56F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3850-31BC-43B0-BDD5-FD2A2C68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4FF0-35B1-47C3-A823-C6BB1CA4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4A96-86A6-4019-8333-9F81D02EB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0C26-2D2F-40A0-892F-F0025F1A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021-7058-4DC1-A3BA-8B766144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7EC-898C-419B-BC43-4FF4ADE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906-A856-43F6-8682-571BBF0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83B-1F48-4B26-AFC3-BF7D142C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E6B-917F-40C7-AFCD-B27FCFF5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7AE-921A-4543-B95E-B450BE8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8B3-2127-475F-B7BF-FEC7FFF9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7808-57E1-40D0-9DA1-81F443CFEF97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BC7D-4918-4B02-9F4B-7DDCF38C420C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c0000"/>
              </a:buClr>
              <a:buFont typeface="Wingdings" charset="2"/>
              <a:buChar char="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eterministeContinu/ABXY.fig" TargetMode="External"/><Relationship Id="rId2" Type="http://schemas.openxmlformats.org/officeDocument/2006/relationships/hyperlink" Target="file:///DeterministeContinu/Deterministe.fig" TargetMode="External"/><Relationship Id="rId3" Type="http://schemas.openxmlformats.org/officeDocument/2006/relationships/hyperlink" Target="file:///DeterministeContinu/NonContinu.fig" TargetMode="External"/><Relationship Id="rId4" Type="http://schemas.openxmlformats.org/officeDocument/2006/relationships/hyperlink" Target="file:///DeterministeContinu/Continu.cdy" TargetMode="External"/><Relationship Id="rId5" Type="http://schemas.openxmlformats.org/officeDocument/2006/relationships/hyperlink" Target="file:///DeterministeContinu/NonDeterministe.cd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DemiDroite.cdy" TargetMode="External"/><Relationship Id="rId2" Type="http://schemas.openxmlformats.org/officeDocument/2006/relationships/hyperlink" Target="file:///Macros/CercleTroisPoints.fig" TargetMode="External"/><Relationship Id="rId3" Type="http://schemas.openxmlformats.org/officeDocument/2006/relationships/hyperlink" Target="file:///Macros/MacroMediatrice.cdy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INDERELLA vs CABRI 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a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Younes El Rhaf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ie Glor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 avri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005f"/>
                </a:solidFill>
                <a:latin typeface="Futura"/>
              </a:rPr>
              <a:t>TYPES DE COMPARAISONS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iste/Conti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bri est détermin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B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étermin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Non-Cont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inderella est cont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ont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on-Détermin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68720" y="195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65800" y="311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ypes de comparaisons (suite)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roites/Demi-dro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emiDro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abri : cercle par trois points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rcleTrois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inderella: médiatrice: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acroMédia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ints d’inter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ux droites parallèles: Intersection Parallè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ux cercles: Intersection cer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ypes de comparaisons (suite)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e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inderella: 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9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er avec la géométri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s phys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ss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ill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gra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pi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747720" y="35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8:27:25Z</dcterms:created>
  <dc:creator>LAMISS UQAM</dc:creator>
  <dc:description/>
  <dc:language>en-US</dc:language>
  <cp:lastModifiedBy>LAMISS UQAM</cp:lastModifiedBy>
  <dcterms:modified xsi:type="dcterms:W3CDTF">2010-04-13T15:57:29Z</dcterms:modified>
  <cp:revision>13</cp:revision>
  <dc:subject/>
  <dc:title>CINDERELLA vs CABRI </dc:title>
</cp:coreProperties>
</file>