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980-9D78-4113-AD30-940FA70F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410-2E87-479B-95EC-6C0F52B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930-AF05-4CA9-907B-483D4AC8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28D-D9F6-48EC-B4D5-17F65DE0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F974-1941-487D-8EAB-C2D0E270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C132-B14E-45D1-A52B-98A382E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717-42F3-46CE-B4CC-D62407C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6A7F-A4F2-4ED3-857C-12B81A6B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D19E-4197-4A78-B700-7C1D93F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0B3C-0007-42BA-B5F0-69CEDB7D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2E8-757B-4F11-BB45-4D5FD06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B51-304D-4B82-83D1-ADAD202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288F-D722-4D39-A50F-8DC886EB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B56A-A359-438F-AA73-E81B750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0BE-0702-4738-8BEC-03A0018F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4B46-38DC-4D5C-BF83-BECDCC2D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5E36-3F1A-41A8-9E1A-AF70721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A09-F173-448A-A0ED-4B4CA2DC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55C-4E1C-4827-9A51-16AF016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835-C42D-44B7-B1E6-CBC12D0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02E-25A7-444D-94D2-C076FA46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ED7-F8CC-46BB-A9FE-76C6A3B1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750-427E-407A-902E-9E17C22C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F34-799A-46E4-A02C-EE8BE5A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Osaka"/>
              </a:defRPr>
            </a:lvl1pPr>
          </a:lstStyle>
          <a:p>
            <a:pPr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Osak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14B5-8A46-4C22-B879-1D988A3F36A7}" type="slidenum">
              <a:rPr b="0" lang="en-US" sz="1400" spc="-1" strike="noStrike">
                <a:solidFill>
                  <a:srgbClr val="ffff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imes New Roman"/>
                <a:ea typeface="Osak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3EA-A0E1-4BCE-8546-2C351D68F458}" type="slidenum">
              <a:rPr b="0" lang="de-DE" sz="1400" spc="-1" strike="noStrike">
                <a:solidFill>
                  <a:srgbClr val="ffff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ransformons les mathématiques</a:t>
            </a:r>
            <a:endParaRPr b="0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ation du choi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es frises sont un prolongement possible à l’enseignement des transformations géométriques au secondai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Brève révision des transformations géométr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anslation, rotation, réflexion et la symétrie glissé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e que nous retrouvons sur chacune des page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- Définition et représentation en im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- Application réalisée avec le logiciel Cabr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- Une vidé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Les fris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e que nous retrouvons sur cette pag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Définition du mot frise dans plusieurs domaines,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incluant le domaine des mathématiqu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Types de fri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Application réalisée avec Expresso qui permet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de construire des frises personnalisées en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choisissant une image, un type de frise et l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ombre de répétitions de votre choix entre 1 et 5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ffffff"/>
                </a:solidFill>
                <a:latin typeface="Arial"/>
              </a:rPr>
              <a:t>Merci !</a:t>
            </a:r>
            <a:endParaRPr b="0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29:07Z</dcterms:created>
  <dc:creator>LAMISS UQAM</dc:creator>
  <dc:description/>
  <dc:language>en-US</dc:language>
  <cp:lastModifiedBy>Caro</cp:lastModifiedBy>
  <dcterms:modified xsi:type="dcterms:W3CDTF">2010-04-19T15:39:29Z</dcterms:modified>
  <cp:revision>7</cp:revision>
  <dc:subject/>
  <dc:title>Transformons les mathématiques</dc:title>
</cp:coreProperties>
</file>