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533-0DE5-4D2A-9108-25FAF23D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3AD-EE71-4CB0-90D8-62AC380A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EF4-A86D-410F-BF80-59646DD8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867-F47C-4693-8765-A5637D09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18D-7B08-47B9-9FA1-FEBE09E4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C0C-75BE-443C-A4C1-1E6797A3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5AA-54D8-4EC6-A9FF-AA1F349F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AE7-7D23-4F4E-948F-E80536F4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4D0-3021-4F4C-BD7D-821EC807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CF6-78A0-42B7-BF95-3934B79A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445-C7A1-4C04-8419-F08FFD6D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393-CFAF-4A92-A73A-E56546A1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D80C-9E83-42C4-B1F1-A6B59A8E9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Fichier:Simple_d_8.svg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fr.wikipedia.org/wiki/Fichier:Simple_d_7.svg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fr.wikipedia.org/wiki/Fichier:Simple_d_6.svg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fr.wikipedia.org/wiki/Fichier:Simple_d_5.svg" TargetMode="External"/><Relationship Id="rId9" Type="http://schemas.openxmlformats.org/officeDocument/2006/relationships/image" Target="../media/image5.png"/><Relationship Id="rId10" Type="http://schemas.openxmlformats.org/officeDocument/2006/relationships/hyperlink" Target="http://fr.wikipedia.org/wiki/Fichier:Simple_d_4.svg" TargetMode="External"/><Relationship Id="rId11" Type="http://schemas.openxmlformats.org/officeDocument/2006/relationships/image" Target="../media/image6.png"/><Relationship Id="rId12" Type="http://schemas.openxmlformats.org/officeDocument/2006/relationships/hyperlink" Target="http://fr.wikipedia.org/wiki/Fichier:Simple_s_k.svg" TargetMode="External"/><Relationship Id="rId13" Type="http://schemas.openxmlformats.org/officeDocument/2006/relationships/image" Target="../media/image7.png"/><Relationship Id="rId14" Type="http://schemas.openxmlformats.org/officeDocument/2006/relationships/hyperlink" Target="http://fr.wikipedia.org/wiki/Fichier:Simple_h_k.svg" TargetMode="External"/><Relationship Id="rId15" Type="http://schemas.openxmlformats.org/officeDocument/2006/relationships/image" Target="../media/image8.png"/><Relationship Id="rId16" Type="http://schemas.openxmlformats.org/officeDocument/2006/relationships/hyperlink" Target="http://fr.wikipedia.org/wiki/Fichier:Simple_d_k.svg" TargetMode="External"/><Relationship Id="rId17" Type="http://schemas.openxmlformats.org/officeDocument/2006/relationships/image" Target="../media/image9.png"/><Relationship Id="rId18" Type="http://schemas.openxmlformats.org/officeDocument/2006/relationships/hyperlink" Target="http://fr.wikipedia.org/wiki/Fichier:Simple_c_k.svg" TargetMode="External"/><Relationship Id="rId19" Type="http://schemas.openxmlformats.org/officeDocument/2006/relationships/image" Target="../media/image10.png"/><Relationship Id="rId20" Type="http://schemas.openxmlformats.org/officeDocument/2006/relationships/hyperlink" Target="http://fr.wikipedia.org/wiki/Fichier:Simple_s_3.svg" TargetMode="External"/><Relationship Id="rId21" Type="http://schemas.openxmlformats.org/officeDocument/2006/relationships/image" Target="../media/image11.png"/><Relationship Id="rId22" Type="http://schemas.openxmlformats.org/officeDocument/2006/relationships/hyperlink" Target="http://fr.wikipedia.org/wiki/Fichier:Simple_s_k.svg" TargetMode="External"/><Relationship Id="rId23" Type="http://schemas.openxmlformats.org/officeDocument/2006/relationships/image" Target="../media/image7.png"/><Relationship Id="rId24" Type="http://schemas.openxmlformats.org/officeDocument/2006/relationships/hyperlink" Target="http://fr.wikipedia.org/wiki/Fichier:Simple_d_k.svg" TargetMode="External"/><Relationship Id="rId25" Type="http://schemas.openxmlformats.org/officeDocument/2006/relationships/image" Target="../media/image9.png"/><Relationship Id="rId26" Type="http://schemas.openxmlformats.org/officeDocument/2006/relationships/hyperlink" Target="http://fr.wikipedia.org/wiki/Fichier:Simple_c_k.svg" TargetMode="External"/><Relationship Id="rId27" Type="http://schemas.openxmlformats.org/officeDocument/2006/relationships/image" Target="../media/image10.png"/><Relationship Id="rId28" Type="http://schemas.openxmlformats.org/officeDocument/2006/relationships/hyperlink" Target="http://fr.wikipedia.org/wiki/Fichier:Simple_h_3.svg" TargetMode="External"/><Relationship Id="rId29" Type="http://schemas.openxmlformats.org/officeDocument/2006/relationships/image" Target="../media/image12.png"/><Relationship Id="rId30" Type="http://schemas.openxmlformats.org/officeDocument/2006/relationships/hyperlink" Target="http://fr.wikipedia.org/wiki/Fichier:Simple_d_3.svg" TargetMode="External"/><Relationship Id="rId31" Type="http://schemas.openxmlformats.org/officeDocument/2006/relationships/image" Target="../media/image13.png"/><Relationship Id="rId32" Type="http://schemas.openxmlformats.org/officeDocument/2006/relationships/hyperlink" Target="http://fr.wikipedia.org/wiki/Fichier:Simple_d_k.svg" TargetMode="External"/><Relationship Id="rId33" Type="http://schemas.openxmlformats.org/officeDocument/2006/relationships/image" Target="../media/image9.png"/><Relationship Id="rId34" Type="http://schemas.openxmlformats.org/officeDocument/2006/relationships/hyperlink" Target="http://fr.wikipedia.org/wiki/Fichier:Simple_d_10.svg" TargetMode="External"/><Relationship Id="rId35" Type="http://schemas.openxmlformats.org/officeDocument/2006/relationships/image" Target="../media/image14.png"/><Relationship Id="rId36" Type="http://schemas.openxmlformats.org/officeDocument/2006/relationships/hyperlink" Target="http://fr.wikipedia.org/wiki/Fichier:Simple_d_8.svg" TargetMode="External"/><Relationship Id="rId37" Type="http://schemas.openxmlformats.org/officeDocument/2006/relationships/image" Target="../media/image2.png"/><Relationship Id="rId38" Type="http://schemas.openxmlformats.org/officeDocument/2006/relationships/hyperlink" Target="http://fr.wikipedia.org/wiki/Fichier:Simple_d_4.svg" TargetMode="External"/><Relationship Id="rId39" Type="http://schemas.openxmlformats.org/officeDocument/2006/relationships/image" Target="../media/image6.png"/><Relationship Id="rId40" Type="http://schemas.openxmlformats.org/officeDocument/2006/relationships/hyperlink" Target="http://fr.wikipedia.org/wiki/Fichier:Simple_d_3.svg" TargetMode="External"/><Relationship Id="rId41" Type="http://schemas.openxmlformats.org/officeDocument/2006/relationships/image" Target="../media/image13.png"/><Relationship Id="rId42" Type="http://schemas.openxmlformats.org/officeDocument/2006/relationships/hyperlink" Target="http://fr.wikipedia.org/wiki/Fichier:Simple_c_8.svg" TargetMode="External"/><Relationship Id="rId43" Type="http://schemas.openxmlformats.org/officeDocument/2006/relationships/image" Target="../media/image15.png"/><Relationship Id="rId44" Type="http://schemas.openxmlformats.org/officeDocument/2006/relationships/hyperlink" Target="http://fr.wikipedia.org/wiki/Fichier:Simple_s_7.svg" TargetMode="External"/><Relationship Id="rId45" Type="http://schemas.openxmlformats.org/officeDocument/2006/relationships/image" Target="../media/image16.png"/><Relationship Id="rId46" Type="http://schemas.openxmlformats.org/officeDocument/2006/relationships/hyperlink" Target="http://fr.wikipedia.org/wiki/Fichier:Simple_c_6.svg" TargetMode="External"/><Relationship Id="rId47" Type="http://schemas.openxmlformats.org/officeDocument/2006/relationships/image" Target="../media/image17.png"/><Relationship Id="rId48" Type="http://schemas.openxmlformats.org/officeDocument/2006/relationships/hyperlink" Target="http://fr.wikipedia.org/wiki/Fichier:Simple_d_5.svg" TargetMode="External"/><Relationship Id="rId49" Type="http://schemas.openxmlformats.org/officeDocument/2006/relationships/image" Target="../media/image5.png"/><Relationship Id="rId50" Type="http://schemas.openxmlformats.org/officeDocument/2006/relationships/hyperlink" Target="http://fr.wikipedia.org/wiki/Fichier:Simple_d_4.svg" TargetMode="External"/><Relationship Id="rId51" Type="http://schemas.openxmlformats.org/officeDocument/2006/relationships/image" Target="../media/image6.png"/><Relationship Id="rId5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Fichier:Simple_s_k.svg" TargetMode="External"/><Relationship Id="rId3" Type="http://schemas.openxmlformats.org/officeDocument/2006/relationships/image" Target="../media/image7.png"/><Relationship Id="rId4" Type="http://schemas.openxmlformats.org/officeDocument/2006/relationships/hyperlink" Target="http://fr.wikipedia.org/wiki/Fichier:Simple_c_k.svg" TargetMode="External"/><Relationship Id="rId5" Type="http://schemas.openxmlformats.org/officeDocument/2006/relationships/image" Target="../media/image10.png"/><Relationship Id="rId6" Type="http://schemas.openxmlformats.org/officeDocument/2006/relationships/hyperlink" Target="http://fr.wikipedia.org/wiki/Fichier:Simple_s_q.svg" TargetMode="External"/><Relationship Id="rId7" Type="http://schemas.openxmlformats.org/officeDocument/2006/relationships/image" Target="../media/image18.png"/><Relationship Id="rId8" Type="http://schemas.openxmlformats.org/officeDocument/2006/relationships/hyperlink" Target="http://fr.wikipedia.org/wiki/Fichier:Simple_c_8.svg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fr.wikipedia.org/wiki/Fichier:Simple_d_8.svg" TargetMode="External"/><Relationship Id="rId11" Type="http://schemas.openxmlformats.org/officeDocument/2006/relationships/image" Target="../media/image2.png"/><Relationship Id="rId12" Type="http://schemas.openxmlformats.org/officeDocument/2006/relationships/hyperlink" Target="http://fr.wikipedia.org/wiki/Fichier:Simple_s_k.svg" TargetMode="External"/><Relationship Id="rId13" Type="http://schemas.openxmlformats.org/officeDocument/2006/relationships/image" Target="../media/image7.png"/><Relationship Id="rId14" Type="http://schemas.openxmlformats.org/officeDocument/2006/relationships/hyperlink" Target="http://fr.wikipedia.org/wiki/Fichier:Simple_d_k.svg" TargetMode="External"/><Relationship Id="rId15" Type="http://schemas.openxmlformats.org/officeDocument/2006/relationships/image" Target="../media/image9.png"/><Relationship Id="rId16" Type="http://schemas.openxmlformats.org/officeDocument/2006/relationships/hyperlink" Target="http://fr.wikipedia.org/wiki/Fichier:Simple_c_k.svg" TargetMode="External"/><Relationship Id="rId17" Type="http://schemas.openxmlformats.org/officeDocument/2006/relationships/image" Target="../media/image10.png"/><Relationship Id="rId18" Type="http://schemas.openxmlformats.org/officeDocument/2006/relationships/hyperlink" Target="http://fr.wikipedia.org/wiki/Fichier:Simple_s_q.svg" TargetMode="External"/><Relationship Id="rId19" Type="http://schemas.openxmlformats.org/officeDocument/2006/relationships/image" Target="../media/image18.png"/><Relationship Id="rId20" Type="http://schemas.openxmlformats.org/officeDocument/2006/relationships/hyperlink" Target="http://fr.wikipedia.org/wiki/Fichier:Simple_c_5.svg" TargetMode="External"/><Relationship Id="rId21" Type="http://schemas.openxmlformats.org/officeDocument/2006/relationships/image" Target="../media/image19.png"/><Relationship Id="rId22" Type="http://schemas.openxmlformats.org/officeDocument/2006/relationships/hyperlink" Target="http://fr.wikipedia.org/wiki/Fichier:Simple_c_8.svg" TargetMode="External"/><Relationship Id="rId23" Type="http://schemas.openxmlformats.org/officeDocument/2006/relationships/image" Target="../media/image15.png"/><Relationship Id="rId24" Type="http://schemas.openxmlformats.org/officeDocument/2006/relationships/hyperlink" Target="http://fr.wikipedia.org/wiki/Fichier:Simple_d_8.svg" TargetMode="External"/><Relationship Id="rId25" Type="http://schemas.openxmlformats.org/officeDocument/2006/relationships/image" Target="../media/image2.png"/><Relationship Id="rId26" Type="http://schemas.openxmlformats.org/officeDocument/2006/relationships/hyperlink" Target="http://fr.wikipedia.org/wiki/Fichier:Simple_s_k.svg" TargetMode="External"/><Relationship Id="rId27" Type="http://schemas.openxmlformats.org/officeDocument/2006/relationships/image" Target="../media/image7.png"/><Relationship Id="rId28" Type="http://schemas.openxmlformats.org/officeDocument/2006/relationships/hyperlink" Target="http://fr.wikipedia.org/wiki/Fichier:Simple_s_q.svg" TargetMode="External"/><Relationship Id="rId29" Type="http://schemas.openxmlformats.org/officeDocument/2006/relationships/image" Target="../media/image18.png"/><Relationship Id="rId30" Type="http://schemas.openxmlformats.org/officeDocument/2006/relationships/hyperlink" Target="http://fr.wikipedia.org/wiki/Fichier:Simple_c_5.svg" TargetMode="External"/><Relationship Id="rId31" Type="http://schemas.openxmlformats.org/officeDocument/2006/relationships/image" Target="../media/image19.png"/><Relationship Id="rId32" Type="http://schemas.openxmlformats.org/officeDocument/2006/relationships/hyperlink" Target="http://fr.wikipedia.org/wiki/Fichier:Simple_s_k.svg" TargetMode="External"/><Relationship Id="rId33" Type="http://schemas.openxmlformats.org/officeDocument/2006/relationships/image" Target="../media/image7.png"/><Relationship Id="rId34" Type="http://schemas.openxmlformats.org/officeDocument/2006/relationships/image" Target="../media/image18.png"/><Relationship Id="rId35" Type="http://schemas.openxmlformats.org/officeDocument/2006/relationships/image" Target="../media/image2.png"/><Relationship Id="rId36" Type="http://schemas.openxmlformats.org/officeDocument/2006/relationships/image" Target="../media/image4.png"/><Relationship Id="rId37" Type="http://schemas.openxmlformats.org/officeDocument/2006/relationships/image" Target="../media/image19.png"/><Relationship Id="rId3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66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Le Poker: Texas Hold ‘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672840" y="1192320"/>
            <a:ext cx="9551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Franklin Gothic Demi Cond"/>
              </a:rPr>
              <a:t>Le fonctionnement du j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</a:rPr>
              <a:t>Se joue entre 2 et 10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</a:rPr>
              <a:t>L’objectif est de remporter la mise en faisant coucher les aut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</a:rPr>
              <a:t>        </a:t>
            </a: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</a:rPr>
              <a:t>jou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</a:rPr>
              <a:t>Chaque personne possède 2 cartes en 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</a:rPr>
              <a:t>Le donneur ouvre 5 cartes communes au milieu de la table en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  <a:ea typeface="Arial"/>
              </a:rPr>
              <a:t>éta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  <a:ea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  <a:ea typeface="Arial"/>
              </a:rPr>
              <a:t>Le flop: Le donneur ouvre 3 c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  <a:ea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  <a:ea typeface="Arial"/>
              </a:rPr>
              <a:t>Le tournant: Le donneur ouvre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  <a:ea typeface="Arial"/>
              </a:rPr>
              <a:t>La rivière: Le donneur ouvre la dernière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Franklin Gothic Demi Cond"/>
              </a:rPr>
              <a:t>À chaque étape, il y a un tour de m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366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Le Poker: Texas Hold ‘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197000"/>
            <a:ext cx="878544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Franklin Gothic Demi Cond"/>
              </a:rPr>
              <a:t>Les mains poss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Franklin Gothic Demi Cond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Franklin Gothic Demi Cond"/>
              </a:rPr>
              <a:t>Quinte flush: 5 cartes consécutives de la même coul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Franklin Gothic Demi Cond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Franklin Gothic Demi Cond"/>
              </a:rPr>
              <a:t>Carré: 4 cartes de la même val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Franklin Gothic Demi Cond"/>
              </a:rPr>
              <a:t>Main pleine: Triple et une pai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Franklin Gothic Demi Cond"/>
              </a:rPr>
              <a:t>Couleur: 5 cartes de la même coul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Franklin Gothic Demi Cond"/>
              </a:rPr>
              <a:t>Suite: 5 cartes consécu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50px-Simple_d_8.svg" descr="Simple d 8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220500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50px-Simple_d_7.svg" descr="Simple d 7.sv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5280" y="2205000"/>
            <a:ext cx="475920" cy="647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50px-Simple_d_6.svg" descr="Simple d 6.sv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20000" y="220500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50px-Simple_d_5.svg" descr="Simple d 5.sv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23280" y="220500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50px-Simple_d_4.svg" descr="Simple d 4.sv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8028000" y="220500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50px-Simple_s_k.svg" descr="Simple s k.sv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924360" y="2924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50px-Simple_h_k.svg" descr="Simple h k.sv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427640" y="2924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50px-Simple_d_k.svg" descr="Simple d k.svg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932360" y="2924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37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50px-Simple_c_k.svg" descr="Simple c k.svg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435640" y="2924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440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50px-Simple_s_3.svg" descr="Simple s 3.svg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940360" y="2924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50px-Simple_s_k.svg" descr="Simple s k.svg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3492360" y="3716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50px-Simple_d_k.svg" descr="Simple d k.svg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995640" y="3716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50px-Simple_c_k.svg" descr="Simple c k.svg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4500720" y="3716280"/>
            <a:ext cx="475920" cy="64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37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50px-Simple_h_3.svg" descr="Simple h 3.svg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003640" y="3716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440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50px-Simple_d_3.svg" descr="Simple d 3.svg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5508720" y="3716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50px-Simple_d_k.svg" descr="Simple d k.svg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4140360" y="4508640"/>
            <a:ext cx="475920" cy="64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50px-Simple_d_10.svg" descr="Simple d 10.svg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4643280" y="450864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50px-Simple_d_8.svg" descr="Simple d 8.svg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5148360" y="450864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37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50px-Simple_d_4.svg" descr="Simple d 4.svg">
            <a:hlinkClick r:id="rId38"/>
          </p:cNvPr>
          <p:cNvPicPr/>
          <p:nvPr/>
        </p:nvPicPr>
        <p:blipFill>
          <a:blip r:embed="rId39"/>
          <a:stretch/>
        </p:blipFill>
        <p:spPr>
          <a:xfrm>
            <a:off x="5651640" y="450864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40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50px-Simple_d_3.svg" descr="Simple d 3.svg">
            <a:hlinkClick r:id="rId40"/>
          </p:cNvPr>
          <p:cNvPicPr/>
          <p:nvPr/>
        </p:nvPicPr>
        <p:blipFill>
          <a:blip r:embed="rId41"/>
          <a:stretch/>
        </p:blipFill>
        <p:spPr>
          <a:xfrm>
            <a:off x="6156360" y="450864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504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7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40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50px-Simple_c_8.svg" descr="Simple c 8.svg">
            <a:hlinkClick r:id="rId42"/>
          </p:cNvPr>
          <p:cNvPicPr/>
          <p:nvPr/>
        </p:nvPicPr>
        <p:blipFill>
          <a:blip r:embed="rId43"/>
          <a:stretch/>
        </p:blipFill>
        <p:spPr>
          <a:xfrm>
            <a:off x="3203640" y="522936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50px-Simple_s_7.svg" descr="Simple s 7.svg">
            <a:hlinkClick r:id="rId44"/>
          </p:cNvPr>
          <p:cNvPicPr/>
          <p:nvPr/>
        </p:nvPicPr>
        <p:blipFill>
          <a:blip r:embed="rId45"/>
          <a:stretch/>
        </p:blipFill>
        <p:spPr>
          <a:xfrm>
            <a:off x="3708360" y="522936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50px-Simple_c_6.svg" descr="Simple c 6.svg">
            <a:hlinkClick r:id="rId46"/>
          </p:cNvPr>
          <p:cNvPicPr/>
          <p:nvPr/>
        </p:nvPicPr>
        <p:blipFill>
          <a:blip r:embed="rId47"/>
          <a:stretch/>
        </p:blipFill>
        <p:spPr>
          <a:xfrm>
            <a:off x="4211640" y="522936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37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50px-Simple_d_5.svg" descr="Simple d 5.svg">
            <a:hlinkClick r:id="rId48"/>
          </p:cNvPr>
          <p:cNvPicPr/>
          <p:nvPr/>
        </p:nvPicPr>
        <p:blipFill>
          <a:blip r:embed="rId49"/>
          <a:stretch/>
        </p:blipFill>
        <p:spPr>
          <a:xfrm>
            <a:off x="4716360" y="522936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440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50px-Simple_d_4.svg" descr="Simple d 4.svg">
            <a:hlinkClick r:id="rId50"/>
          </p:cNvPr>
          <p:cNvPicPr/>
          <p:nvPr/>
        </p:nvPicPr>
        <p:blipFill>
          <a:blip r:embed="rId51"/>
          <a:stretch/>
        </p:blipFill>
        <p:spPr>
          <a:xfrm>
            <a:off x="5219640" y="5229360"/>
            <a:ext cx="476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366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Le Poker: Texas Hold ‘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197000"/>
            <a:ext cx="878544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Franklin Gothic Demi Cond"/>
              </a:rPr>
              <a:t>Les mains poss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Franklin Gothic Demi Cond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Franklin Gothic Demi Cond"/>
              </a:rPr>
              <a:t>Brelan: 3 cartes iden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Franklin Gothic Demi Cond"/>
              </a:rPr>
              <a:t>Double paire: 2 paires de cartes iden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Franklin Gothic Demi Cond"/>
              </a:rPr>
              <a:t>Paire: 2 cartes ident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Franklin Gothic Demi Cond"/>
              </a:rPr>
              <a:t>Carte haute: Ne correspond à aucune des 8 combina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50px-Simple_s_k.svg" descr="Simple s 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2924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50px-Simple_c_k.svg" descr="Simple c k.sv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19640" y="2924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50px-Simple_s_q.svg" descr="Simple s q.sv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24360" y="2924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50px-Simple_c_8.svg" descr="Simple c 8.sv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27640" y="2924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50px-Simple_d_8.svg" descr="Simple d 8.sv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732720" y="2924280"/>
            <a:ext cx="476280" cy="647640"/>
          </a:xfrm>
          <a:prstGeom prst="rect">
            <a:avLst/>
          </a:prstGeom>
          <a:ln w="0">
            <a:noFill/>
          </a:ln>
        </p:spPr>
      </p:pic>
      <p:pic>
        <p:nvPicPr>
          <p:cNvPr id="113" name="50px-Simple_s_k.svg" descr="Simple s k.sv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76720" y="2205000"/>
            <a:ext cx="476280" cy="647640"/>
          </a:xfrm>
          <a:prstGeom prst="rect">
            <a:avLst/>
          </a:prstGeom>
          <a:ln w="0">
            <a:noFill/>
          </a:ln>
        </p:spPr>
      </p:pic>
      <p:pic>
        <p:nvPicPr>
          <p:cNvPr id="114" name="50px-Simple_d_k.svg" descr="Simple d k.sv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780000" y="2205000"/>
            <a:ext cx="475920" cy="647640"/>
          </a:xfrm>
          <a:prstGeom prst="rect">
            <a:avLst/>
          </a:prstGeom>
          <a:ln w="0">
            <a:noFill/>
          </a:ln>
        </p:spPr>
      </p:pic>
      <p:pic>
        <p:nvPicPr>
          <p:cNvPr id="115" name="50px-Simple_c_k.svg" descr="Simple c k.svg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284720" y="2205000"/>
            <a:ext cx="476280" cy="647640"/>
          </a:xfrm>
          <a:prstGeom prst="rect">
            <a:avLst/>
          </a:prstGeom>
          <a:ln w="0">
            <a:noFill/>
          </a:ln>
        </p:spPr>
      </p:pic>
      <p:pic>
        <p:nvPicPr>
          <p:cNvPr id="116" name="50px-Simple_s_q.svg" descr="Simple s q.svg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788000" y="2205000"/>
            <a:ext cx="476280" cy="647640"/>
          </a:xfrm>
          <a:prstGeom prst="rect">
            <a:avLst/>
          </a:prstGeom>
          <a:ln w="0">
            <a:noFill/>
          </a:ln>
        </p:spPr>
      </p:pic>
      <p:pic>
        <p:nvPicPr>
          <p:cNvPr id="117" name="50px-Simple_c_5.svg" descr="Simple c 5.svg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292720" y="220500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50px-Simple_c_8.svg" descr="Simple c 8.svg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3059280" y="3716280"/>
            <a:ext cx="475920" cy="647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50px-Simple_d_8.svg" descr="Simple d 8.svg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564000" y="3716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50px-Simple_s_k.svg" descr="Simple s k.svg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4067280" y="3716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50px-Simple_s_q.svg" descr="Simple s q.svg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4572000" y="3716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50px-Simple_c_5.svg" descr="Simple c 5.svg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5076720" y="3716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50px-Simple_s_k.svg" descr="Simple s k.svg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6012000" y="450864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50px-Simple_s_q.svg" descr="Simple s q.svg"/>
          <p:cNvPicPr/>
          <p:nvPr/>
        </p:nvPicPr>
        <p:blipFill>
          <a:blip r:embed="rId34"/>
          <a:stretch/>
        </p:blipFill>
        <p:spPr>
          <a:xfrm>
            <a:off x="6516720" y="450864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50px-Simple_d_8.svg" descr="Simple d 8.svg"/>
          <p:cNvPicPr/>
          <p:nvPr/>
        </p:nvPicPr>
        <p:blipFill>
          <a:blip r:embed="rId35"/>
          <a:stretch/>
        </p:blipFill>
        <p:spPr>
          <a:xfrm>
            <a:off x="7020000" y="450864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37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50px-Simple_d_6.svg" descr="Simple d 6.svg"/>
          <p:cNvPicPr/>
          <p:nvPr/>
        </p:nvPicPr>
        <p:blipFill>
          <a:blip r:embed="rId36"/>
          <a:stretch/>
        </p:blipFill>
        <p:spPr>
          <a:xfrm>
            <a:off x="7524720" y="450864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440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50px-Simple_c_5.svg" descr="Simple c 5.svg"/>
          <p:cNvPicPr/>
          <p:nvPr/>
        </p:nvPicPr>
        <p:blipFill>
          <a:blip r:embed="rId37"/>
          <a:stretch/>
        </p:blipFill>
        <p:spPr>
          <a:xfrm>
            <a:off x="8028000" y="4508640"/>
            <a:ext cx="476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5:37:45Z</dcterms:created>
  <dc:creator>Bona Ung</dc:creator>
  <dc:description/>
  <dc:language>en-US</dc:language>
  <cp:lastModifiedBy>Bona Ung</cp:lastModifiedBy>
  <dcterms:modified xsi:type="dcterms:W3CDTF">2010-04-20T10:50:34Z</dcterms:modified>
  <cp:revision>5</cp:revision>
  <dc:subject/>
  <dc:title>Slide 1</dc:title>
</cp:coreProperties>
</file>