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10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D6109-7966-48DC-8CA7-BB0BE58AB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4048C-6C34-49AE-9444-D58687605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7C244-4872-48AF-9E70-04E7C7C0D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D060A-E8E9-405E-B420-1A2D83D68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68CD0-4CB7-43B4-A19E-BD39A36F8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B49A9-1110-45BD-B638-D4374522F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C021B-C335-427D-85A4-3197FC2EE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0D73C-5889-462A-A6AA-17F1BC9AE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B98B3-ADDF-4961-A8BD-639CF6C58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FC165-F752-4756-97CD-A798E5ED8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54F20-5B8D-475E-A1B8-0BF33AEAE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B99F6-94DB-41A6-B6DA-0070B7760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1D011-441F-4B5B-AF8E-A410B6A7B9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file:///Graphiques.xls" TargetMode="External"/><Relationship Id="rId3" Type="http://schemas.openxmlformats.org/officeDocument/2006/relationships/hyperlink" Target="file:///Graphiques.xls" TargetMode="External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file:///code.txt" TargetMode="Externa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85800" y="-3809880"/>
            <a:ext cx="8458200" cy="10896480"/>
            <a:chOff x="685800" y="-3809880"/>
            <a:chExt cx="8458200" cy="10896480"/>
          </a:xfrm>
        </p:grpSpPr>
        <p:pic>
          <p:nvPicPr>
            <p:cNvPr id="42" name="" descr=""/>
            <p:cNvPicPr/>
            <p:nvPr/>
          </p:nvPicPr>
          <p:blipFill>
            <a:blip r:embed="rId1"/>
            <a:stretch/>
          </p:blipFill>
          <p:spPr>
            <a:xfrm>
              <a:off x="685800" y="-3809880"/>
              <a:ext cx="8458200" cy="10896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3" name=""/>
            <p:cNvGrpSpPr/>
            <p:nvPr/>
          </p:nvGrpSpPr>
          <p:grpSpPr>
            <a:xfrm>
              <a:off x="1793160" y="230040"/>
              <a:ext cx="6030720" cy="1713600"/>
              <a:chOff x="1793160" y="230040"/>
              <a:chExt cx="6030720" cy="1713600"/>
            </a:xfrm>
          </p:grpSpPr>
          <p:sp>
            <p:nvSpPr>
              <p:cNvPr id="44" name=""/>
              <p:cNvSpPr txBox="1"/>
              <p:nvPr/>
            </p:nvSpPr>
            <p:spPr>
              <a:xfrm>
                <a:off x="1793160" y="230040"/>
                <a:ext cx="6030720" cy="4896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FadeUp">
                  <a:avLst>
                    <a:gd name="adj" fmla="val 9991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1" strike="noStrike">
                    <a:ln w="12600">
                      <a:solidFill>
                        <a:srgbClr val="b2b2b2"/>
                      </a:solidFill>
                      <a:miter/>
                    </a:ln>
                    <a:gradFill rotWithShape="0">
                      <a:gsLst>
                        <a:gs pos="0">
                          <a:srgbClr val="520402"/>
                        </a:gs>
                        <a:gs pos="100000">
                          <a:srgbClr val="00ff00"/>
                        </a:gs>
                      </a:gsLst>
                      <a:lin ang="5400000"/>
                    </a:gradFill>
                    <a:effectLst>
                      <a:outerShdw dist="153753" dir="2700000" blurRad="0" rotWithShape="0">
                        <a:srgbClr val="875b0d"/>
                      </a:outerShdw>
                    </a:effectLst>
                    <a:latin typeface="Arial Black"/>
                  </a:rPr>
                  <a:t>VERS L’INFINI…</a:t>
                </a:r>
                <a:endParaRPr b="0" lang="en-US" sz="2400" spc="1" strike="noStrike">
                  <a:ln w="12600">
                    <a:solidFill>
                      <a:srgbClr val="b2b2b2"/>
                    </a:solidFill>
                    <a:miter/>
                  </a:ln>
                  <a:gradFill rotWithShape="0">
                    <a:gsLst>
                      <a:gs pos="0">
                        <a:srgbClr val="520402"/>
                      </a:gs>
                      <a:gs pos="100000">
                        <a:srgbClr val="00ff00"/>
                      </a:gs>
                    </a:gsLst>
                    <a:lin ang="5400000"/>
                  </a:gradFill>
                  <a:effectLst>
                    <a:outerShdw dist="153753" dir="2700000" blurRad="0" rotWithShape="0">
                      <a:srgbClr val="875b0d"/>
                    </a:outerShdw>
                  </a:effectLst>
                  <a:latin typeface="Arial Black"/>
                  <a:ea typeface="Arial Black"/>
                </a:endParaRPr>
              </a:p>
            </p:txBody>
          </p:sp>
          <p:sp>
            <p:nvSpPr>
              <p:cNvPr id="45" name=""/>
              <p:cNvSpPr txBox="1"/>
              <p:nvPr/>
            </p:nvSpPr>
            <p:spPr>
              <a:xfrm>
                <a:off x="2285280" y="964440"/>
                <a:ext cx="4977000" cy="9792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FadeUp">
                  <a:avLst>
                    <a:gd name="adj" fmla="val 9991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1" strike="noStrike">
                    <a:ln w="12600">
                      <a:solidFill>
                        <a:srgbClr val="b2b2b2"/>
                      </a:solidFill>
                      <a:miter/>
                    </a:ln>
                    <a:gradFill rotWithShape="0">
                      <a:gsLst>
                        <a:gs pos="0">
                          <a:srgbClr val="520402"/>
                        </a:gs>
                        <a:gs pos="100000">
                          <a:srgbClr val="00ff00"/>
                        </a:gs>
                      </a:gsLst>
                      <a:lin ang="5400000"/>
                    </a:gradFill>
                    <a:effectLst>
                      <a:outerShdw dist="153753" dir="2700000" blurRad="0" rotWithShape="0">
                        <a:srgbClr val="875b0d"/>
                      </a:outerShdw>
                    </a:effectLst>
                    <a:latin typeface="Arial Black"/>
                  </a:rPr>
                  <a:t>ET PLUS LOIN ENCORE !</a:t>
                </a:r>
                <a:endParaRPr b="0" lang="en-US" sz="2400" spc="1" strike="noStrike">
                  <a:ln w="12600">
                    <a:solidFill>
                      <a:srgbClr val="b2b2b2"/>
                    </a:solidFill>
                    <a:miter/>
                  </a:ln>
                  <a:gradFill rotWithShape="0">
                    <a:gsLst>
                      <a:gs pos="0">
                        <a:srgbClr val="520402"/>
                      </a:gs>
                      <a:gs pos="100000">
                        <a:srgbClr val="00ff00"/>
                      </a:gs>
                    </a:gsLst>
                    <a:lin ang="5400000"/>
                  </a:gradFill>
                  <a:effectLst>
                    <a:outerShdw dist="153753" dir="2700000" blurRad="0" rotWithShape="0">
                      <a:srgbClr val="875b0d"/>
                    </a:outerShdw>
                  </a:effectLst>
                  <a:latin typeface="Arial Black"/>
                  <a:ea typeface="Arial Black"/>
                </a:endParaRPr>
              </a:p>
            </p:txBody>
          </p:sp>
        </p:grpSp>
        <p:sp>
          <p:nvSpPr>
            <p:cNvPr id="46" name=""/>
            <p:cNvSpPr txBox="1"/>
            <p:nvPr/>
          </p:nvSpPr>
          <p:spPr>
            <a:xfrm>
              <a:off x="1670400" y="-3687480"/>
              <a:ext cx="2461320" cy="734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14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Times New Roman"/>
                </a:rPr>
                <a:t>Sarah Sfeir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  <a:ea typeface="Times New Roman"/>
              </a:endParaRPr>
            </a:p>
          </p:txBody>
        </p:sp>
        <p:sp>
          <p:nvSpPr>
            <p:cNvPr id="47" name=""/>
            <p:cNvSpPr txBox="1"/>
            <p:nvPr/>
          </p:nvSpPr>
          <p:spPr>
            <a:xfrm>
              <a:off x="5485680" y="-3687480"/>
              <a:ext cx="2830680" cy="979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14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Times New Roman"/>
                </a:rPr>
                <a:t>Youri Lévesque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  <a:ea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firmament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228600" y="304920"/>
            <a:ext cx="990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LCUL DU PÉRIMÈTRE DE LA FRACTA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362320" y="19810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33520" y="2438280"/>
            <a:ext cx="9144000" cy="4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</a:t>
            </a:r>
            <a:r>
              <a:rPr b="0" lang="nl-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1 + </a:t>
            </a:r>
            <a:r>
              <a:rPr b="0" i="1" lang="nl-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</a:t>
            </a:r>
            <a:r>
              <a:rPr b="0" lang="nl-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 =</a:t>
            </a:r>
            <a:r>
              <a:rPr b="0" i="1" lang="nl-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l</a:t>
            </a:r>
            <a:r>
              <a:rPr b="0" lang="nl-NL" sz="20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0" lang="nl-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+ </a:t>
            </a:r>
            <a:r>
              <a:rPr b="0" i="1" lang="nl-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</a:t>
            </a:r>
            <a:r>
              <a:rPr b="0" lang="nl-NL" sz="20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i="1" lang="nl-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+</a:t>
            </a:r>
            <a:r>
              <a:rPr b="0" lang="nl-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i="1" lang="nl-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</a:t>
            </a:r>
            <a:r>
              <a:rPr b="0" lang="nl-NL" sz="20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0" lang="nl-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+ </a:t>
            </a:r>
            <a:r>
              <a:rPr b="0" i="1" lang="nl-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</a:t>
            </a:r>
            <a:r>
              <a:rPr b="0" lang="nl-NL" sz="20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4</a:t>
            </a:r>
            <a:r>
              <a:rPr b="0" lang="fr-CA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33520" y="17524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 + Lk     </a:t>
            </a:r>
            <a:r>
              <a:rPr b="0" lang="fr-F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</a:t>
            </a:r>
            <a:r>
              <a:rPr b="0" lang="fr-CA" sz="2000" spc="-1" strike="noStrike">
                <a:solidFill>
                  <a:srgbClr val="ffffff"/>
                </a:solidFill>
                <a:latin typeface="Times New Roman"/>
              </a:rPr>
              <a:t>  k=1/alpha 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40064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57200" y="4038480"/>
            <a:ext cx="8458200" cy="241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</a:t>
            </a:r>
            <a:r>
              <a:rPr b="0" i="1" lang="nl-NL" sz="20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0" lang="nl-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1 </a:t>
            </a:r>
            <a:r>
              <a:rPr b="0" i="1" lang="nl-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 k</a:t>
            </a:r>
            <a:r>
              <a:rPr b="0" lang="nl-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r>
              <a:rPr b="0" i="1" lang="nl-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+ l</a:t>
            </a:r>
            <a:r>
              <a:rPr b="0" i="1" lang="nl-NL" sz="20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lang="nl-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1 </a:t>
            </a:r>
            <a:r>
              <a:rPr b="0" i="1" lang="nl-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 k</a:t>
            </a:r>
            <a:r>
              <a:rPr b="0" lang="nl-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r>
              <a:rPr b="0" i="1" lang="nl-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+ l</a:t>
            </a:r>
            <a:r>
              <a:rPr b="0" i="1" lang="nl-NL" sz="20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0" lang="nl-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1 </a:t>
            </a:r>
            <a:r>
              <a:rPr b="0" i="1" lang="nl-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 k</a:t>
            </a:r>
            <a:r>
              <a:rPr b="0" lang="nl-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r>
              <a:rPr b="0" i="1" lang="nl-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+ l</a:t>
            </a:r>
            <a:r>
              <a:rPr b="0" i="1" lang="nl-NL" sz="20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4</a:t>
            </a:r>
            <a:r>
              <a:rPr b="0" lang="nl-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1 </a:t>
            </a:r>
            <a:r>
              <a:rPr b="0" i="1" lang="nl-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 k</a:t>
            </a:r>
            <a:r>
              <a:rPr b="0" lang="nl-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= </a:t>
            </a:r>
            <a:r>
              <a:rPr b="0" lang="nl-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</a:t>
            </a:r>
            <a:r>
              <a:rPr b="0" i="1" lang="nl-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</a:t>
            </a:r>
            <a:r>
              <a:rPr b="0" i="1" lang="nl-NL" sz="20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0" i="1" lang="nl-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+ l</a:t>
            </a:r>
            <a:r>
              <a:rPr b="0" i="1" lang="nl-NL" sz="20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i="1" lang="nl-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+ l</a:t>
            </a:r>
            <a:r>
              <a:rPr b="0" i="1" lang="nl-NL" sz="20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0" i="1" lang="nl-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+ l</a:t>
            </a:r>
            <a:r>
              <a:rPr b="0" i="1" lang="nl-NL" sz="20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4</a:t>
            </a:r>
            <a:r>
              <a:rPr b="0" lang="nl-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r>
              <a:rPr b="0" i="1" lang="nl-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nl-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1 </a:t>
            </a:r>
            <a:r>
              <a:rPr b="0" i="1" lang="nl-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  k</a:t>
            </a:r>
            <a:r>
              <a:rPr b="0" lang="nl-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= </a:t>
            </a:r>
            <a:r>
              <a:rPr b="0" i="1" lang="fr-F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</a:t>
            </a:r>
            <a:r>
              <a:rPr b="0" lang="fr-F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1 </a:t>
            </a:r>
            <a:r>
              <a:rPr b="0" i="1" lang="fr-F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  k</a:t>
            </a:r>
            <a:r>
              <a:rPr b="0" lang="fr-F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r>
              <a:rPr b="0" i="1" lang="fr-F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fr-F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1 </a:t>
            </a:r>
            <a:r>
              <a:rPr b="0" i="1" lang="fr-F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  k</a:t>
            </a:r>
            <a:r>
              <a:rPr b="0" lang="fr-F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r>
              <a:rPr b="0" lang="fr-F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r (</a:t>
            </a:r>
            <a:r>
              <a:rPr b="0" i="1" lang="fr-F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</a:t>
            </a:r>
            <a:r>
              <a:rPr b="0" i="1" lang="fr-FR" sz="20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0" i="1" lang="fr-F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+ l</a:t>
            </a:r>
            <a:r>
              <a:rPr b="0" i="1" lang="fr-FR" sz="20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i="1" lang="fr-F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+ l</a:t>
            </a:r>
            <a:r>
              <a:rPr b="0" i="1" lang="fr-FR" sz="20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0" i="1" lang="fr-F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+ l</a:t>
            </a:r>
            <a:r>
              <a:rPr b="0" i="1" lang="fr-FR" sz="20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4</a:t>
            </a:r>
            <a:r>
              <a:rPr b="0" lang="fr-F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 = </a:t>
            </a:r>
            <a:r>
              <a:rPr b="0" i="1" lang="fr-F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</a:t>
            </a:r>
            <a:r>
              <a:rPr b="0" lang="fr-F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1  +  </a:t>
            </a:r>
            <a:r>
              <a:rPr b="0" i="1" lang="fr-F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</a:t>
            </a:r>
            <a:r>
              <a:rPr b="0" lang="fr-F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= </a:t>
            </a:r>
            <a:r>
              <a:rPr b="0" i="1" lang="fr-F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</a:t>
            </a:r>
            <a:r>
              <a:rPr b="0" lang="fr-F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1 </a:t>
            </a:r>
            <a:r>
              <a:rPr b="0" i="1" lang="fr-F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  k</a:t>
            </a:r>
            <a:r>
              <a:rPr b="0" lang="fr-F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r>
              <a:rPr b="0" lang="fr-FR" sz="20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657600" y="601992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C*L</a:t>
            </a:r>
            <a:r>
              <a:rPr b="0" lang="fr-FR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(1</a:t>
            </a:r>
            <a:r>
              <a:rPr b="0" i="1" lang="fr-FR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+ k</a:t>
            </a:r>
            <a:r>
              <a:rPr b="0" lang="fr-FR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)</a:t>
            </a:r>
            <a:r>
              <a:rPr b="0" i="1" lang="fr-FR" sz="2000" spc="-1" strike="noStrike" baseline="30000">
                <a:solidFill>
                  <a:srgbClr val="ffffcc"/>
                </a:solidFill>
                <a:latin typeface="Times New Roman"/>
                <a:ea typeface="Times New Roman"/>
              </a:rPr>
              <a:t>n</a:t>
            </a:r>
            <a:r>
              <a:rPr b="0" lang="fr-FR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.</a:t>
            </a:r>
            <a:r>
              <a:rPr b="0" lang="fr-CA" sz="20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505320" y="5867280"/>
            <a:ext cx="1600200" cy="685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57200" y="990720"/>
            <a:ext cx="52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Cas du triangle d’un côté initial </a:t>
            </a:r>
            <a:r>
              <a:rPr b="0" i="1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" y="3124080"/>
            <a:ext cx="8305920" cy="81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 second niveau, nous avons que la nouvelle mesure de segment </a:t>
            </a:r>
            <a:r>
              <a:rPr b="0" i="1" lang="fr-F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</a:t>
            </a:r>
            <a:r>
              <a:rPr b="0" lang="fr-FR" sz="20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0" lang="fr-F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est (l</a:t>
            </a:r>
            <a:r>
              <a:rPr b="0" lang="fr-FR" sz="20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0" lang="fr-F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+ </a:t>
            </a:r>
            <a:r>
              <a:rPr b="0" i="1" lang="fr-F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</a:t>
            </a:r>
            <a:r>
              <a:rPr b="0" lang="fr-F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</a:t>
            </a:r>
            <a:r>
              <a:rPr b="0" lang="fr-FR" sz="20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0" lang="fr-F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 ou   </a:t>
            </a:r>
            <a:r>
              <a:rPr b="0" i="1" lang="fr-F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</a:t>
            </a:r>
            <a:r>
              <a:rPr b="0" lang="fr-FR" sz="20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0" lang="fr-F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*(1 + </a:t>
            </a:r>
            <a:r>
              <a:rPr b="0" i="1" lang="fr-F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</a:t>
            </a:r>
            <a:r>
              <a:rPr b="0" lang="fr-F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r>
              <a:rPr b="0" lang="fr-CA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firmament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228600" y="304920"/>
            <a:ext cx="9524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LCUL DU PÉRIMÈTRE DE LA FRACTA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362320" y="19810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57200" y="1828800"/>
            <a:ext cx="9144000" cy="4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</a:t>
            </a:r>
            <a:r>
              <a:rPr b="0" lang="nl-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1 + 2</a:t>
            </a:r>
            <a:r>
              <a:rPr b="0" i="1" lang="nl-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</a:t>
            </a:r>
            <a:r>
              <a:rPr b="0" lang="nl-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 =</a:t>
            </a:r>
            <a:r>
              <a:rPr b="0" i="1" lang="nl-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l</a:t>
            </a:r>
            <a:r>
              <a:rPr b="0" lang="nl-NL" sz="20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0" lang="nl-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+ </a:t>
            </a:r>
            <a:r>
              <a:rPr b="0" i="1" lang="nl-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</a:t>
            </a:r>
            <a:r>
              <a:rPr b="0" lang="nl-NL" sz="20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i="1" lang="nl-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+</a:t>
            </a:r>
            <a:r>
              <a:rPr b="0" lang="nl-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i="1" lang="nl-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</a:t>
            </a:r>
            <a:r>
              <a:rPr b="0" lang="nl-NL" sz="20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0" lang="nl-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+ </a:t>
            </a:r>
            <a:r>
              <a:rPr b="0" i="1" lang="nl-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</a:t>
            </a:r>
            <a:r>
              <a:rPr b="0" lang="nl-NL" sz="20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4</a:t>
            </a:r>
            <a:r>
              <a:rPr b="0" lang="nl-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+ </a:t>
            </a:r>
            <a:r>
              <a:rPr b="0" i="1" lang="nl-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</a:t>
            </a:r>
            <a:r>
              <a:rPr b="0" lang="nl-NL" sz="20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5</a:t>
            </a:r>
            <a:r>
              <a:rPr b="0" lang="fr-CA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57200" y="13716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 + 2Lk     </a:t>
            </a:r>
            <a:r>
              <a:rPr b="0" lang="fr-F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</a:t>
            </a:r>
            <a:r>
              <a:rPr b="0" lang="fr-CA" sz="2000" spc="-1" strike="noStrike">
                <a:solidFill>
                  <a:srgbClr val="ffffff"/>
                </a:solidFill>
                <a:latin typeface="Times New Roman"/>
              </a:rPr>
              <a:t>  k=1/alpha 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40064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880" y="3048120"/>
            <a:ext cx="8458200" cy="38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i="1" lang="nl-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</a:t>
            </a:r>
            <a:r>
              <a:rPr b="0" lang="nl-NL" sz="20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0" lang="nl-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+ 2</a:t>
            </a:r>
            <a:r>
              <a:rPr b="0" i="1" lang="nl-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l</a:t>
            </a:r>
            <a:r>
              <a:rPr b="0" lang="nl-NL" sz="20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0" lang="nl-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+ </a:t>
            </a:r>
            <a:r>
              <a:rPr b="0" i="1" lang="nl-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</a:t>
            </a:r>
            <a:r>
              <a:rPr b="0" lang="nl-NL" sz="20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i="1" lang="nl-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+ </a:t>
            </a:r>
            <a:r>
              <a:rPr b="0" lang="nl-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i="1" lang="nl-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l</a:t>
            </a:r>
            <a:r>
              <a:rPr b="0" lang="nl-NL" sz="20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lang="nl-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+ </a:t>
            </a:r>
            <a:r>
              <a:rPr b="0" i="1" lang="nl-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</a:t>
            </a:r>
            <a:r>
              <a:rPr b="0" lang="nl-NL" sz="20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0" lang="nl-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+ 2</a:t>
            </a:r>
            <a:r>
              <a:rPr b="0" i="1" lang="nl-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l</a:t>
            </a:r>
            <a:r>
              <a:rPr b="0" lang="nl-NL" sz="20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0" lang="nl-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+ </a:t>
            </a:r>
            <a:r>
              <a:rPr b="0" i="1" lang="nl-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</a:t>
            </a:r>
            <a:r>
              <a:rPr b="0" lang="nl-NL" sz="20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4</a:t>
            </a:r>
            <a:r>
              <a:rPr b="0" lang="nl-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+ 2</a:t>
            </a:r>
            <a:r>
              <a:rPr b="0" i="1" lang="nl-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l</a:t>
            </a:r>
            <a:r>
              <a:rPr b="0" lang="nl-NL" sz="20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4</a:t>
            </a:r>
            <a:r>
              <a:rPr b="0" lang="nl-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+ </a:t>
            </a:r>
            <a:r>
              <a:rPr b="0" i="1" lang="nl-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</a:t>
            </a:r>
            <a:r>
              <a:rPr b="0" lang="nl-NL" sz="20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5</a:t>
            </a:r>
            <a:r>
              <a:rPr b="0" lang="nl-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+ 2</a:t>
            </a:r>
            <a:r>
              <a:rPr b="0" i="1" lang="nl-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l</a:t>
            </a:r>
            <a:r>
              <a:rPr b="0" lang="nl-NL" sz="20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= </a:t>
            </a:r>
            <a:r>
              <a:rPr b="0" lang="nl-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</a:t>
            </a:r>
            <a:r>
              <a:rPr b="0" i="1" lang="nl-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</a:t>
            </a:r>
            <a:r>
              <a:rPr b="0" i="1" lang="nl-NL" sz="20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0" i="1" lang="nl-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+ l</a:t>
            </a:r>
            <a:r>
              <a:rPr b="0" i="1" lang="nl-NL" sz="20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i="1" lang="nl-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+ l</a:t>
            </a:r>
            <a:r>
              <a:rPr b="0" i="1" lang="nl-NL" sz="20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0" i="1" lang="nl-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+ l</a:t>
            </a:r>
            <a:r>
              <a:rPr b="0" i="1" lang="nl-NL" sz="20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4</a:t>
            </a:r>
            <a:r>
              <a:rPr b="0" i="1" lang="nl-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+ l</a:t>
            </a:r>
            <a:r>
              <a:rPr b="0" i="1" lang="nl-NL" sz="20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5</a:t>
            </a:r>
            <a:r>
              <a:rPr b="0" lang="nl-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r>
              <a:rPr b="0" i="1" lang="nl-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nl-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 2</a:t>
            </a:r>
            <a:r>
              <a:rPr b="0" i="1" lang="nl-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l</a:t>
            </a:r>
            <a:r>
              <a:rPr b="0" i="1" lang="nl-NL" sz="20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0" i="1" lang="nl-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nl-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 2</a:t>
            </a:r>
            <a:r>
              <a:rPr b="0" i="1" lang="nl-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l</a:t>
            </a:r>
            <a:r>
              <a:rPr b="0" i="1" lang="nl-NL" sz="20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i="1" lang="nl-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nl-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 2</a:t>
            </a:r>
            <a:r>
              <a:rPr b="0" i="1" lang="nl-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l</a:t>
            </a:r>
            <a:r>
              <a:rPr b="0" i="1" lang="nl-NL" sz="20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0" i="1" lang="nl-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nl-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 2</a:t>
            </a:r>
            <a:r>
              <a:rPr b="0" i="1" lang="nl-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l</a:t>
            </a:r>
            <a:r>
              <a:rPr b="0" i="1" lang="nl-NL" sz="20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4</a:t>
            </a:r>
            <a:r>
              <a:rPr b="0" i="1" lang="nl-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nl-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 2</a:t>
            </a:r>
            <a:r>
              <a:rPr b="0" i="1" lang="nl-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l</a:t>
            </a:r>
            <a:r>
              <a:rPr b="0" i="1" lang="nl-NL" sz="20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= </a:t>
            </a:r>
            <a:r>
              <a:rPr b="0" i="1" lang="nl-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</a:t>
            </a:r>
            <a:r>
              <a:rPr b="0" lang="nl-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1 </a:t>
            </a:r>
            <a:r>
              <a:rPr b="0" i="1" lang="nl-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  </a:t>
            </a:r>
            <a:r>
              <a:rPr b="0" lang="nl-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i="1" lang="nl-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</a:t>
            </a:r>
            <a:r>
              <a:rPr b="0" lang="nl-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r>
              <a:rPr b="0" i="1" lang="nl-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+ 2k</a:t>
            </a:r>
            <a:r>
              <a:rPr b="0" lang="nl-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</a:t>
            </a:r>
            <a:r>
              <a:rPr b="0" i="1" lang="nl-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</a:t>
            </a:r>
            <a:r>
              <a:rPr b="0" i="1" lang="nl-NL" sz="20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0" i="1" lang="nl-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+ l</a:t>
            </a:r>
            <a:r>
              <a:rPr b="0" i="1" lang="nl-NL" sz="20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i="1" lang="nl-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+ l</a:t>
            </a:r>
            <a:r>
              <a:rPr b="0" i="1" lang="nl-NL" sz="20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0" i="1" lang="nl-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+ l</a:t>
            </a:r>
            <a:r>
              <a:rPr b="0" i="1" lang="nl-NL" sz="20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4</a:t>
            </a:r>
            <a:r>
              <a:rPr b="0" i="1" lang="nl-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+ l</a:t>
            </a:r>
            <a:r>
              <a:rPr b="0" i="1" lang="nl-NL" sz="20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5</a:t>
            </a:r>
            <a:r>
              <a:rPr b="0" lang="nl-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= </a:t>
            </a:r>
            <a:r>
              <a:rPr b="0" i="1" lang="nl-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</a:t>
            </a:r>
            <a:r>
              <a:rPr b="0" lang="nl-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1 </a:t>
            </a:r>
            <a:r>
              <a:rPr b="0" i="1" lang="nl-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  </a:t>
            </a:r>
            <a:r>
              <a:rPr b="0" lang="nl-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i="1" lang="nl-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</a:t>
            </a:r>
            <a:r>
              <a:rPr b="0" lang="nl-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r>
              <a:rPr b="0" i="1" lang="nl-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+ 2k(L</a:t>
            </a:r>
            <a:r>
              <a:rPr b="0" lang="nl-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1 </a:t>
            </a:r>
            <a:r>
              <a:rPr b="0" i="1" lang="nl-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  </a:t>
            </a:r>
            <a:r>
              <a:rPr b="0" lang="nl-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i="1" lang="nl-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</a:t>
            </a:r>
            <a:r>
              <a:rPr b="0" lang="nl-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= </a:t>
            </a:r>
            <a:r>
              <a:rPr b="0" i="1" lang="nl-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</a:t>
            </a:r>
            <a:r>
              <a:rPr b="0" lang="nl-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1 </a:t>
            </a:r>
            <a:r>
              <a:rPr b="0" i="1" lang="nl-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  </a:t>
            </a:r>
            <a:r>
              <a:rPr b="0" lang="nl-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i="1" lang="nl-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</a:t>
            </a:r>
            <a:r>
              <a:rPr b="0" lang="nl-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 + </a:t>
            </a:r>
            <a:r>
              <a:rPr b="0" i="1" lang="nl-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2kL</a:t>
            </a:r>
            <a:r>
              <a:rPr b="0" lang="nl-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1 </a:t>
            </a:r>
            <a:r>
              <a:rPr b="0" i="1" lang="nl-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  </a:t>
            </a:r>
            <a:r>
              <a:rPr b="0" lang="nl-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i="1" lang="nl-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</a:t>
            </a:r>
            <a:r>
              <a:rPr b="0" lang="nl-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= (</a:t>
            </a:r>
            <a:r>
              <a:rPr b="0" i="1" lang="nl-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kL + L</a:t>
            </a:r>
            <a:r>
              <a:rPr b="0" lang="nl-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 </a:t>
            </a:r>
            <a:r>
              <a:rPr b="0" i="1" lang="nl-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● </a:t>
            </a:r>
            <a:r>
              <a:rPr b="0" lang="nl-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1 </a:t>
            </a:r>
            <a:r>
              <a:rPr b="0" i="1" lang="nl-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  </a:t>
            </a:r>
            <a:r>
              <a:rPr b="0" lang="nl-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i="1" lang="nl-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</a:t>
            </a:r>
            <a:r>
              <a:rPr b="0" lang="nl-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= </a:t>
            </a:r>
            <a:r>
              <a:rPr b="0" i="1" lang="nl-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</a:t>
            </a:r>
            <a:r>
              <a:rPr b="0" lang="nl-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</a:t>
            </a:r>
            <a:r>
              <a:rPr b="0" i="1" lang="nl-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k + </a:t>
            </a:r>
            <a:r>
              <a:rPr b="0" lang="nl-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)</a:t>
            </a:r>
            <a:r>
              <a:rPr b="0" i="1" lang="nl-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●</a:t>
            </a:r>
            <a:r>
              <a:rPr b="0" lang="nl-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1 </a:t>
            </a:r>
            <a:r>
              <a:rPr b="0" i="1" lang="nl-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  </a:t>
            </a:r>
            <a:r>
              <a:rPr b="0" lang="nl-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i="1" lang="nl-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</a:t>
            </a:r>
            <a:r>
              <a:rPr b="0" lang="nl-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= </a:t>
            </a:r>
            <a:r>
              <a:rPr b="0" i="1" lang="fr-F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</a:t>
            </a:r>
            <a:r>
              <a:rPr b="0" lang="fr-F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2</a:t>
            </a:r>
            <a:r>
              <a:rPr b="0" i="1" lang="fr-F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 + </a:t>
            </a:r>
            <a:r>
              <a:rPr b="0" lang="fr-F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)</a:t>
            </a:r>
            <a:r>
              <a:rPr b="0" lang="fr-FR" sz="20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lang="fr-CA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886200" y="579132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C*L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(1</a:t>
            </a:r>
            <a:r>
              <a:rPr b="0" i="1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+ 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2</a:t>
            </a:r>
            <a:r>
              <a:rPr b="0" i="1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k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)</a:t>
            </a:r>
            <a:r>
              <a:rPr b="0" i="1" lang="en-US" sz="2000" spc="-1" strike="noStrike" baseline="30000">
                <a:solidFill>
                  <a:srgbClr val="ffffcc"/>
                </a:solidFill>
                <a:latin typeface="Times New Roman"/>
                <a:ea typeface="Times New Roman"/>
              </a:rPr>
              <a:t>n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809880" y="5638680"/>
            <a:ext cx="1600200" cy="685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57200" y="990720"/>
            <a:ext cx="52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Cas du carré  de côté initial </a:t>
            </a:r>
            <a:r>
              <a:rPr b="0" i="1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57200" y="2209680"/>
            <a:ext cx="7924680" cy="81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fr-F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 second niveau, nous avons que la nouvelle mesure de segment </a:t>
            </a:r>
            <a:r>
              <a:rPr b="0" i="1" lang="fr-F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</a:t>
            </a:r>
            <a:r>
              <a:rPr b="0" lang="fr-FR" sz="20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0" lang="fr-F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est    (l</a:t>
            </a:r>
            <a:r>
              <a:rPr b="0" lang="fr-FR" sz="20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0" lang="fr-F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+ 2</a:t>
            </a:r>
            <a:r>
              <a:rPr b="0" i="1" lang="fr-F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</a:t>
            </a:r>
            <a:r>
              <a:rPr b="0" lang="fr-F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</a:t>
            </a:r>
            <a:r>
              <a:rPr b="0" lang="fr-FR" sz="20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0" lang="fr-F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 ou   </a:t>
            </a:r>
            <a:r>
              <a:rPr b="0" i="1" lang="fr-F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</a:t>
            </a:r>
            <a:r>
              <a:rPr b="0" lang="fr-FR" sz="20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0" lang="fr-F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*(1 + 2</a:t>
            </a:r>
            <a:r>
              <a:rPr b="0" i="1" lang="fr-F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</a:t>
            </a:r>
            <a:r>
              <a:rPr b="0" lang="fr-F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firmament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ff"/>
                </a:solidFill>
                <a:latin typeface="Times New Roman"/>
              </a:rPr>
              <a:t>Cas général du périmètre à </a:t>
            </a:r>
            <a:r>
              <a:rPr b="0" i="1" lang="fr-CA" sz="4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fr-CA" sz="4400" spc="-1" strike="noStrike">
                <a:solidFill>
                  <a:srgbClr val="ffffff"/>
                </a:solidFill>
                <a:latin typeface="Times New Roman"/>
              </a:rPr>
              <a:t> côtés, d’une fractale de mesure </a:t>
            </a:r>
            <a:r>
              <a:rPr b="0" i="1" lang="fr-CA" sz="4400" spc="-1" strike="noStrike">
                <a:solidFill>
                  <a:srgbClr val="ffffff"/>
                </a:solidFill>
                <a:latin typeface="Times New Roman"/>
              </a:rPr>
              <a:t>L</a:t>
            </a:r>
            <a:r>
              <a:rPr b="0" lang="fr-CA" sz="4400" spc="-1" strike="noStrike">
                <a:solidFill>
                  <a:srgbClr val="ffffff"/>
                </a:solidFill>
                <a:latin typeface="Times New Roman"/>
              </a:rPr>
              <a:t> de côté initial, à un alpha </a:t>
            </a:r>
            <a:r>
              <a:rPr b="0" i="1" lang="fr-CA" sz="4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fr-CA" sz="4400" spc="-1" strike="noStrike">
                <a:solidFill>
                  <a:srgbClr val="ffffff"/>
                </a:solidFill>
                <a:latin typeface="Times New Roman"/>
              </a:rPr>
              <a:t> donné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990720" y="3657600"/>
            <a:ext cx="7238880" cy="9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5500" spc="-1" strike="noStrike">
                <a:solidFill>
                  <a:srgbClr val="ffffff"/>
                </a:solidFill>
                <a:latin typeface="Georgia"/>
                <a:ea typeface="Times New Roman"/>
              </a:rPr>
              <a:t>P = c*L  [(c - 2)k  + 1]</a:t>
            </a:r>
            <a:r>
              <a:rPr b="0" i="1" lang="nl-NL" sz="5500" spc="-1" strike="noStrike" baseline="30000">
                <a:solidFill>
                  <a:srgbClr val="ffffff"/>
                </a:solidFill>
                <a:latin typeface="Georgia"/>
                <a:ea typeface="Times New Roman"/>
              </a:rPr>
              <a:t>n</a:t>
            </a:r>
            <a:r>
              <a:rPr b="0" lang="fr-CA" sz="55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firmament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cc"/>
                </a:solidFill>
                <a:latin typeface="Times New Roman"/>
              </a:rPr>
              <a:t>CALCUL DE L’AIRE DE LA FRACTALE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0" y="274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Si on remplace Aire du triangle par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320" y="1089000"/>
            <a:ext cx="202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cc"/>
                </a:solidFill>
                <a:uFillTx/>
                <a:latin typeface="Times New Roman"/>
              </a:rPr>
              <a:t>Cas du triang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46700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17656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152280" y="1752480"/>
                <a:ext cx="8534520" cy="7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RIANGLE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t xml:space="preserve">∗</m:t>
                    </m:r>
                    <m:sSup>
                      <m:e>
                        <m:r>
                          <m:t xml:space="preserve">4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∗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RIANGLE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sSup>
                          <m:e>
                            <m:r>
                              <m:t xml:space="preserve">9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∗</m:t>
                    </m:r>
                    <m:sSup>
                      <m:e>
                        <m:r>
                          <m:t xml:space="preserve">4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  <m:r>
                      <m:t xml:space="preserve">∗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RIANGLE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sSup>
                          <m:e>
                            <m:r>
                              <m:t xml:space="preserve">9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den>
                    </m:f>
                    <m:r>
                      <m:t xml:space="preserve">∗</m:t>
                    </m:r>
                    <m:sSup>
                      <m:e>
                        <m:r>
                          <m:t xml:space="preserve">4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∗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RIANGL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1295280" y="3276720"/>
                <a:ext cx="638172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(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t xml:space="preserve">∗</m:t>
                    </m:r>
                    <m:sSup>
                      <m:e>
                        <m:r>
                          <m:t xml:space="preserve">4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∗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(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sSup>
                          <m:e>
                            <m:r>
                              <m:t xml:space="preserve">9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∗</m:t>
                    </m:r>
                    <m:sSup>
                      <m:e>
                        <m:r>
                          <m:t xml:space="preserve">4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  <m:r>
                      <m:t xml:space="preserve">∗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r>
                      <m:t xml:space="preserve">(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sSup>
                          <m:e>
                            <m:r>
                              <m:t xml:space="preserve">9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den>
                    </m:f>
                    <m:r>
                      <m:t xml:space="preserve">∗</m:t>
                    </m:r>
                    <m:sSup>
                      <m:e>
                        <m:r>
                          <m:t xml:space="preserve">4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∗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1295280" y="4343400"/>
                <a:ext cx="5072040" cy="85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t xml:space="preserve">∗</m:t>
                    </m:r>
                    <m:sSup>
                      <m:e>
                        <m:r>
                          <m:t xml:space="preserve">4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+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sSup>
                          <m:e>
                            <m:r>
                              <m:t xml:space="preserve">9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∗</m:t>
                    </m:r>
                    <m:sSup>
                      <m:e>
                        <m:r>
                          <m:t xml:space="preserve">4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sSup>
                          <m:e>
                            <m:r>
                              <m:t xml:space="preserve">9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den>
                    </m:f>
                    <m:r>
                      <m:t xml:space="preserve">∗</m:t>
                    </m:r>
                    <m:sSup>
                      <m:e>
                        <m:r>
                          <m:t xml:space="preserve">4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1295280" y="5410080"/>
                <a:ext cx="3810240" cy="87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(</m:t>
                    </m:r>
                    <m:f>
                      <m:num>
                        <m:sSup>
                          <m:e>
                            <m:r>
                              <m:t xml:space="preserve">4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p>
                          <m:e>
                            <m:r>
                              <m:t xml:space="preserve">4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9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f>
                      <m:num>
                        <m:sSup>
                          <m:e>
                            <m:r>
                              <m:t xml:space="preserve">4</m:t>
                            </m:r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9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firmament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ALCUL DE L’AIRE DE LA FRACTA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80880" y="609480"/>
            <a:ext cx="7848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0000"/>
          </a:bodyPr>
          <a:p>
            <a:pPr marL="205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05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Multiplions S par un facteur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05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838080" y="1371600"/>
                <a:ext cx="5159520" cy="12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S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(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p>
                          <m:e>
                            <m:r>
                              <m:t xml:space="preserve">4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9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f>
                      <m:num>
                        <m:sSup>
                          <m:e>
                            <m:r>
                              <m:t xml:space="preserve">4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9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2" name=""/>
          <p:cNvSpPr/>
          <p:nvPr/>
        </p:nvSpPr>
        <p:spPr>
          <a:xfrm>
            <a:off x="685800" y="266688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Posons: t = 4/9   Alors…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838080" y="3200400"/>
                <a:ext cx="4381560" cy="70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S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4" name=""/>
          <p:cNvSpPr/>
          <p:nvPr/>
        </p:nvSpPr>
        <p:spPr>
          <a:xfrm>
            <a:off x="457200" y="403848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Multiplions par t de chaque côté de l’égalité …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838080" y="4648320"/>
                <a:ext cx="4707000" cy="70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St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firmament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ALCUL DE L’AIRE DE LA FRACTA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28600" y="914400"/>
            <a:ext cx="7848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Effectuons 4S-4St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2514600" y="1447920"/>
                <a:ext cx="3962520" cy="290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4</m:t>
                        </m:r>
                        <m:r>
                          <m:t xml:space="preserve">S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St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  <m:e>
                        <m:r>
                          <m:t xml:space="preserve">4</m:t>
                        </m:r>
                        <m:r>
                          <m:t xml:space="preserve">S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4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4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3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4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1143000" y="5029200"/>
                <a:ext cx="6553080" cy="17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ir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riangle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r>
                          <m:t xml:space="preserve">3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4</m:t>
                                </m:r>
                              </m:num>
                              <m:den>
                                <m:r>
                                  <m:t xml:space="preserve">9</m:t>
                                </m:r>
                              </m:den>
                            </m:f>
                            <m:r>
                              <m:t xml:space="preserve">−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4</m:t>
                                        </m:r>
                                      </m:num>
                                      <m:den>
                                        <m:r>
                                          <m:t xml:space="preserve">9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e>
                        </m:d>
                      </m:num>
                      <m:den>
                        <m:r>
                          <m:t xml:space="preserve">4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4</m:t>
                                </m:r>
                              </m:num>
                              <m:den>
                                <m:r>
                                  <m:t xml:space="preserve">9</m:t>
                                </m:r>
                              </m:den>
                            </m:f>
                          </m:e>
                        </m:d>
                      </m:den>
                    </m:f>
                    <m:r>
                      <m:t xml:space="preserve">∗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ir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riangl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41" name=""/>
          <p:cNvSpPr/>
          <p:nvPr/>
        </p:nvSpPr>
        <p:spPr>
          <a:xfrm>
            <a:off x="3124080" y="449568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ire du triang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firmament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212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ffffcc"/>
                </a:solidFill>
                <a:latin typeface="Times New Roman"/>
              </a:rPr>
              <a:t>FORMULE GÉNÉRALE DE L’AIRE POUR UN ALPHA ÉGAL À 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152280" y="3657600"/>
                <a:ext cx="8991720" cy="184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ir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olygone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Nb</m:t>
                        </m:r>
                        <m:r>
                          <m:rPr>
                            <m:lit/>
                            <m:nor/>
                          </m:rPr>
                          <m:t xml:space="preserve">cot</m:t>
                        </m:r>
                        <m:r>
                          <m:rPr>
                            <m:lit/>
                            <m:nor/>
                          </m:rPr>
                          <m:t xml:space="preserve">és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Nb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cot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és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9</m:t>
                                </m:r>
                              </m:den>
                            </m:f>
                            <m:r>
                              <m:t xml:space="preserve">−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Nb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cot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és</m:t>
                                        </m:r>
                                        <m:r>
                                          <m:t xml:space="preserve">+</m:t>
                                        </m:r>
                                        <m:r>
                                          <m:t xml:space="preserve">1</m:t>
                                        </m:r>
                                      </m:num>
                                      <m:den>
                                        <m:r>
                                          <m:t xml:space="preserve">9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étape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e>
                        </m:d>
                      </m:num>
                      <m:den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Nb</m:t>
                        </m:r>
                        <m:r>
                          <m:rPr>
                            <m:lit/>
                            <m:nor/>
                          </m:rPr>
                          <m:t xml:space="preserve">cot</m:t>
                        </m:r>
                        <m:r>
                          <m:rPr>
                            <m:lit/>
                            <m:nor/>
                          </m:rPr>
                          <m:t xml:space="preserve">é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Nb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cot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és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9</m:t>
                                </m:r>
                              </m:den>
                            </m:f>
                          </m:e>
                        </m:d>
                      </m:den>
                    </m:f>
                    <m:r>
                      <m:t xml:space="preserve">∗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ir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olygon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firmament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Expérimentation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ractale dans Log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>
            <a:hlinkClick r:id="rId2"/>
          </p:cNvPr>
          <p:cNvSpPr/>
          <p:nvPr/>
        </p:nvSpPr>
        <p:spPr>
          <a:xfrm>
            <a:off x="685800" y="3048120"/>
            <a:ext cx="541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Graphiques dans Exc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firmament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ff"/>
                </a:solidFill>
                <a:latin typeface="Times New Roman"/>
              </a:rPr>
              <a:t>Forces du program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28600" y="9144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ff"/>
                </a:solidFill>
                <a:latin typeface="Times New Roman"/>
              </a:rPr>
              <a:t>Très visu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28600" y="1523880"/>
            <a:ext cx="7696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ff"/>
                </a:solidFill>
                <a:latin typeface="Times New Roman"/>
              </a:rPr>
              <a:t>En plus des graphiques, nous avons une image de l’objet à l’étud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28600" y="266688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ccff"/>
                </a:solidFill>
                <a:latin typeface="Times New Roman"/>
              </a:rPr>
              <a:t>Très simple à utilis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335268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ff"/>
                </a:solidFill>
                <a:latin typeface="Times New Roman"/>
              </a:rPr>
              <a:t>Matériel interacti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52280" y="4038480"/>
            <a:ext cx="8763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ff"/>
                </a:solidFill>
                <a:latin typeface="Times New Roman"/>
              </a:rPr>
              <a:t>Les aspects Mathématiques/Informatiques/Didactiques sont intéressants pour les professeurs et aussi pour les élèves (formules, gestion de l’infini, récursivité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52280" y="5638680"/>
            <a:ext cx="807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ff"/>
                </a:solidFill>
                <a:latin typeface="Times New Roman"/>
              </a:rPr>
              <a:t>Fait place à la recherche (les superpositions, l’aire pour un alpha autre que 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firmament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Times New Roman"/>
              </a:rPr>
              <a:t>Limites du program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Times New Roman"/>
              </a:rPr>
              <a:t>Les fichiers Logo sont difficiles à manipul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2209680"/>
            <a:ext cx="7696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Times New Roman"/>
              </a:rPr>
              <a:t>On ne peut travailler avec des nombres autres que entiers pour les longueurs de côté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3429000"/>
            <a:ext cx="7848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ccffff"/>
                </a:solidFill>
                <a:latin typeface="Times New Roman"/>
              </a:rPr>
              <a:t>Le logiciel Excel ne permet pas de traiter le cas particulier de c=8 dans le même graphique que les autres c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5181480"/>
            <a:ext cx="8763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ccffff"/>
                </a:solidFill>
                <a:latin typeface="Times New Roman"/>
              </a:rPr>
              <a:t>Le logiciel </a:t>
            </a:r>
            <a:r>
              <a:rPr b="0" i="1" lang="fr-CA" sz="2800" spc="-1" strike="noStrike">
                <a:solidFill>
                  <a:srgbClr val="ccffff"/>
                </a:solidFill>
                <a:latin typeface="Times New Roman"/>
              </a:rPr>
              <a:t>Terrapin Logo</a:t>
            </a:r>
            <a:r>
              <a:rPr b="0" lang="fr-CA" sz="2800" spc="-1" strike="noStrike">
                <a:solidFill>
                  <a:srgbClr val="ccffff"/>
                </a:solidFill>
                <a:latin typeface="Times New Roman"/>
              </a:rPr>
              <a:t> devient très lent lorsque le nombre d’étapes dépasse 5 (Mais…c’est compréhensible!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firmament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cc"/>
                </a:solidFill>
                <a:latin typeface="Times New Roman"/>
              </a:rPr>
              <a:t>Déroulement de la présentation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cc"/>
                </a:solidFill>
                <a:latin typeface="Times New Roman"/>
              </a:rPr>
              <a:t>À qui s’adresse ce proje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cc"/>
                </a:solidFill>
                <a:latin typeface="Times New Roman"/>
              </a:rPr>
              <a:t>Définition de fracta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cc"/>
                </a:solidFill>
                <a:latin typeface="Times New Roman"/>
              </a:rPr>
              <a:t>La mécanique grâce à « L’acte de foi »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cc"/>
                </a:solidFill>
                <a:latin typeface="Times New Roman"/>
              </a:rPr>
              <a:t>Calcul de périmètre et d’ai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cc"/>
                </a:solidFill>
                <a:latin typeface="Times New Roman"/>
              </a:rPr>
              <a:t>Expérim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cc"/>
                </a:solidFill>
                <a:latin typeface="Times New Roman"/>
              </a:rPr>
              <a:t>Forces / limi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cc"/>
                </a:solidFill>
                <a:latin typeface="Times New Roman"/>
              </a:rPr>
              <a:t>Conclus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cc"/>
                </a:solidFill>
                <a:latin typeface="Times New Roman"/>
              </a:rPr>
              <a:t>Période de ques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firmament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ff"/>
                </a:solidFill>
                <a:latin typeface="Times New Roman"/>
              </a:rPr>
              <a:t>Quleques difficultés rencontrées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104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us avons dû faire un choix entre le calcul précis du périmètre et celui de l’aire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600" y="2971800"/>
            <a:ext cx="6781680" cy="11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Confiance en « l’Acte de foi… »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28600" y="3733920"/>
            <a:ext cx="7010280" cy="11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raitement des superposi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04920" y="4419720"/>
            <a:ext cx="7696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a formule du calcul de l’aire était difficile à coder!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firmament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À qui s’adresse ce proje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À vous, à nous, à tout le monde!  Mais  plus particulièremen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ux enseignants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ux étudiants du C.E.G.E.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ux étudiants du deuxième cycle du  secondaire qui s’intéressent au suj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firmament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ccff"/>
                </a:solidFill>
                <a:latin typeface="Times New Roman"/>
              </a:rPr>
              <a:t>Mais qu’est-ce qu’un(e) fractal(e)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2120" y="2057040"/>
            <a:ext cx="76960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ccccff"/>
                </a:solidFill>
                <a:latin typeface="Times New Roman"/>
              </a:rPr>
              <a:t>On nomme fractale (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</a:rPr>
              <a:t>nom féminin</a:t>
            </a:r>
            <a:r>
              <a:rPr b="0" lang="en-US" sz="3200" spc="-1" strike="noStrike">
                <a:solidFill>
                  <a:srgbClr val="ccccff"/>
                </a:solidFill>
                <a:latin typeface="Times New Roman"/>
              </a:rPr>
              <a:t>) une courbe ou surface de forme irrégulière ou morcelée qui se crée en suivant des règles déterminis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firmament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380880" y="152280"/>
            <a:ext cx="7925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aractéristiques d’un objet fract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1143000"/>
            <a:ext cx="7925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Un objet fractal possède </a:t>
            </a:r>
            <a:r>
              <a:rPr b="0" lang="en-US" sz="2400" spc="-1" strike="noStrike" u="sng">
                <a:solidFill>
                  <a:srgbClr val="ffcc00"/>
                </a:solidFill>
                <a:uFillTx/>
                <a:latin typeface="Times New Roman"/>
              </a:rPr>
              <a:t>au moins l'une des caractéristiques suivantes</a:t>
            </a: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 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33520" y="2057400"/>
            <a:ext cx="79246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Il a des détails similaires à des échelles arbitrairement petites</a:t>
            </a:r>
            <a:br>
              <a:rPr sz="2400"/>
            </a:b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 ou grand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09480" y="4267080"/>
            <a:ext cx="78487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2971800"/>
            <a:ext cx="792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Il est trop irrégulier pour être décrit efficacement en termes </a:t>
            </a:r>
            <a:br>
              <a:rPr sz="2400"/>
            </a:b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 géométriques traditionne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33520" y="38862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ffcc00"/>
                </a:solidFill>
                <a:latin typeface="Times New Roman"/>
              </a:rPr>
              <a:t>Il est exactement ou statistiquement autosimilaire c'est-à-dire</a:t>
            </a:r>
            <a:br>
              <a:rPr sz="2400"/>
            </a:br>
            <a:r>
              <a:rPr b="0" lang="fr-CA" sz="2400" spc="-1" strike="noStrike">
                <a:solidFill>
                  <a:srgbClr val="ffcc00"/>
                </a:solidFill>
                <a:latin typeface="Times New Roman"/>
              </a:rPr>
              <a:t> que le tout est semblable à une de ses part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320" y="4800600"/>
            <a:ext cx="822960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Times New Roman"/>
              </a:rPr>
              <a:t>Il existe d’autres caractéristiques nous permettant de déterminer des objets fractals, mais les trois premières sont les principal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firmament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3870360" y="2057400"/>
            <a:ext cx="268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ffff"/>
                </a:solidFill>
                <a:latin typeface="Times New Roman"/>
              </a:rPr>
              <a:t>En voici quelques exemples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feuille" descr=""/>
          <p:cNvPicPr/>
          <p:nvPr/>
        </p:nvPicPr>
        <p:blipFill>
          <a:blip r:embed="rId2"/>
          <a:stretch/>
        </p:blipFill>
        <p:spPr>
          <a:xfrm>
            <a:off x="1447920" y="1371600"/>
            <a:ext cx="1805040" cy="2286000"/>
          </a:xfrm>
          <a:prstGeom prst="rect">
            <a:avLst/>
          </a:prstGeom>
          <a:ln w="0">
            <a:noFill/>
          </a:ln>
        </p:spPr>
      </p:pic>
      <p:pic>
        <p:nvPicPr>
          <p:cNvPr id="69" name="120px-Fractale_de_mandelbroot" descr=""/>
          <p:cNvPicPr/>
          <p:nvPr/>
        </p:nvPicPr>
        <p:blipFill>
          <a:blip r:embed="rId3"/>
          <a:stretch/>
        </p:blipFill>
        <p:spPr>
          <a:xfrm>
            <a:off x="4800600" y="1447920"/>
            <a:ext cx="2895480" cy="2361960"/>
          </a:xfrm>
          <a:prstGeom prst="rect">
            <a:avLst/>
          </a:prstGeom>
          <a:ln w="0">
            <a:noFill/>
          </a:ln>
        </p:spPr>
      </p:pic>
      <p:pic>
        <p:nvPicPr>
          <p:cNvPr id="70" name="Menger_sponge_%2528IFS%2529" descr=""/>
          <p:cNvPicPr/>
          <p:nvPr/>
        </p:nvPicPr>
        <p:blipFill>
          <a:blip r:embed="rId4"/>
          <a:stretch/>
        </p:blipFill>
        <p:spPr>
          <a:xfrm>
            <a:off x="914400" y="3848040"/>
            <a:ext cx="3009960" cy="3009960"/>
          </a:xfrm>
          <a:prstGeom prst="rect">
            <a:avLst/>
          </a:prstGeom>
          <a:ln w="0">
            <a:noFill/>
          </a:ln>
        </p:spPr>
      </p:pic>
      <p:pic>
        <p:nvPicPr>
          <p:cNvPr id="71" name="sierpinski" descr=""/>
          <p:cNvPicPr/>
          <p:nvPr/>
        </p:nvPicPr>
        <p:blipFill>
          <a:blip r:embed="rId5"/>
          <a:stretch/>
        </p:blipFill>
        <p:spPr>
          <a:xfrm>
            <a:off x="4800600" y="3932280"/>
            <a:ext cx="2832120" cy="29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firmament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cc"/>
                </a:solidFill>
                <a:latin typeface="Times New Roman"/>
              </a:rPr>
              <a:t>Notre programme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62120" y="228600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66cc"/>
                </a:solidFill>
                <a:latin typeface="Times New Roman"/>
              </a:rPr>
              <a:t>Le but poursuivi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2286000" y="3276720"/>
          <a:ext cx="3314880" cy="3105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0" y="3276720"/>
                    <a:ext cx="3314880" cy="310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firmament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Les principes fondateurs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2057400" y="2286000"/>
          <a:ext cx="2028960" cy="2286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057400" y="2286000"/>
                    <a:ext cx="202896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762120" y="251460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Étape 0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952880" y="25146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Étape 1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6172200" y="2209680"/>
          <a:ext cx="2311560" cy="25052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172200" y="2209680"/>
                    <a:ext cx="2311560" cy="250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"/>
          <p:cNvSpPr/>
          <p:nvPr/>
        </p:nvSpPr>
        <p:spPr>
          <a:xfrm>
            <a:off x="762120" y="4648320"/>
            <a:ext cx="792468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Le clic de souris permet de passer à l’étape suiva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La variable « clics » (qui vaut 0 au départ, augmente de 1 à chaque clic du bouton nivea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firmament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1660680" y="380880"/>
            <a:ext cx="6111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33520" y="457200"/>
            <a:ext cx="807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85800" y="45720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L’Acte de Foi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33520" y="1295280"/>
            <a:ext cx="73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riangle récursif, pour comprendre le travail des lut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114640" y="22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7 nains" descr=""/>
          <p:cNvPicPr/>
          <p:nvPr/>
        </p:nvPicPr>
        <p:blipFill>
          <a:blip r:embed="rId3"/>
          <a:stretch/>
        </p:blipFill>
        <p:spPr>
          <a:xfrm>
            <a:off x="0" y="2133720"/>
            <a:ext cx="9601200" cy="420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6T01:15:18Z</dcterms:created>
  <dc:creator>installation</dc:creator>
  <dc:description/>
  <dc:language>en-US</dc:language>
  <cp:lastModifiedBy>Linda Lemieux</cp:lastModifiedBy>
  <dcterms:modified xsi:type="dcterms:W3CDTF">2005-04-29T19:23:15Z</dcterms:modified>
  <cp:revision>16</cp:revision>
  <dc:subject/>
  <dc:title>Présentation PowerPoint</dc:title>
</cp:coreProperties>
</file>