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2FE-3A70-4205-8260-6B7D7A7C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317-0009-4C67-BD9F-2ED6FEE5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807-737C-4FD1-AB64-5939DDAC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A29F-2EC8-405A-9E20-C0E3364F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6A8-D907-4329-A7A6-CC1FC9B2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9C4-9FC5-4BBA-9455-4424F09C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74A-44DE-4B6F-A1EC-2C5F1475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3314-6822-48B9-8558-528594FA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52D-EFB9-4676-A5F8-FE11C9AD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D5AB-3281-4627-8519-A53B236F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71A0-3BB3-4590-961A-BD734501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D543-6DA0-4FE9-9149-D03ACE88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A137-4E55-443D-B78D-719CEA80F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561440" cy="56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84836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7774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42920" y="333360"/>
            <a:ext cx="6983640" cy="59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7344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7564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5T21:38:15Z</dcterms:created>
  <dc:creator>la famille lapierre au complet</dc:creator>
  <dc:description/>
  <dc:language>en-US</dc:language>
  <cp:lastModifiedBy>la famille lapierre au complet</cp:lastModifiedBy>
  <dcterms:modified xsi:type="dcterms:W3CDTF">2005-05-05T21:42:38Z</dcterms:modified>
  <cp:revision>1</cp:revision>
  <dc:subject/>
  <dc:title>Diapositive 1</dc:title>
</cp:coreProperties>
</file>