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CBC2-6855-4BBE-96FF-24738AD9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8E70-C832-4479-A6B2-A9D13D35D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8FD3-301F-433F-990C-1B1E4AD8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798-FC58-4770-96AA-75A5A4B8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7E47-9875-41EF-B7A0-F82990AB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E862-E3AA-47CD-87D1-3AEBD25B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23E4-0113-48C0-A3D9-282026DD6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158F-3428-4ABB-B985-FC313B7A6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8FD-7193-432F-9625-CFCB74AF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9ABF-12DD-4C98-9DB8-2CBF15E0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49C3-79CA-42DE-BCC3-2E48C9EE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88F-B1B6-4308-B360-4084ED6D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5EC5-4DAE-42D3-9CE6-1BB21709E2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N.Y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Une panoplie de détails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62320" y="533520"/>
            <a:ext cx="4344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6278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6846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6846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6846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304920"/>
            <a:ext cx="4584600" cy="61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43560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641840" cy="61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69960" y="501480"/>
            <a:ext cx="78040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8:03:29Z</dcterms:created>
  <dc:creator>SITEL</dc:creator>
  <dc:description/>
  <dc:language>en-US</dc:language>
  <cp:lastModifiedBy>SITEL</cp:lastModifiedBy>
  <dcterms:modified xsi:type="dcterms:W3CDTF">2005-05-06T18:10:21Z</dcterms:modified>
  <cp:revision>1</cp:revision>
  <dc:subject/>
  <dc:title>N.Y.</dc:title>
</cp:coreProperties>
</file>