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54F-E7CB-4453-B63D-C1004CF8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B0D3-31DD-4CA3-87A0-4E79F408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3BB-ABB3-42E5-814F-BD012384C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620-BDC6-4F69-800A-0F1F84CCB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E170-F114-45DF-ADB2-62AF9DD8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0654-5417-49CC-969E-A01E6B59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DD88-DF8C-4359-B866-56C84F495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E4D4-FB2C-453C-A5EA-283B5BDF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F39B-D152-4158-885E-76F6D48E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C02B-4982-4789-A564-495BFFF5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27FE-EF1C-4FBD-B9E6-98D91702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07B-3765-49E9-B104-4303FF93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61BE-9420-44EC-8AEA-21B85B79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72EE-457C-44F8-B331-D3EFDE79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AD6A-B113-4769-BA25-F74A225B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1136-5060-474A-A358-87EA4056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8FC6-2F18-405F-B451-F73D8E5D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F47-F37C-40E0-8BA0-E0EA24C7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EE45-C8B2-46BA-932D-AE2C8BD5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A631-5EE6-41CA-9D1A-D6D0A41C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FBB0-BE76-43D3-9A16-72DB1343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482-C3AF-454B-9127-57215732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B7F-8890-4D46-8EA6-362DF70A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6F3-EFE0-4C8D-9E70-DEF827DC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E398-8C05-46D5-BBA1-629A6663BAAA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B13F-E60F-43F6-AA89-B0F5305D8CFF}" type="slidenum">
              <a:rPr b="0" lang="fr-C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LES_PROG.DOC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riangle.mov" TargetMode="External"/><Relationship Id="rId2" Type="http://schemas.openxmlformats.org/officeDocument/2006/relationships/hyperlink" Target="file:///carr%8E.mov" TargetMode="External"/><Relationship Id="rId3" Type="http://schemas.openxmlformats.org/officeDocument/2006/relationships/hyperlink" Target="file:///hexagone.mov" TargetMode="External"/><Relationship Id="rId4" Type="http://schemas.openxmlformats.org/officeDocument/2006/relationships/hyperlink" Target="file:///cercle%20(sans%20les%20vecteurs).mov" TargetMode="External"/><Relationship Id="rId5" Type="http://schemas.openxmlformats.org/officeDocument/2006/relationships/hyperlink" Target="file:///Cercle.mov" TargetMode="External"/><Relationship Id="rId6" Type="http://schemas.openxmlformats.org/officeDocument/2006/relationships/hyperlink" Target="file:///Cercle2.mov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PRESENT3.PPT" TargetMode="External"/><Relationship Id="rId2" Type="http://schemas.openxmlformats.org/officeDocument/2006/relationships/hyperlink" Target="file:///PRESENT2.ppt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ccecff"/>
                </a:solidFill>
                <a:latin typeface="Arial"/>
              </a:rPr>
              <a:t>Les différentes perspectives des objets géométriques à 2 dimension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Pa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Jean-François Lapier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La programm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Partie commune à tous les programm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Particularités de chacun de ceux-c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Les Vidé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Le triangl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Le carr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L’hexag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Le cer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Rotation de la camér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Verdana"/>
              </a:rPr>
              <a:t>Caméra fix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Essai 1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Essai 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Raffinements possib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Faire pivoter la caméra sur plus d’un ax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Des objets en 3 dimensi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Prendre des mesures à l’aide de       POV-Ray afin d’établir des li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Choix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Présentation du phénomène étudi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Mes objectif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Le logiciel POV-R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Les possibilités quasi infini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mages surprenante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Différentes im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La ville de New Y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Les ajustements linguistiqu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POV-Ray (suite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Difficultés à produire plusieurs images sous P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Les mesures d’ang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Sinus et cosin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Les persp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Mes premiers essa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012000" y="3141720"/>
            <a:ext cx="2695320" cy="2124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2216160" cy="21891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276720" y="3213000"/>
            <a:ext cx="2376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Tentatives de calcu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La trigonométr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Incompatibilité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La voie vectorielle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ccecff"/>
                </a:solidFill>
                <a:latin typeface="Arial"/>
              </a:rPr>
              <a:t>Les formules vectoriel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Explication du phénomè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Explication des paramètres </a:t>
            </a:r>
            <a:r>
              <a:rPr b="0" i="1" lang="fr-CA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 et </a:t>
            </a:r>
            <a:r>
              <a:rPr b="0" i="1" lang="fr-CA" sz="3200" spc="-1" strike="noStrike">
                <a:solidFill>
                  <a:srgbClr val="ffffff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L’effet de zoo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La règle de la main droi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0" r="49219" b="47920"/>
          <a:stretch/>
        </p:blipFill>
        <p:spPr>
          <a:xfrm>
            <a:off x="395280" y="260280"/>
            <a:ext cx="8280360" cy="63705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 flipV="1">
            <a:off x="1828800" y="1905120"/>
            <a:ext cx="0" cy="4572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5334120"/>
            <a:ext cx="0" cy="3808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867280" y="5257800"/>
                <a:ext cx="228600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num>
                      <m:den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867280" y="1219320"/>
                <a:ext cx="2286000" cy="12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⋅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</m:num>
                      <m:den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P</m:t>
                            </m:r>
                          </m:e>
                        </m:acc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5181480" y="175248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81480" y="57913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3162240" y="2323800"/>
            <a:ext cx="800280" cy="1181160"/>
          </a:xfrm>
          <a:custGeom>
            <a:avLst/>
            <a:gdLst>
              <a:gd name="textAreaLeft" fmla="*/ 0 w 800280"/>
              <a:gd name="textAreaRight" fmla="*/ 800640 w 80028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 rot="5400000">
            <a:off x="3162240" y="3161160"/>
            <a:ext cx="800280" cy="1181160"/>
          </a:xfrm>
          <a:custGeom>
            <a:avLst/>
            <a:gdLst>
              <a:gd name="textAreaLeft" fmla="*/ 0 w 800280"/>
              <a:gd name="textAreaRight" fmla="*/ 800640 w 800280"/>
              <a:gd name="textAreaTop" fmla="*/ -360 h 1181160"/>
              <a:gd name="textAreaBottom" fmla="*/ 118116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ccecff"/>
                </a:solidFill>
                <a:latin typeface="Arial"/>
              </a:rPr>
              <a:t>Insertion des formules vectoriel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Le programm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Verdana"/>
              </a:rPr>
              <a:t>Les possibilités pour l’utilisate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Nouvelles figur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Verdana"/>
              </a:rPr>
              <a:t>Agrandissem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21:01:04Z</dcterms:created>
  <dc:creator>la famille lapierre au complet</dc:creator>
  <dc:description/>
  <dc:language>en-US</dc:language>
  <cp:lastModifiedBy>Utilisateur</cp:lastModifiedBy>
  <cp:lastPrinted>2009-04-22T19:24:48Z</cp:lastPrinted>
  <dcterms:modified xsi:type="dcterms:W3CDTF">2005-05-21T16:50:21Z</dcterms:modified>
  <cp:revision>10</cp:revision>
  <dc:subject/>
  <dc:title>Les différentes perspectives des objets géométriques à 2 dimen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