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8BB-3FBE-4062-9530-AB46604A7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B86B-C45F-46C0-B696-D14A3B4C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E06A-311D-4784-8C6F-47262F69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150-27AF-46BE-A55E-AC9F2D1E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6E99-CA20-4E34-8732-1CB4D0ED5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DBB6-94BD-47B0-BEA6-C77E4EED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756F-FDC2-4AA6-836D-08D1064E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6D46-E247-48EF-B28C-5E081CE8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EF31-2995-4271-B777-C57F608C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2441-D04A-4FB1-A365-24C90EBF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E2FF-7B86-4784-B64A-9A2A720A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A28-F1C1-4DB4-9222-67CAA878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C6A9-82F3-46A4-9E56-2E921B445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E4C9-F325-4D50-9BFD-F1A4079B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07E4-F4E5-4DF9-9BA4-8BBC7BEE5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E796-EA7A-43B6-A374-87F5EBEC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18A2-8224-4AF1-9EFC-8BDCC0D8A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966-63E6-4D7C-9C5F-0B0A621A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98DC-7145-4C72-9494-C71F5C57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E64-2117-4D52-8186-C1CD3D40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332F-1947-4CE5-ADBD-FB9DBC61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CD3C-5443-4EC0-82B9-5EE79B77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B5D1-17B1-4E04-A732-7EA2527A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51F4-30FD-4BD7-8172-5ACF7EAC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6384-5672-4DB4-A4DC-EDB6B7D8289F}" type="slidenum">
              <a:rPr b="0" i="1" lang="fr-FR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fr-FR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6A51-780E-4BA5-B577-0B3A71A9880F}" type="slidenum">
              <a:rPr b="0" i="1" lang="fr-FR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YÈDRES </a:t>
            </a:r>
            <a:r>
              <a:rPr b="1" lang="en-US" sz="4400" spc="-1" strike="noStrike">
                <a:solidFill>
                  <a:srgbClr val="5b4e8f"/>
                </a:solidFill>
                <a:latin typeface="Times New Roman"/>
              </a:rPr>
              <a:t>RÉGULIER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9907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ada897"/>
                </a:solidFill>
                <a:latin typeface="Times New Roman"/>
              </a:rPr>
              <a:t>Par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ada897"/>
                </a:solidFill>
                <a:latin typeface="Times New Roman"/>
              </a:rPr>
              <a:t>Jean-Pierre Goui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En terminant…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elle serait l’utilité d’un tel programme dans une situation d’apprentissage  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Quelqu’un a-t-il déjà « étudié » les polyèdres réguliers en classe ?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20320" y="1123560"/>
            <a:ext cx="6862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Définition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130400" y="2346480"/>
            <a:ext cx="685296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olyèdre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:  C’est un solide limité de toutes parts par des polygones pla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Polyèdre régulier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: C’est un polyèdre convexe dont toutes les faces sont des polygones réguliers - donc toutes les arêtes sont égales et les angles également - et tous les sommets sont identiques, i.e. chaque sommet relie le même nombre d’arê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20320" y="1123560"/>
            <a:ext cx="6862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Pourquoi 5 polyèdres réguliers ?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409720" y="2057040"/>
            <a:ext cx="3359160" cy="38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eaeaea"/>
                </a:solidFill>
                <a:uFillTx/>
                <a:latin typeface="Times New Roman"/>
              </a:rPr>
              <a:t>Eul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Times New Roman"/>
              </a:rPr>
              <a:t>s - a +f = 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Times New Roman"/>
              </a:rPr>
              <a:t>sr = 2a = f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Times New Roman"/>
              </a:rPr>
              <a:t>Donc, s = 2*a/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Times New Roman"/>
              </a:rPr>
              <a:t>Et       f = 2*a/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Times New Roman"/>
              </a:rPr>
              <a:t>Alors, 1/r+1/n =1/2+1/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990360" y="2362320"/>
            <a:ext cx="335916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Définissons r et 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 est le nombre d’arêtes (faces) en un somme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 est le nombre de côtés par fa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nc, r &gt;2 et n &gt;2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20320" y="1123560"/>
            <a:ext cx="6862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d39f"/>
                </a:solidFill>
                <a:latin typeface="Times New Roman"/>
              </a:rPr>
              <a:t>Polygones formant les faces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30040" y="2346480"/>
            <a:ext cx="335916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tilisons la formule nous donnant la mesure d’un angle intérieur d’un polygone régulier de n côtés 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(n-2)/n)*18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24560" y="2346480"/>
            <a:ext cx="3358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Pour obtenir un polyèdre convex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me des angles en ce sommet &lt; 36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eaeaea"/>
              </a:buClr>
              <a:buSzPct val="9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aque sommet relie au moins 3 fac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20320" y="1123560"/>
            <a:ext cx="6862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Démonstration (suite)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30400" y="2346480"/>
            <a:ext cx="685296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 combinant les deux conditions nous obtenons 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*((n-2)/n)*180 &lt; 36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(n-2)/n &lt; 2/3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n-6 &lt; 2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 &lt; 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20320" y="1123560"/>
            <a:ext cx="6862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Numérisation des polyèdres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30400" y="2346120"/>
            <a:ext cx="7175520" cy="38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Nom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F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S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étraèdr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ub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ctaèdr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décaèdr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cosaèdr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20320" y="1123560"/>
            <a:ext cx="6862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aractéristiques spéciales 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30400" y="2346480"/>
            <a:ext cx="685296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Times New Roman"/>
              </a:rPr>
              <a:t>Tétraèdre inscrit dans le cub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Times New Roman"/>
              </a:rPr>
              <a:t>Icosaèdre et le nombre d’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Times New Roman"/>
              </a:rPr>
              <a:t>- Rapport entre une diagonale et côt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Times New Roman"/>
              </a:rPr>
              <a:t>- Rectangles d’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La dualité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entre de gravité de chaque face est l’emplacement d’un sommet du polyèdre dua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ent déduire rapidement quel polyèdre sera le polyèdre dual d’un polyèdre donné 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ent expliquer ces phénomènes de dualité, que peut-on en tirer 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Visite guidée du programme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Structur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: apparence, variables et coordonnées des polyèd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urquoi l’avoir construit ainsi ?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ment bien s’y retrouver et s’assurer que l’on a bien défini ce que l’on veut fair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aiblesses et améliorations, évolutions plausibles du programm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8:40:05Z</dcterms:created>
  <dc:creator>SITEL</dc:creator>
  <dc:description/>
  <dc:language>en-US</dc:language>
  <cp:lastModifiedBy>SITEL</cp:lastModifiedBy>
  <dcterms:modified xsi:type="dcterms:W3CDTF">2005-05-10T12:59:27Z</dcterms:modified>
  <cp:revision>2</cp:revision>
  <dc:subject/>
  <dc:title>POLYÈDRES RÉGULIERS</dc:title>
</cp:coreProperties>
</file>