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BBF7-3DD4-4ED4-9983-160AFC3FC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1C59-F005-40FC-863A-4B8A536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9304-0722-4045-BF49-78CF024B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74B-C8E2-498E-B70A-983D9F6D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DC71-097B-4B9A-B4F6-5B9ABF878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0F99-BA01-4C8E-B445-186A16EF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F73E-D2D7-4A3A-BDDF-F009ABAF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5230-D8FB-48B4-8432-0560F418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5DC-F39D-4CC0-9C65-196D013E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3CED-815E-4DFB-AABC-25BD3FAC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BB39-32E5-44EA-B89D-85FFCA02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2205-9E31-4F22-B7CD-04F1DF06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B5AE-2C16-479C-9D72-8B03D5AF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E1D-F95A-407D-A496-EBA58841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52AD-09DE-4297-BDE8-140A3A14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FB689-3108-4B5A-A3EB-F9C78538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0CCD-C1EA-481B-8ED9-03AE2D0C7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2DB1-0BB4-4CCE-914A-79BF20C7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1C9C-6D46-4EAE-BA6A-4C50EDF0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B88-86BD-4F04-82D1-946AB847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EF2-8C5B-4943-AE64-F8F85F61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C07-BDFA-46CB-9747-1A54F165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CBDB-631C-4854-95CE-357B155D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51F-658D-45B2-AC94-BF47BA9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892AB-3A50-450F-AE24-46DE04B0632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F0CC-BFB8-4E03-A059-9734F0B2AE89}" type="slidenum">
              <a:rPr b="0" lang="fr-FR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apis.doc" TargetMode="External"/><Relationship Id="rId3" Type="http://schemas.openxmlformats.org/officeDocument/2006/relationships/hyperlink" Target="file:///tapis.doc" TargetMode="External"/><Relationship Id="rId4" Type="http://schemas.openxmlformats.org/officeDocument/2006/relationships/hyperlink" Target="file:///Rapport.doc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oug&#232;re.doc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64880"/>
            <a:ext cx="746748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600" spc="-1" strike="noStrike">
                <a:solidFill>
                  <a:srgbClr val="ccffff"/>
                </a:solidFill>
                <a:latin typeface="Tahoma"/>
              </a:rPr>
              <a:t>La régularité par le hasard: un paradoxe?!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88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ccecff"/>
                </a:solidFill>
                <a:latin typeface="Tahoma"/>
              </a:rPr>
              <a:t>Présentation par: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ccecff"/>
                </a:solidFill>
                <a:latin typeface="Tahoma"/>
              </a:rPr>
              <a:t>Eric Giasson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Au commencement, il y avait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e Déterminism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Newton, Laplace, Einstei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es «anti-déterministes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Bohr, Heisenberg,…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théorie du Cha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Exemples frappants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Sierpinski et ses amis </a:t>
            </a:r>
            <a:r>
              <a:rPr b="0" lang="fr-CA" sz="4400" spc="-1" strike="noStrike">
                <a:solidFill>
                  <a:srgbClr val="cc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Première approche : la récursivit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Mon approche: les IFS ou système de fonctions itéré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«Chaos game 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(le jeu de chaos…roulement de tambour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Sierpinski au pays d’Alice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Le tapis de</a:t>
            </a:r>
            <a:r>
              <a:rPr b="0" lang="fr-CA" sz="2800" spc="-1" strike="noStrike" u="sng">
                <a:solidFill>
                  <a:srgbClr val="99ccff"/>
                </a:solidFill>
                <a:uFillTx/>
                <a:latin typeface="Tahoma"/>
                <a:hlinkClick r:id="rId3"/>
              </a:rPr>
              <a:t> Sierpinski</a:t>
            </a: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… une longue histoire d’amour et de haine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La grè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Approche par vecteur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Les polygones de Sierpins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Approche vectorielle (encore!…ce sera bre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99ccff"/>
                </a:solidFill>
                <a:uFillTx/>
                <a:latin typeface="Tahoma"/>
                <a:hlinkClick r:id="rId4"/>
              </a:rPr>
              <a:t>Les rapports d’homothé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Cas particuli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Dans la jungle, terrible jungle le lion est mort ce soir…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fougère de Barnsl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99ccff"/>
                </a:solidFill>
                <a:uFillTx/>
                <a:latin typeface="Tahoma"/>
                <a:hlinkClick r:id="rId2"/>
              </a:rPr>
              <a:t>Transformations linéaires affi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Création d’une image infiniment précise à l’aide d’un hasard biais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Tahoma"/>
              </a:rPr>
              <a:t>Quelques autres exemples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ahoma"/>
              </a:rPr>
              <a:t>(Ne t’en fait pas J-F… pas cette fois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w</a:t>
            </a:r>
            <a:r>
              <a:rPr b="0" lang="fr-CA" sz="4000" spc="-1" strike="noStrike">
                <a:solidFill>
                  <a:srgbClr val="ccffff"/>
                </a:solidFill>
                <a:latin typeface="Tahoma"/>
              </a:rPr>
              <a:t>imboe</a:t>
            </a:r>
            <a:r>
              <a:rPr b="0" lang="fr-CA" sz="4400" spc="-1" strike="noStrike">
                <a:solidFill>
                  <a:srgbClr val="ccffff"/>
                </a:solidFill>
                <a:latin typeface="Tahoma"/>
              </a:rPr>
              <a:t> wimboe wimboe!!!!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Dernières impressions et ouvertur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La pointe de l’icebe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Aux bouteille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Prè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Buvez!!!!!! Bon début de vie de Prof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7:28:02Z</dcterms:created>
  <dc:creator>installation</dc:creator>
  <dc:description/>
  <dc:language>en-US</dc:language>
  <cp:lastModifiedBy>installation</cp:lastModifiedBy>
  <dcterms:modified xsi:type="dcterms:W3CDTF">2005-05-06T17:25:57Z</dcterms:modified>
  <cp:revision>6</cp:revision>
  <dc:subject/>
  <dc:title>La régularité par le hasard: un paradoxe?!</dc:title>
</cp:coreProperties>
</file>