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B7A-CEBB-4B5D-9912-301EA686D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18E-0943-4CE7-92C8-9A4C83D5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33A6-9F40-4DE4-97F7-2FE648AF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C257-E9E3-45DA-AC2A-970813B7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0792-EE30-440E-AD43-2DD47F2E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2D50-0E86-4521-A9AA-9C99A9C4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B4B1-4208-4EA8-8856-D888E4B1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A5DF-C7C1-4EAD-8B51-2E41F889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896E-D601-48E2-A0C8-A665B36D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B1EC-F79E-4379-A7A1-53F58C61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E38F-828A-4684-9C71-3580F4CA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8BD1-52AD-4A5F-9AF1-98460F63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6FEC-EB62-42D6-ACF4-07FD4F55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AF09-DD9C-4B8A-8A04-5708B852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671D-4BBF-4158-9C24-CDA103E6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4F91-4FAE-420A-980E-F9C695D4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BDE80-4806-478F-99F8-F128EEA1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8243-E61B-422C-A0EE-FB50F00B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CB93-8610-489C-8542-899CDD89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536-8F45-4F3E-B66A-1F245E1B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8271-7F8F-422E-A2CD-C6682D8F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9DC4-08A5-4357-9FA8-5ABAAE2D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28D8-DADE-4ACC-88E0-E0F8EEDE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BA45-2485-4D17-849B-1647E10D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248520" y="5334120"/>
            <a:ext cx="2895480" cy="1317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C07A-D2F3-4E3E-A41E-1C2735C35D84}" type="datetime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629040"/>
            <a:ext cx="5486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05920" y="662904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3B4F-FB7F-4F24-9686-129D583E18D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60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35232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8748-2EAB-4ED2-AC87-0FE4492C9EEB}" type="datetime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758F-A96C-4DDF-8A66-B255F882657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73356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000" spc="-1" strike="noStrike">
                <a:solidFill>
                  <a:srgbClr val="ffcc00"/>
                </a:solidFill>
                <a:latin typeface="Girls are Weird"/>
              </a:rPr>
              <a:t>Système Solaire avec PovRay</a:t>
            </a:r>
            <a:r>
              <a:rPr b="1" lang="en-US" sz="5000" spc="-1" strike="noStrike">
                <a:solidFill>
                  <a:srgbClr val="ffcc00"/>
                </a:solidFill>
                <a:latin typeface="Girls are Weird"/>
              </a:rPr>
              <a:t> </a:t>
            </a:r>
            <a:endParaRPr b="0" lang="en-US" sz="5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518148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irls are Weird"/>
              </a:rPr>
              <a:t>Par Claudia Corriveau et Jessica Parenteau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60093"/>
                </a:solidFill>
                <a:uFillTx/>
                <a:latin typeface="Girls are Weird"/>
              </a:rPr>
              <a:t>Flash</a:t>
            </a:r>
            <a:endParaRPr b="0" lang="en-US" sz="1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000" spc="-1" strike="noStrike" u="sng">
                <a:solidFill>
                  <a:srgbClr val="ffcc00"/>
                </a:solidFill>
                <a:uFillTx/>
                <a:latin typeface="Girls are Weird"/>
              </a:rPr>
              <a:t>L’utilisation en classe</a:t>
            </a:r>
            <a:endParaRPr b="0" lang="en-US" sz="5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ffcc00"/>
                </a:solidFill>
                <a:latin typeface="Girls are Weird"/>
              </a:rPr>
              <a:t>D’autres exemples d’activités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294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400" spc="-1" strike="noStrike">
                <a:solidFill>
                  <a:srgbClr val="ffcc00"/>
                </a:solidFill>
                <a:latin typeface="Girls are Weird"/>
              </a:rPr>
              <a:t>Premier cycle</a:t>
            </a:r>
            <a:endParaRPr b="0" lang="en-US" sz="3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SzPct val="10294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400" spc="-1" strike="noStrike">
                <a:solidFill>
                  <a:srgbClr val="ffcc00"/>
                </a:solidFill>
                <a:latin typeface="Girls are Weird"/>
              </a:rPr>
              <a:t>Deuxième cycle</a:t>
            </a:r>
            <a:endParaRPr b="0" lang="en-US" sz="3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400" spc="-1" strike="noStrike">
                <a:solidFill>
                  <a:srgbClr val="ffcc00"/>
                </a:solidFill>
                <a:latin typeface="Girls are Weird"/>
              </a:rPr>
              <a:t>Conclusion</a:t>
            </a:r>
            <a:endParaRPr b="0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F348-DB8E-412C-8142-02A624E16ADE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04AAB-E572-437F-9ED8-E0B3C5E9CFF0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 u="sng">
                <a:solidFill>
                  <a:srgbClr val="ffcc00"/>
                </a:solidFill>
                <a:uFillTx/>
                <a:latin typeface="Girls are Weird"/>
              </a:rPr>
              <a:t>Système Solaire avec PovRa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500" spc="-1" strike="noStrike">
                <a:solidFill>
                  <a:srgbClr val="ffcc00"/>
                </a:solidFill>
                <a:latin typeface="Girls are Weird"/>
              </a:rPr>
              <a:t>Présentation du projet</a:t>
            </a:r>
            <a:endParaRPr b="0" lang="en-US" sz="3500" spc="-1" strike="noStrike">
              <a:solidFill>
                <a:srgbClr val="ffcc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500" spc="-1" strike="noStrike">
                <a:solidFill>
                  <a:srgbClr val="ffcc00"/>
                </a:solidFill>
                <a:latin typeface="Girls are Weird"/>
              </a:rPr>
              <a:t>La programmation</a:t>
            </a:r>
            <a:endParaRPr b="0" lang="en-US" sz="3500" spc="-1" strike="noStrike">
              <a:solidFill>
                <a:srgbClr val="ffcc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ffcc00"/>
                </a:solidFill>
                <a:latin typeface="Girls are Weird"/>
              </a:rPr>
              <a:t>Les préalables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ffcc00"/>
                </a:solidFill>
                <a:latin typeface="Girls are Weird"/>
              </a:rPr>
              <a:t>Le projet en général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ffcc00"/>
                </a:solidFill>
                <a:latin typeface="Girls are Weird"/>
              </a:rPr>
              <a:t>Les programmes de base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ffcc00"/>
                </a:solidFill>
                <a:latin typeface="Girls are Weird"/>
              </a:rPr>
              <a:t>Les programmes secondaires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  <a:p>
            <a:pPr lvl="1" marL="6537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SzPct val="10283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500" spc="-1" strike="noStrike">
                <a:solidFill>
                  <a:srgbClr val="ffcc00"/>
                </a:solidFill>
                <a:latin typeface="Girls are Weird"/>
              </a:rPr>
              <a:t>L’utilisation en classe</a:t>
            </a:r>
            <a:endParaRPr b="0" lang="en-US" sz="35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ffcc00"/>
                </a:solidFill>
                <a:latin typeface="Girls are Weird"/>
              </a:rPr>
              <a:t>Des exemples d’activités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SzPct val="10289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000" spc="-1" strike="noStrike">
                <a:solidFill>
                  <a:srgbClr val="ffcc00"/>
                </a:solidFill>
                <a:latin typeface="Girls are Weird"/>
              </a:rPr>
              <a:t>D’autres idées</a:t>
            </a: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960-E8C4-4A6A-B110-7937F9FB1366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21622-177F-4B51-B711-F2DD20805831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500" spc="-1" strike="noStrike" u="sng">
                <a:solidFill>
                  <a:srgbClr val="ffcc00"/>
                </a:solidFill>
                <a:uFillTx/>
                <a:latin typeface="Girls are Weird"/>
              </a:rPr>
              <a:t>La programmation</a:t>
            </a:r>
            <a:endParaRPr b="0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cc00"/>
                </a:solidFill>
                <a:latin typeface="Girls are Weird"/>
              </a:rPr>
              <a:t>Les préalabl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39640" y="2205000"/>
          <a:ext cx="8229600" cy="4442040"/>
        </p:xfrm>
        <a:graphic>
          <a:graphicData uri="http://schemas.openxmlformats.org/drawingml/2006/table">
            <a:tbl>
              <a:tblPr/>
              <a:tblGrid>
                <a:gridCol w="1176480"/>
                <a:gridCol w="839880"/>
                <a:gridCol w="1079280"/>
                <a:gridCol w="1513080"/>
                <a:gridCol w="1439640"/>
                <a:gridCol w="1005120"/>
                <a:gridCol w="1176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Planè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8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Rayon 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8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Vitesse orbit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8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Inclinaison axi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8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Inclinaison de l’ellip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8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Aphélie</a:t>
                      </a: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Millions 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8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Périhélie</a:t>
                      </a: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Millions 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Sole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2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696 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Km/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degr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degr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Merc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2 43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47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68,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44,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Ve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6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35,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3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106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105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Ter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6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29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M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33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24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1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249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206,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Jup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714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13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1,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815,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740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Satu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60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9,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2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1507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1347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Ura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255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6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0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300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2738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Neptu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2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5,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1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454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4453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d60093"/>
                          </a:solidFill>
                          <a:latin typeface="Comic Sans MS"/>
                        </a:rPr>
                        <a:t>Plu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1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4,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17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739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d60093"/>
                          </a:solidFill>
                          <a:latin typeface="Comic Sans MS"/>
                          <a:ea typeface="Times New Roman"/>
                        </a:rPr>
                        <a:t>4435,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60093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A585-71D4-40CE-9687-FBC7E14167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6989B2-73F1-412C-9178-865784DEA912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000" spc="-1" strike="noStrike" u="sng">
                <a:solidFill>
                  <a:srgbClr val="ffcc00"/>
                </a:solidFill>
                <a:uFillTx/>
                <a:latin typeface="Girls are Weird"/>
              </a:rPr>
              <a:t>Le projet en général</a:t>
            </a:r>
            <a:endParaRPr b="0" lang="en-US" sz="50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593800" y="1797120"/>
            <a:ext cx="3888000" cy="3747960"/>
            <a:chOff x="2593800" y="1797120"/>
            <a:chExt cx="3888000" cy="3747960"/>
          </a:xfrm>
        </p:grpSpPr>
        <p:sp>
          <p:nvSpPr>
            <p:cNvPr id="94" name="_s12329"/>
            <p:cNvSpPr/>
            <p:nvPr/>
          </p:nvSpPr>
          <p:spPr>
            <a:xfrm flipH="1" flipV="1">
              <a:off x="3576240" y="3505320"/>
              <a:ext cx="48276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2328"/>
            <p:cNvSpPr/>
            <p:nvPr/>
          </p:nvSpPr>
          <p:spPr>
            <a:xfrm>
              <a:off x="2593800" y="2841480"/>
              <a:ext cx="1009800" cy="1009800"/>
            </a:xfrm>
            <a:prstGeom prst="ellipse">
              <a:avLst/>
            </a:prstGeom>
            <a:solidFill>
              <a:srgbClr val="d60093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ffcc00"/>
                  </a:solidFill>
                  <a:latin typeface="Comic Sans MS"/>
                </a:rPr>
                <a:t>Math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2327"/>
            <p:cNvSpPr/>
            <p:nvPr/>
          </p:nvSpPr>
          <p:spPr>
            <a:xfrm flipH="1">
              <a:off x="3944520" y="4222800"/>
              <a:ext cx="297000" cy="4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2326"/>
            <p:cNvSpPr/>
            <p:nvPr/>
          </p:nvSpPr>
          <p:spPr>
            <a:xfrm>
              <a:off x="3141720" y="4533840"/>
              <a:ext cx="1009440" cy="1009800"/>
            </a:xfrm>
            <a:prstGeom prst="ellipse">
              <a:avLst/>
            </a:prstGeom>
            <a:solidFill>
              <a:srgbClr val="d60093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ffcc00"/>
                  </a:solidFill>
                  <a:latin typeface="Comic Sans MS"/>
                </a:rPr>
                <a:t>Lim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2325"/>
            <p:cNvSpPr/>
            <p:nvPr/>
          </p:nvSpPr>
          <p:spPr>
            <a:xfrm>
              <a:off x="4834080" y="4222800"/>
              <a:ext cx="296640" cy="40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2324"/>
            <p:cNvSpPr/>
            <p:nvPr/>
          </p:nvSpPr>
          <p:spPr>
            <a:xfrm>
              <a:off x="4921200" y="4535640"/>
              <a:ext cx="1009800" cy="1009440"/>
            </a:xfrm>
            <a:prstGeom prst="ellipse">
              <a:avLst/>
            </a:prstGeom>
            <a:solidFill>
              <a:srgbClr val="d60093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ffcc00"/>
                  </a:solidFill>
                  <a:latin typeface="Comic Sans MS"/>
                </a:rPr>
                <a:t>For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2323"/>
            <p:cNvSpPr/>
            <p:nvPr/>
          </p:nvSpPr>
          <p:spPr>
            <a:xfrm flipV="1">
              <a:off x="5016600" y="3503520"/>
              <a:ext cx="47916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2322"/>
            <p:cNvSpPr/>
            <p:nvPr/>
          </p:nvSpPr>
          <p:spPr>
            <a:xfrm>
              <a:off x="5472000" y="2843280"/>
              <a:ext cx="1009800" cy="1009440"/>
            </a:xfrm>
            <a:prstGeom prst="ellipse">
              <a:avLst/>
            </a:prstGeom>
            <a:solidFill>
              <a:srgbClr val="d60093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ffcc00"/>
                  </a:solidFill>
                  <a:latin typeface="Comic Sans MS"/>
                </a:rPr>
                <a:t>Ennu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2321"/>
            <p:cNvSpPr/>
            <p:nvPr/>
          </p:nvSpPr>
          <p:spPr>
            <a:xfrm flipV="1">
              <a:off x="4537080" y="2806200"/>
              <a:ext cx="0" cy="50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2320"/>
            <p:cNvSpPr/>
            <p:nvPr/>
          </p:nvSpPr>
          <p:spPr>
            <a:xfrm>
              <a:off x="4032360" y="1797120"/>
              <a:ext cx="1009440" cy="1009440"/>
            </a:xfrm>
            <a:prstGeom prst="ellipse">
              <a:avLst/>
            </a:prstGeom>
            <a:solidFill>
              <a:srgbClr val="d60093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ffcc00"/>
                  </a:solidFill>
                  <a:latin typeface="Comic Sans MS"/>
                </a:rPr>
                <a:t>B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2319"/>
            <p:cNvSpPr/>
            <p:nvPr/>
          </p:nvSpPr>
          <p:spPr>
            <a:xfrm>
              <a:off x="4032360" y="3311640"/>
              <a:ext cx="1009440" cy="1009440"/>
            </a:xfrm>
            <a:prstGeom prst="ellipse">
              <a:avLst/>
            </a:prstGeom>
            <a:solidFill>
              <a:srgbClr val="d60093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800" spc="-1" strike="noStrike">
                  <a:solidFill>
                    <a:srgbClr val="ffcc00"/>
                  </a:solidFill>
                  <a:latin typeface="Comic Sans MS"/>
                </a:rPr>
                <a:t>Systèm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800" spc="-1" strike="noStrike">
                  <a:solidFill>
                    <a:srgbClr val="ffcc00"/>
                  </a:solidFill>
                  <a:latin typeface="Comic Sans MS"/>
                </a:rPr>
                <a:t>Sola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CAC-3B53-433E-A097-581F11A2E5A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CAA2A-6620-423C-808D-789DDDF2E323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33160" y="1842840"/>
            <a:ext cx="3887280" cy="3748320"/>
            <a:chOff x="533160" y="1842840"/>
            <a:chExt cx="3887280" cy="3748320"/>
          </a:xfrm>
        </p:grpSpPr>
        <p:sp>
          <p:nvSpPr>
            <p:cNvPr id="107" name="_s17415"/>
            <p:cNvSpPr/>
            <p:nvPr/>
          </p:nvSpPr>
          <p:spPr>
            <a:xfrm flipH="1" flipV="1">
              <a:off x="1515600" y="3551040"/>
              <a:ext cx="48204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7416"/>
            <p:cNvSpPr/>
            <p:nvPr/>
          </p:nvSpPr>
          <p:spPr>
            <a:xfrm>
              <a:off x="533160" y="2887560"/>
              <a:ext cx="1009440" cy="1009440"/>
            </a:xfrm>
            <a:prstGeom prst="ellipse">
              <a:avLst/>
            </a:prstGeom>
            <a:solidFill>
              <a:srgbClr val="d60093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ffcc00"/>
                  </a:solidFill>
                  <a:latin typeface="Comic Sans MS"/>
                </a:rPr>
                <a:t>Math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7417"/>
            <p:cNvSpPr/>
            <p:nvPr/>
          </p:nvSpPr>
          <p:spPr>
            <a:xfrm flipH="1">
              <a:off x="1883880" y="4268520"/>
              <a:ext cx="296280" cy="40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7418"/>
            <p:cNvSpPr/>
            <p:nvPr/>
          </p:nvSpPr>
          <p:spPr>
            <a:xfrm>
              <a:off x="1080720" y="4579920"/>
              <a:ext cx="1009440" cy="1009440"/>
            </a:xfrm>
            <a:prstGeom prst="ellipse">
              <a:avLst/>
            </a:prstGeom>
            <a:solidFill>
              <a:srgbClr val="d60093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ffcc00"/>
                  </a:solidFill>
                  <a:latin typeface="Comic Sans MS"/>
                </a:rPr>
                <a:t>Lim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7419"/>
            <p:cNvSpPr/>
            <p:nvPr/>
          </p:nvSpPr>
          <p:spPr>
            <a:xfrm>
              <a:off x="2773080" y="4268520"/>
              <a:ext cx="296640" cy="40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7420"/>
            <p:cNvSpPr/>
            <p:nvPr/>
          </p:nvSpPr>
          <p:spPr>
            <a:xfrm>
              <a:off x="2860560" y="4581360"/>
              <a:ext cx="1009080" cy="1009800"/>
            </a:xfrm>
            <a:prstGeom prst="ellipse">
              <a:avLst/>
            </a:prstGeom>
            <a:solidFill>
              <a:srgbClr val="d60093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ffcc00"/>
                  </a:solidFill>
                  <a:latin typeface="Comic Sans MS"/>
                </a:rPr>
                <a:t>For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7421"/>
            <p:cNvSpPr/>
            <p:nvPr/>
          </p:nvSpPr>
          <p:spPr>
            <a:xfrm flipV="1">
              <a:off x="2955600" y="3549600"/>
              <a:ext cx="47916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7422"/>
            <p:cNvSpPr/>
            <p:nvPr/>
          </p:nvSpPr>
          <p:spPr>
            <a:xfrm>
              <a:off x="3411360" y="2889000"/>
              <a:ext cx="1009080" cy="1009800"/>
            </a:xfrm>
            <a:prstGeom prst="ellipse">
              <a:avLst/>
            </a:prstGeom>
            <a:solidFill>
              <a:srgbClr val="d60093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ffcc00"/>
                  </a:solidFill>
                  <a:latin typeface="Comic Sans MS"/>
                </a:rPr>
                <a:t>Ennu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7423"/>
            <p:cNvSpPr/>
            <p:nvPr/>
          </p:nvSpPr>
          <p:spPr>
            <a:xfrm flipV="1">
              <a:off x="2476440" y="285264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7424"/>
            <p:cNvSpPr/>
            <p:nvPr/>
          </p:nvSpPr>
          <p:spPr>
            <a:xfrm>
              <a:off x="1971360" y="1842840"/>
              <a:ext cx="1009440" cy="1009800"/>
            </a:xfrm>
            <a:prstGeom prst="ellipse">
              <a:avLst/>
            </a:prstGeom>
            <a:solidFill>
              <a:srgbClr val="d60093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400" spc="-1" strike="noStrike">
                  <a:solidFill>
                    <a:srgbClr val="ffcc00"/>
                  </a:solidFill>
                  <a:latin typeface="Comic Sans MS"/>
                </a:rPr>
                <a:t>Bu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7425"/>
            <p:cNvSpPr/>
            <p:nvPr/>
          </p:nvSpPr>
          <p:spPr>
            <a:xfrm>
              <a:off x="1971360" y="3357360"/>
              <a:ext cx="1009440" cy="1009800"/>
            </a:xfrm>
            <a:prstGeom prst="ellipse">
              <a:avLst/>
            </a:prstGeom>
            <a:solidFill>
              <a:srgbClr val="d60093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2800" spc="-1" strike="noStrike" u="sng">
                  <a:solidFill>
                    <a:srgbClr val="ffcc00"/>
                  </a:solidFill>
                  <a:uFillTx/>
                  <a:latin typeface="Comic Sans MS"/>
                </a:rPr>
                <a:t>PLANET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000" spc="-1" strike="noStrike" u="sng">
                <a:solidFill>
                  <a:srgbClr val="ffcc00"/>
                </a:solidFill>
                <a:uFillTx/>
                <a:latin typeface="Girls are Weird"/>
              </a:rPr>
              <a:t>Les programmes de bas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645160" y="1622520"/>
            <a:ext cx="1976400" cy="1904760"/>
            <a:chOff x="5645160" y="1622520"/>
            <a:chExt cx="1976400" cy="1904760"/>
          </a:xfrm>
        </p:grpSpPr>
        <p:sp>
          <p:nvSpPr>
            <p:cNvPr id="121" name="_s17455"/>
            <p:cNvSpPr/>
            <p:nvPr/>
          </p:nvSpPr>
          <p:spPr>
            <a:xfrm flipH="1" flipV="1">
              <a:off x="6143400" y="2488680"/>
              <a:ext cx="245880" cy="7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17454"/>
            <p:cNvSpPr/>
            <p:nvPr/>
          </p:nvSpPr>
          <p:spPr>
            <a:xfrm>
              <a:off x="5645160" y="2154240"/>
              <a:ext cx="512640" cy="51264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ffcc00"/>
                  </a:solidFill>
                  <a:latin typeface="Comic Sans MS"/>
                </a:rPr>
                <a:t>Mat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7453"/>
            <p:cNvSpPr/>
            <p:nvPr/>
          </p:nvSpPr>
          <p:spPr>
            <a:xfrm flipH="1">
              <a:off x="6330600" y="2852640"/>
              <a:ext cx="150840" cy="21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7452"/>
            <p:cNvSpPr/>
            <p:nvPr/>
          </p:nvSpPr>
          <p:spPr>
            <a:xfrm>
              <a:off x="5924520" y="3014640"/>
              <a:ext cx="512640" cy="51264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ffcc00"/>
                  </a:solidFill>
                  <a:latin typeface="Comic Sans MS"/>
                </a:rPr>
                <a:t>Limi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7451"/>
            <p:cNvSpPr/>
            <p:nvPr/>
          </p:nvSpPr>
          <p:spPr>
            <a:xfrm>
              <a:off x="6781680" y="2854440"/>
              <a:ext cx="15408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7450"/>
            <p:cNvSpPr/>
            <p:nvPr/>
          </p:nvSpPr>
          <p:spPr>
            <a:xfrm>
              <a:off x="6829560" y="3014640"/>
              <a:ext cx="512640" cy="51264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ffcc00"/>
                  </a:solidFill>
                  <a:latin typeface="Comic Sans MS"/>
                </a:rPr>
                <a:t>Fo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7449"/>
            <p:cNvSpPr/>
            <p:nvPr/>
          </p:nvSpPr>
          <p:spPr>
            <a:xfrm flipV="1">
              <a:off x="6875640" y="2487240"/>
              <a:ext cx="245880" cy="8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7448"/>
            <p:cNvSpPr/>
            <p:nvPr/>
          </p:nvSpPr>
          <p:spPr>
            <a:xfrm>
              <a:off x="7108920" y="2154240"/>
              <a:ext cx="512640" cy="51264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ffcc00"/>
                  </a:solidFill>
                  <a:latin typeface="Comic Sans MS"/>
                </a:rPr>
                <a:t>Ennu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7447"/>
            <p:cNvSpPr/>
            <p:nvPr/>
          </p:nvSpPr>
          <p:spPr>
            <a:xfrm flipV="1">
              <a:off x="6632640" y="2133720"/>
              <a:ext cx="0" cy="25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7446"/>
            <p:cNvSpPr/>
            <p:nvPr/>
          </p:nvSpPr>
          <p:spPr>
            <a:xfrm>
              <a:off x="6377040" y="1622520"/>
              <a:ext cx="512640" cy="51264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ffcc00"/>
                  </a:solidFill>
                  <a:latin typeface="Comic Sans MS"/>
                </a:rPr>
                <a:t>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7445"/>
            <p:cNvSpPr/>
            <p:nvPr/>
          </p:nvSpPr>
          <p:spPr>
            <a:xfrm>
              <a:off x="6377040" y="2392200"/>
              <a:ext cx="512640" cy="5130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 u="sng">
                  <a:solidFill>
                    <a:srgbClr val="ffcc00"/>
                  </a:solidFill>
                  <a:uFillTx/>
                  <a:latin typeface="Comic Sans MS"/>
                </a:rPr>
                <a:t>SATELLI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645160" y="3960720"/>
            <a:ext cx="1976400" cy="1905120"/>
            <a:chOff x="5645160" y="3960720"/>
            <a:chExt cx="1976400" cy="1905120"/>
          </a:xfrm>
        </p:grpSpPr>
        <p:sp>
          <p:nvSpPr>
            <p:cNvPr id="133" name="_s17468"/>
            <p:cNvSpPr/>
            <p:nvPr/>
          </p:nvSpPr>
          <p:spPr>
            <a:xfrm flipH="1" flipV="1">
              <a:off x="6143400" y="4827600"/>
              <a:ext cx="24588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7467"/>
            <p:cNvSpPr/>
            <p:nvPr/>
          </p:nvSpPr>
          <p:spPr>
            <a:xfrm>
              <a:off x="5645160" y="4492800"/>
              <a:ext cx="512640" cy="51264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ffcc00"/>
                  </a:solidFill>
                  <a:latin typeface="Comic Sans MS"/>
                </a:rPr>
                <a:t>Math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7466"/>
            <p:cNvSpPr/>
            <p:nvPr/>
          </p:nvSpPr>
          <p:spPr>
            <a:xfrm flipH="1">
              <a:off x="6330600" y="5191200"/>
              <a:ext cx="150840" cy="210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7465"/>
            <p:cNvSpPr/>
            <p:nvPr/>
          </p:nvSpPr>
          <p:spPr>
            <a:xfrm>
              <a:off x="5924520" y="5353200"/>
              <a:ext cx="512640" cy="51264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ffcc00"/>
                  </a:solidFill>
                  <a:latin typeface="Comic Sans MS"/>
                </a:rPr>
                <a:t>Limi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17464"/>
            <p:cNvSpPr/>
            <p:nvPr/>
          </p:nvSpPr>
          <p:spPr>
            <a:xfrm>
              <a:off x="6781680" y="5192640"/>
              <a:ext cx="154080" cy="20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7463"/>
            <p:cNvSpPr/>
            <p:nvPr/>
          </p:nvSpPr>
          <p:spPr>
            <a:xfrm>
              <a:off x="6829560" y="5353200"/>
              <a:ext cx="512640" cy="51264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ffcc00"/>
                  </a:solidFill>
                  <a:latin typeface="Comic Sans MS"/>
                </a:rPr>
                <a:t>For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17462"/>
            <p:cNvSpPr/>
            <p:nvPr/>
          </p:nvSpPr>
          <p:spPr>
            <a:xfrm flipV="1">
              <a:off x="6875640" y="4826160"/>
              <a:ext cx="245880" cy="8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17461"/>
            <p:cNvSpPr/>
            <p:nvPr/>
          </p:nvSpPr>
          <p:spPr>
            <a:xfrm>
              <a:off x="7108920" y="4492800"/>
              <a:ext cx="512640" cy="51264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ffcc00"/>
                  </a:solidFill>
                  <a:latin typeface="Comic Sans MS"/>
                </a:rPr>
                <a:t>Ennu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7460"/>
            <p:cNvSpPr/>
            <p:nvPr/>
          </p:nvSpPr>
          <p:spPr>
            <a:xfrm flipV="1">
              <a:off x="6632640" y="4471560"/>
              <a:ext cx="0" cy="25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17459"/>
            <p:cNvSpPr/>
            <p:nvPr/>
          </p:nvSpPr>
          <p:spPr>
            <a:xfrm>
              <a:off x="6377040" y="3960720"/>
              <a:ext cx="512640" cy="51300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>
                  <a:solidFill>
                    <a:srgbClr val="ffcc00"/>
                  </a:solidFill>
                  <a:latin typeface="Comic Sans MS"/>
                </a:rPr>
                <a:t>B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7458"/>
            <p:cNvSpPr/>
            <p:nvPr/>
          </p:nvSpPr>
          <p:spPr>
            <a:xfrm>
              <a:off x="6377040" y="4730760"/>
              <a:ext cx="512640" cy="512640"/>
            </a:xfrm>
            <a:prstGeom prst="ellipse">
              <a:avLst/>
            </a:prstGeom>
            <a:solidFill>
              <a:srgbClr val="d60093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800" spc="-1" strike="noStrike" u="sng">
                  <a:solidFill>
                    <a:srgbClr val="ffcc00"/>
                  </a:solidFill>
                  <a:uFillTx/>
                  <a:latin typeface="Comic Sans MS"/>
                </a:rPr>
                <a:t>ELLIPS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DFF6-528A-4DBE-8738-3098EF2FF1F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84680-D826-4CE5-A4CB-816D5CC75F5F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000" spc="-1" strike="noStrike" u="sng">
                <a:solidFill>
                  <a:srgbClr val="ffcc00"/>
                </a:solidFill>
                <a:uFillTx/>
                <a:latin typeface="Girls are Weird"/>
              </a:rPr>
              <a:t>Les programmes secondaires</a:t>
            </a:r>
            <a:endParaRPr b="0" lang="en-US" sz="5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Girls are Weird"/>
              </a:rPr>
              <a:t>Imag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cc00"/>
                </a:solidFill>
                <a:latin typeface="Girls are Weird"/>
              </a:rPr>
              <a:t>Les planèt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cc00"/>
                </a:solidFill>
                <a:latin typeface="Girls are Weird"/>
              </a:rPr>
              <a:t>Le systèmes solaire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cc00"/>
                </a:solidFill>
                <a:latin typeface="Girls are Weird"/>
              </a:rPr>
              <a:t>Terre/Lune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Mercure </a:t>
            </a:r>
            <a:r>
              <a:rPr b="0" lang="fr-CA" sz="2800" spc="-1" strike="noStrike">
                <a:solidFill>
                  <a:srgbClr val="d60093"/>
                </a:solidFill>
                <a:latin typeface="Girls are Weird"/>
              </a:rPr>
              <a:t>          </a:t>
            </a:r>
            <a:r>
              <a:rPr b="0" lang="fr-CA" sz="2800" spc="-1" strike="noStrike">
                <a:solidFill>
                  <a:srgbClr val="d60093"/>
                </a:solidFill>
                <a:latin typeface="Girls are Weird"/>
              </a:rPr>
              <a:t>	</a:t>
            </a: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Venu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Terre</a:t>
            </a:r>
            <a:r>
              <a:rPr b="0" lang="fr-CA" sz="2800" spc="-1" strike="noStrike">
                <a:solidFill>
                  <a:srgbClr val="d60093"/>
                </a:solidFill>
                <a:latin typeface="Girls are Weird"/>
              </a:rPr>
              <a:t>	</a:t>
            </a:r>
            <a:r>
              <a:rPr b="0" lang="fr-CA" sz="2800" spc="-1" strike="noStrike">
                <a:solidFill>
                  <a:srgbClr val="d60093"/>
                </a:solidFill>
                <a:latin typeface="Girls are Weird"/>
              </a:rPr>
              <a:t>	</a:t>
            </a: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 Mar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Jupiter</a:t>
            </a: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	</a:t>
            </a:r>
            <a:r>
              <a:rPr b="0" lang="fr-CA" sz="2800" spc="-1" strike="noStrike">
                <a:solidFill>
                  <a:srgbClr val="d60093"/>
                </a:solidFill>
                <a:latin typeface="Girls are Weird"/>
              </a:rPr>
              <a:t>	</a:t>
            </a: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Saturn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Uranus</a:t>
            </a:r>
            <a:r>
              <a:rPr b="0" lang="fr-CA" sz="2800" spc="-1" strike="noStrike">
                <a:solidFill>
                  <a:srgbClr val="d60093"/>
                </a:solidFill>
                <a:latin typeface="Girls are Weird"/>
              </a:rPr>
              <a:t>	</a:t>
            </a:r>
            <a:r>
              <a:rPr b="0" lang="fr-CA" sz="2800" spc="-1" strike="noStrike">
                <a:solidFill>
                  <a:srgbClr val="d60093"/>
                </a:solidFill>
                <a:latin typeface="Girls are Weird"/>
              </a:rPr>
              <a:t>	</a:t>
            </a: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Neptun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Plut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Soleil1</a:t>
            </a:r>
            <a:r>
              <a:rPr b="0" lang="fr-CA" sz="2800" spc="-1" strike="noStrike">
                <a:solidFill>
                  <a:srgbClr val="d60093"/>
                </a:solidFill>
                <a:latin typeface="Girls are Weird"/>
              </a:rPr>
              <a:t>	</a:t>
            </a:r>
            <a:r>
              <a:rPr b="0" lang="fr-CA" sz="2800" spc="-1" strike="noStrike">
                <a:solidFill>
                  <a:srgbClr val="d60093"/>
                </a:solidFill>
                <a:latin typeface="Girls are Weird"/>
              </a:rPr>
              <a:t>	</a:t>
            </a: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Soleil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Exemple1</a:t>
            </a:r>
            <a:r>
              <a:rPr b="0" lang="fr-CA" sz="2800" spc="-1" strike="noStrike">
                <a:solidFill>
                  <a:srgbClr val="d60093"/>
                </a:solidFill>
                <a:latin typeface="Girls are Weird"/>
              </a:rPr>
              <a:t>	</a:t>
            </a: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Exemple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Système Solair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Terre/Lun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401-D19E-4BD7-98D4-3940146F9A57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6FA8A-B32A-4597-B6DB-6898B4B4A77C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000" spc="-1" strike="noStrike" u="sng">
                <a:solidFill>
                  <a:srgbClr val="ffcc00"/>
                </a:solidFill>
                <a:uFillTx/>
                <a:latin typeface="Girls are Weird"/>
              </a:rPr>
              <a:t>Les programmes secondaires</a:t>
            </a:r>
            <a:endParaRPr b="0" lang="en-US" sz="5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Girls are Weird"/>
              </a:rPr>
              <a:t>Film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cc00"/>
                </a:solidFill>
                <a:latin typeface="Girls are Weird"/>
              </a:rPr>
              <a:t>Les planètes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ffcc00"/>
                </a:solidFill>
                <a:latin typeface="Girls are Weird"/>
              </a:rPr>
              <a:t>Voyage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Mercure </a:t>
            </a:r>
            <a:r>
              <a:rPr b="0" lang="fr-CA" sz="2800" spc="-1" strike="noStrike">
                <a:solidFill>
                  <a:srgbClr val="d60093"/>
                </a:solidFill>
                <a:latin typeface="Girls are Weird"/>
              </a:rPr>
              <a:t>          </a:t>
            </a:r>
            <a:r>
              <a:rPr b="0" lang="fr-CA" sz="2800" spc="-1" strike="noStrike">
                <a:solidFill>
                  <a:srgbClr val="d60093"/>
                </a:solidFill>
                <a:latin typeface="Girls are Weird"/>
              </a:rPr>
              <a:t>	</a:t>
            </a: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Venu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Terre</a:t>
            </a:r>
            <a:r>
              <a:rPr b="0" lang="fr-CA" sz="2800" spc="-1" strike="noStrike">
                <a:solidFill>
                  <a:srgbClr val="d60093"/>
                </a:solidFill>
                <a:latin typeface="Girls are Weird"/>
              </a:rPr>
              <a:t>	</a:t>
            </a:r>
            <a:r>
              <a:rPr b="0" lang="fr-CA" sz="2800" spc="-1" strike="noStrike">
                <a:solidFill>
                  <a:srgbClr val="d60093"/>
                </a:solidFill>
                <a:latin typeface="Girls are Weird"/>
              </a:rPr>
              <a:t>	</a:t>
            </a: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 Mars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Jupiter</a:t>
            </a: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	</a:t>
            </a:r>
            <a:r>
              <a:rPr b="0" lang="fr-CA" sz="2800" spc="-1" strike="noStrike">
                <a:solidFill>
                  <a:srgbClr val="d60093"/>
                </a:solidFill>
                <a:latin typeface="Girls are Weird"/>
              </a:rPr>
              <a:t>	</a:t>
            </a: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Saturn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Uranus</a:t>
            </a:r>
            <a:r>
              <a:rPr b="0" lang="fr-CA" sz="2800" spc="-1" strike="noStrike">
                <a:solidFill>
                  <a:srgbClr val="d60093"/>
                </a:solidFill>
                <a:latin typeface="Girls are Weird"/>
              </a:rPr>
              <a:t>	</a:t>
            </a:r>
            <a:r>
              <a:rPr b="0" lang="fr-CA" sz="2800" spc="-1" strike="noStrike">
                <a:solidFill>
                  <a:srgbClr val="d60093"/>
                </a:solidFill>
                <a:latin typeface="Girls are Weird"/>
              </a:rPr>
              <a:t>	</a:t>
            </a: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Neptun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Plut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Voyage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AFF7-4499-45B8-AC10-738EEC46F8C1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CDCC2-7F2C-4A9C-B7E9-C7D41475D4B4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000" spc="-1" strike="noStrike" u="sng">
                <a:solidFill>
                  <a:srgbClr val="ffcc00"/>
                </a:solidFill>
                <a:uFillTx/>
                <a:latin typeface="Girls are Weird"/>
              </a:rPr>
              <a:t>L’utilisation en classe</a:t>
            </a:r>
            <a:endParaRPr b="0" lang="en-US" sz="5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Girls are Weird"/>
              </a:rPr>
              <a:t>Exemples d’activités: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Girls are Weird"/>
              </a:rPr>
              <a:t>Échelle et évaluation des grandeurs.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ffcc00"/>
                </a:solidFill>
                <a:uFillTx/>
                <a:latin typeface="Girls are Weird"/>
              </a:rPr>
              <a:t>Activité 1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c00"/>
                </a:solidFill>
                <a:latin typeface="Girls are Weird"/>
              </a:rPr>
              <a:t>Niveau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c00"/>
                </a:solidFill>
                <a:latin typeface="Girls are Weird"/>
              </a:rPr>
              <a:t>Matériel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c00"/>
                </a:solidFill>
                <a:latin typeface="Girls are Weird"/>
              </a:rPr>
              <a:t>Justificati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c00"/>
                </a:solidFill>
                <a:latin typeface="Girls are Weird"/>
              </a:rPr>
              <a:t>Déroulement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d60093"/>
                </a:solidFill>
                <a:uFillTx/>
                <a:latin typeface="Girls are Weird"/>
              </a:rPr>
              <a:t>Comparaison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F2C7-1E91-4644-B9E5-C12C7C5136AE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B718E-8321-4DAC-BCD4-4F2959640D7D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5000" spc="-1" strike="noStrike" u="sng">
                <a:solidFill>
                  <a:srgbClr val="ffcc00"/>
                </a:solidFill>
                <a:uFillTx/>
                <a:latin typeface="Girls are Weird"/>
              </a:rPr>
              <a:t>L’utilisation en class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Girls are Weird"/>
              </a:rPr>
              <a:t>Exemples d’activité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cc00"/>
                </a:solidFill>
                <a:latin typeface="Girls are Weird"/>
              </a:rPr>
              <a:t>Échelle et évaluation des grande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ffcc00"/>
                </a:solidFill>
                <a:uFillTx/>
                <a:latin typeface="Girls are Weird"/>
              </a:rPr>
              <a:t>Activité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c00"/>
                </a:solidFill>
                <a:latin typeface="Girls are Weird"/>
              </a:rPr>
              <a:t>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c00"/>
                </a:solidFill>
                <a:latin typeface="Girls are Weird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c00"/>
                </a:solidFill>
                <a:latin typeface="Girls are Weird"/>
              </a:rPr>
              <a:t>Jus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cc00"/>
                </a:solidFill>
                <a:latin typeface="Girls are Weird"/>
              </a:rPr>
              <a:t>Dérou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from www.brainybetty.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C1D-5C24-4418-B7FD-2BB6457C3A1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5DBF5-18C4-4A86-9F2D-396FE94E803E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8:17:43Z</dcterms:created>
  <dc:creator>bonjou</dc:creator>
  <dc:description/>
  <dc:language>en-US</dc:language>
  <cp:lastModifiedBy>bonjou</cp:lastModifiedBy>
  <dcterms:modified xsi:type="dcterms:W3CDTF">2005-04-19T18:20:58Z</dcterms:modified>
  <cp:revision>9</cp:revision>
  <dc:subject/>
  <dc:title>Système Solaire avec PovRay </dc:title>
</cp:coreProperties>
</file>