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51D-B6FC-44D8-A51D-87F1A553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1A9-A17D-43A1-BCD3-87352F8B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7EE-BBC7-4031-8793-604D29B7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E3B-9DFC-4B59-B581-0B792915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BB0-5FC5-4A4A-8DB9-2F47EB9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1AF-9769-4E51-9AB2-A40D0F5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E05-A833-4E40-B5B9-4F073B5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426-6286-48C9-9BE5-E8913BF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51E-56C1-426B-9A78-CB86217F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095-659C-42C8-8D81-E4DFD77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459-80B5-49D3-B3E4-A10AB45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98D-BED5-438A-A90B-2F93CA8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6639-A359-4F30-96BC-B9674BD1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Projetversionfinale.xl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S02064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0" y="1752480"/>
            <a:ext cx="411480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Traceur de Courbes Exc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ncepteu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athieu Lajeun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hilippe Sabou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ans%20tit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4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380880"/>
            <a:ext cx="2666880" cy="1905120"/>
          </a:xfrm>
          <a:prstGeom prst="wedgeRectCallout">
            <a:avLst>
              <a:gd name="adj1" fmla="val -84462"/>
              <a:gd name="adj2" fmla="val 113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ma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’EST FINIIIIIiiiii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étences Travaill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rquoi ce proj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étence inform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étence didac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0028_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0574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du Trac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é 1: Courbes myst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é 2: Où suis-j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éli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6790_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181296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du Trac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4972_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762360" cy="335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95680" y="548640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évision des ventes : Traceur de Courbes Excel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é 1: Courbes Myst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01832_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0384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é 2: Où suis-j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E01682_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46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ques lim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variables ne peuvent prendre la valeur de nombres irratio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ne peut entrer que des fonctions contin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programme calcule toutes les tables de valeurs à chaque mise à jou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ne génère que 2 types de fonction aléatoirement. (Activité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S00580_" descr=""/>
          <p:cNvPicPr/>
          <p:nvPr/>
        </p:nvPicPr>
        <p:blipFill>
          <a:blip r:embed="rId2"/>
          <a:stretch/>
        </p:blipFill>
        <p:spPr>
          <a:xfrm>
            <a:off x="6553080" y="533520"/>
            <a:ext cx="1677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S00561_" descr=""/>
          <p:cNvPicPr/>
          <p:nvPr/>
        </p:nvPicPr>
        <p:blipFill>
          <a:blip r:embed="rId1"/>
          <a:stretch/>
        </p:blipFill>
        <p:spPr>
          <a:xfrm>
            <a:off x="685800" y="576360"/>
            <a:ext cx="7086600" cy="520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mélio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nérer aléatoirement d’autres types de fon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sation plus conviviale du logic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culer seulement les fonctions à affiche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c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ation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666880"/>
            <a:ext cx="662940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i l'école ça rendait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hommes libres et égaux,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'gouvernement décid'rait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Qu'c'est pas bon pour les marmo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Renaud Séchan / Julien Clerc </a:t>
            </a:r>
            <a:br>
              <a:rPr sz="1400"/>
            </a:b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Extrait de l'album "À La Belle De Ma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6:23:03Z</dcterms:created>
  <dc:creator>installation</dc:creator>
  <dc:description/>
  <dc:language>en-US</dc:language>
  <cp:lastModifiedBy>installation</cp:lastModifiedBy>
  <dcterms:modified xsi:type="dcterms:W3CDTF">2005-05-06T21:00:26Z</dcterms:modified>
  <cp:revision>18</cp:revision>
  <dc:subject/>
  <dc:title>Le Traceur de Courbes ExcelTM</dc:title>
</cp:coreProperties>
</file>