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FCB-A7EE-4700-A20E-D35A9347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617-797D-4038-8122-C5370AA7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15A-DE76-43A1-9830-97494B2F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348-686C-4820-BEA9-BCD8152E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C8E5-7D79-421E-9F19-CABBD92A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0799-7B76-4B97-B2F0-488C52C3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E93F-1413-4C44-866C-262E7AB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1A13-1BDB-4E04-B77D-EACF4DE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4DCF-9279-4C62-8EB4-93DECB59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A9C4-142E-4A18-A1A1-A44B5BB2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5114-A889-4C3F-9D99-024B030F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C3B-7EBF-40C3-AA65-D7981FD1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06B7-4D6D-4447-B61B-90D9DDD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7A2-8FA3-4025-B011-19D5A5A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4E96-4C35-448C-A503-78B1FF4B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30C9-E430-4454-B9C6-2101D875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980F-9C88-4CC3-AD99-C271F622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D62-1C26-44C5-A5BA-291C71EA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48C-8C11-4EFA-B7E3-8CCD3ECA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C4D-A568-400C-AF2E-52D9BA8C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A65-6249-42D1-9A87-4BC73F2C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581-3A39-4AF2-90DD-F696930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B3F-8504-49D8-B6A5-C3E919CE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FA8-1D9D-42E9-9C4D-919409B5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35A-E3CF-417F-BB40-E64E87E465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CF4-CF19-486C-94C8-C054CDA71C89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38188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 Maple de fer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tude de fonctions polynom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degré 0 à 3 dans Ma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83818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ans un Maplet de velours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ifficultés rencontré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Maplet Builder est encore frag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Il ressemble en réalité à une version </a:t>
            </a:r>
            <a:r>
              <a:rPr b="0" i="1" lang="fr-FR" sz="23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plus qu’à un programme fini. </a:t>
            </a:r>
            <a:r>
              <a:rPr b="0" lang="fr-FR" sz="2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emples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fonction « Run » pourtant très pratique n’est pas entièrement intégré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l n’y a pas de « Annuler » (le fameux Ctrl+Z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 débogage se fait entièrement à partir du code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fficultés inhérentes à travailler avec un langage nouveau et inconnu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fficultés à bien « joindre » les procédures de la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workshee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le Ma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ême lorsqu’on veut le rendre plus convivial, Maple affiche ses limit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Utilisation d’un bouton par fen</a:t>
            </a:r>
            <a:r>
              <a:rPr b="0" lang="fr-FR" sz="2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être (Target=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 supporte par l’affichage de matrices dans les modules MathM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taines options doivent être découvertes en analysant le code (comme les background ou certains fonts)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support a été excellent de la part de la compagnie MapleSoft Inc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existe des forums de discussion fréquentés par des usagers chevronnés et enclins à apporter leur a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quoi ne pas avoir utiliser toute la puissance de Maple ? (par exemple, la fonction solve 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Aucun défi au niveau mathématique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Code proche de la démarche employée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Code facilement traduisible dans d’autres langages de programmation (à condition qu’ils supportent les complexes)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Par exemple, la traduction du code pour la calculatrice Ti-83 est presque direc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le de démocrati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n utilisation est en effet de plus en plus fac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n interface est de plus en plus convivia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x prohibitif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ponibilité dans les école secondaire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érience fort agré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uveau lang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Êtes-vous convaincus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velle version attendu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tude de fonctions polynomiales de degré 3 ou m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age et environnement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aterloo Maple 1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f : rendre l’environnement Maple plus conv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9880" y="2044800"/>
            <a:ext cx="51055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ourquoi Maple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 puissance et sa polyvalenc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traçage des cour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Puissant, joli et préci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fi d’apprendre un langage qui m’était essentiellement inconnu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frir à tous la chance d’aborder une nouvelle perspective de Maple avec les Ma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267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 program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9436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n peu d’histoire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cipione Del Ferro (1465 - 1526) découvre comment résoudre des poly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ômes du type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icola Fontana, dit Tartaglia (1500? - 1557) trouve comment résoudre le poly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ôme plus général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l confie sa solution à Girolamo Cardano (1501-1576) qui la publie dans so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s Mag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00000" y="2421000"/>
                <a:ext cx="2828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00000" y="4221000"/>
                <a:ext cx="5291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essieurs les mathématicie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4360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ta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43828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mb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01636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2944800" cy="358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87640" y="3068640"/>
            <a:ext cx="1805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ombres complex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ème rencontré : les nombres complex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les admets de façon temporaire, parce qu’ils mènent vers une solution réelle, mais il faut attendre les travaux de Rafael Bombelli (1526-1573) pour systématiser leur utilis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ques bons souveni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Times New Roman"/>
              </a:rPr>
              <a:t>Le r</a:t>
            </a:r>
            <a:r>
              <a:rPr b="0" lang="fr-FR" sz="3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ôle du discrimina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é deu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positif 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ux zéros réel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nul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ux zéros réels confondu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négatif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mbres complex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ux zéros complex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é tro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positif 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n seul zéro rée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nul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ux zéros réel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négatif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mbres complex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ois zéros ré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égies employé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terminer d’abord dans quelle situation on se trouve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À l’aide de conditionnelles, déterminer ensuite quelle fonction du programme utilis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faut une compréhension impeccable du comportement des fonctions étudi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9:55:20Z</dcterms:created>
  <dc:creator>LAMISS UQAM</dc:creator>
  <dc:description/>
  <dc:language>en-US</dc:language>
  <cp:lastModifiedBy>Simon Laurent</cp:lastModifiedBy>
  <dcterms:modified xsi:type="dcterms:W3CDTF">2006-04-11T02:30:54Z</dcterms:modified>
  <cp:revision>12</cp:revision>
  <dc:subject/>
  <dc:title>Un Maple de fer  … dans un Maplet de velours !</dc:title>
</cp:coreProperties>
</file>