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ct" ContentType="image/x-pict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2DB4-BEF4-4B91-87E1-EEFE395E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367A-FF23-4E67-9F4F-31DA7D7F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85E7-F279-4F40-85A3-CCF905E4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32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420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32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420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2352-344A-4F8F-A624-82983DFF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93B1-0D50-4052-A3F4-50A42440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6805-5C50-4F23-9C27-A4793265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5025-5A29-47D2-BCC6-9572975E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8189-FD35-49B5-9586-39417E5E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743B-D22F-4E1D-B6C7-802DD147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95120" y="6094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D061-60C3-4998-944A-ACF53952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C0D4-15F2-4C19-9B8A-8815028B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8DA-50E8-41D9-9EB6-F72B07A4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8E4B-9422-4707-BE1B-86E846E1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698F-6F01-4740-80DD-D0CA2B53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F0D9-F571-4F50-94C5-3A257A9C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4E95-4C10-4B7F-802D-28482D93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32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420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26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32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420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0FA3-D006-4416-AF35-6BA72F71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3D8C-C594-4F65-9C32-DD9BEE6B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1305-CF1A-449B-A898-5786E06C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1298-5816-44FF-A4C7-B5804AB4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95120" y="6094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95C6-BAF3-4A37-A022-FFF28DB5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DCE9-1F80-42B5-AB2C-F697B87D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F2C9-E7FF-43A6-BC81-E5FADFC1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4787-7DA2-4DB9-A27A-D622CEC0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-22392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568160" indent="-22392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16000" indent="-22392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8490-5206-46BC-BF79-9E33A9F5AB3E}" type="slidenum">
              <a:rPr b="0" lang="fr-FR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F231-8157-46E9-8FA3-14A78D1286AA}" type="slidenum">
              <a:rPr b="0" lang="de-DE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5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5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Films%20et%20images/Projet%20Pov/c%99ne%20inclin%8E.pov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Document%20de%20l&#1358;l%8Fve.doc" TargetMode="External"/><Relationship Id="rId3" Type="http://schemas.openxmlformats.org/officeDocument/2006/relationships/hyperlink" Target="file:///documentprof.doc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8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rebuchet MS"/>
              </a:rPr>
              <a:t>Le volume de la sphère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828800" y="38098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lon le principe de Cavalier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le principe des indivisibles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543800" y="350532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Relation entre les trois solides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457200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rebuchet MS"/>
              </a:rPr>
              <a:t>Volume du cylindre = volume de la demi-sphère + volume du côn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rebuchet MS"/>
              </a:rPr>
              <a:t>À la fin de l’activité l’enseignant peut montrer ce film pour illustrer aux élèves la relation qu’ils viennent de découvrir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7" name="NO NAME:Présentation-18avril:ARCHIMÈDE+COUPE.mov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128080" cy="3048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60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rebuchet MS"/>
              </a:rPr>
              <a:t>Relation entre les trois solides (bis)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49525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94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olume de la demi-sphère = volume du cylindre - volume du côn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0" name="NO NAME:Présentation-18avril:Cavalieri-Archimède.mov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8127720" cy="3048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600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3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Difficultés rencontrée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cliner un cône dans POV-R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rebuchet MS"/>
                <a:hlinkClick r:id="rId2"/>
              </a:rPr>
              <a:t>programma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mplifier la démonstr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Avantages et inconvénient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36957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éthode simple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éthode visuel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91040" y="2133720"/>
            <a:ext cx="36957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esoin d’un ordinateur pour montrer les film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8440" y="2362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Questions, commentaires 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Pourquoi avoir choisi POV-Ray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rebuchet MS"/>
              </a:rPr>
              <a:t>Côté visuel nous permettant de voir rapidement le résultat de la programmation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Pourquoi le principe de Cavalieri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rebuchet MS"/>
              </a:rPr>
              <a:t>Rarement énoncé au secondaire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rebuchet MS"/>
              </a:rPr>
              <a:t>Permet de mieux comprendre le volume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Activité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Activité destinée à des élèves de secondaire 3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91600" indent="-29160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Le principe de Cavalieri aura été énoncé en classe selon la méthode de M. Claude Janvier. (Mais où sont passées les formules?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91600" indent="-29160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Les volumes du cylindre et du cône auront déjà été vu en classe.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91600" indent="-29160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Le but de l’activité est d’amener les élèves à raisonner sur le volume de la sphère, celui-ci étant souvent mal compris des élève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Principe de Cavalieri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Prenons deux solides pris entre deux plans parallèles, on coupe les deux solides avec un plan sécant, parallèle à la base. Si les deux coupes ont la même aire, alors on peut dire que les deux solides ont le même volume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4880" y="3044880"/>
            <a:ext cx="10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rebuchet MS"/>
              </a:rPr>
              <a:t>Cône incliné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91040" y="2133720"/>
            <a:ext cx="36957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L’activité débutera par l’illustration du principe de Cavalieri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À partir de deux cônes identiques, nous inclinons un des deux cône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6" name="NO NAME:Présentation-18avril:cône incliné.mov" descr=""/>
          <p:cNvPicPr/>
          <p:nvPr/>
        </p:nvPicPr>
        <p:blipFill>
          <a:blip r:embed="rId2"/>
          <a:stretch/>
        </p:blipFill>
        <p:spPr>
          <a:xfrm>
            <a:off x="958680" y="2590920"/>
            <a:ext cx="40640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2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rebuchet MS"/>
              </a:rPr>
              <a:t>Coupes d’un cône droit et d’un cône incliné.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472428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rebuchet MS"/>
              </a:rPr>
              <a:t>Chacune des coupes, parallèles au plan de base, ont toujours la même aire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rebuchet MS"/>
              </a:rPr>
              <a:t>Avec le principe de Cavalieri, on en déduit que ces deux cônes ont le même volume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9" name="NO NAME:Présentation-18avril:CONE+COUPE.mov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128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0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4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5790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Prism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54860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Le même principe illustré avec un prism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2" name="NO NAME:Présentation-18avril:PRISME-.mov" descr=""/>
          <p:cNvPicPr/>
          <p:nvPr/>
        </p:nvPicPr>
        <p:blipFill>
          <a:blip r:embed="rId2"/>
          <a:stretch/>
        </p:blipFill>
        <p:spPr>
          <a:xfrm>
            <a:off x="2209680" y="1905120"/>
            <a:ext cx="46958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18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9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Découvrir le volum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de la sphèr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rebuchet MS"/>
                <a:hlinkClick r:id="rId2"/>
              </a:rPr>
              <a:t>Document de l’élèv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rebuchet MS"/>
                <a:hlinkClick r:id="rId3"/>
              </a:rPr>
              <a:t>Document de l’enseigna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4:00:43Z</dcterms:created>
  <dc:creator>LAMISS UQAM</dc:creator>
  <dc:description/>
  <dc:language>en-US</dc:language>
  <cp:lastModifiedBy>LAMISS UQAM</cp:lastModifiedBy>
  <cp:lastPrinted>2006-04-18T13:30:00Z</cp:lastPrinted>
  <dcterms:modified xsi:type="dcterms:W3CDTF">2006-04-18T15:18:56Z</dcterms:modified>
  <cp:revision>36</cp:revision>
  <dc:subject/>
  <dc:title>Le volume de la sphère </dc:title>
</cp:coreProperties>
</file>