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298C-E84A-4A97-B494-128572A8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2320" y="274464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601-960D-482C-958E-189F708E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3960" y="182880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2320" y="274464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3960" y="274464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AF0-15FC-4CF3-9A96-6F8C87AA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1120" y="182880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182880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2320" y="274464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1120" y="274464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274464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954-CFDB-4573-BE83-09E9F3C7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58D1-B992-4313-B8F2-B2F93CB5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01AA-D345-4F70-A218-FBB04333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7B73-EF9B-452E-A9BF-95F10D63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3960" y="182880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CDB7-0F7D-49EA-BE33-8F73C572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AB75-6EC8-42FF-8D97-76AC172E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3809880"/>
            <a:ext cx="75438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320C-03A9-45AF-ADA1-5274B61B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3960" y="182880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2320" y="274464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D36A-0D6B-4DD1-A2E7-DF5E0D72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2320" y="182880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6C1-EFAC-4D1C-9ED5-2C24C6E9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3960" y="182880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3960" y="274464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7FEF-AF77-4473-BE86-411701EF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3960" y="182880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2320" y="274464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BE2F-CF3E-40F8-BBF1-801D1EFD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2320" y="274464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BB5E-D097-41D3-8695-BF2549F4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3960" y="182880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2320" y="274464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3960" y="274464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C5CE-C66B-4AB1-A7A4-F1E42E4A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1120" y="182880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920" y="182880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2320" y="274464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1120" y="274464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920" y="2744640"/>
            <a:ext cx="17413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1C40-2F03-4CA8-9B22-6A0C2DBA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540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672-5D12-4033-A71E-D03904E3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3960" y="182880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B42-A7AF-4AD1-ABCC-F29044A5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113-F46B-4FF4-9F88-3FEB0DA4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3809880"/>
            <a:ext cx="75438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260-76C1-48B1-AB70-ADA3B17D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3960" y="182880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2320" y="274464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825-4B04-48DC-8AAD-85D539A3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26391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3960" y="182880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3960" y="274464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202-1619-430B-88AB-95B75C7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2320" y="182880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3960" y="1828800"/>
            <a:ext cx="26391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2320" y="2744640"/>
            <a:ext cx="5408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7B5-985E-47E4-AD81-E70BB7CA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129492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2666520"/>
            <a:ext cx="6553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0EEF-6606-452D-B14B-01D4DB60A17E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327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C11A-6376-4E4A-950D-9093570AE48D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380988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800" spc="-1" strike="noStrike">
                <a:solidFill>
                  <a:srgbClr val="000000"/>
                </a:solidFill>
                <a:latin typeface="Arial"/>
              </a:rPr>
              <a:t>Pólya revisit</a:t>
            </a:r>
            <a:r>
              <a:rPr b="1" i="1" lang="fr-CA" sz="4800" spc="-1" strike="noStrike">
                <a:solidFill>
                  <a:srgbClr val="000000"/>
                </a:solidFill>
                <a:latin typeface="Lucida Grande"/>
              </a:rPr>
              <a:t>é</a:t>
            </a:r>
            <a:r>
              <a:rPr b="1" i="1" lang="fr-CA" sz="4800" spc="-1" strike="noStrike">
                <a:solidFill>
                  <a:srgbClr val="000000"/>
                </a:solidFill>
                <a:latin typeface="Arial"/>
              </a:rPr>
              <a:t> avec des outils technologiqu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14600" y="1752120"/>
            <a:ext cx="4952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George Pólya est surtout connu pour ses 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ègl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es heuristiques relatives </a:t>
            </a:r>
            <a:r>
              <a:rPr b="0" lang="fr-CA" sz="1600" spc="-1" strike="noStrike">
                <a:solidFill>
                  <a:srgbClr val="000000"/>
                </a:solidFill>
                <a:latin typeface="Lucida Grande"/>
              </a:rPr>
              <a:t>à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 la r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lution de prob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ème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s. Mais c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ta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it aussi un pé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gogue exceptionnel. Dans cet atelier, nous allons essayer (bien modestement) d’imaginer ce qu’aurait pu faire Pólya s’il avait dispos</a:t>
            </a:r>
            <a:r>
              <a:rPr b="0" lang="fr-CA" sz="1600" spc="-1" strike="noStrike">
                <a:solidFill>
                  <a:srgbClr val="000000"/>
                </a:solidFill>
                <a:latin typeface="Lucida Grande"/>
              </a:rPr>
              <a:t>é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 des outils technologiques actu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12:43:25Z</dcterms:created>
  <dc:creator>André Boileau</dc:creator>
  <dc:description/>
  <dc:language>en-US</dc:language>
  <cp:lastModifiedBy>André Boileau</cp:lastModifiedBy>
  <dcterms:modified xsi:type="dcterms:W3CDTF">2010-06-01T19:44:08Z</dcterms:modified>
  <cp:revision>4</cp:revision>
  <dc:subject/>
  <dc:title>Polya revisité avec des outils technologiques</dc:title>
</cp:coreProperties>
</file>